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Lst>
  <p:sldSz cx="9144000" cy="6858000"/>
  <p:notesSz cx="9237663" cy="6854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B26AD-39F1-427D-A2C2-B05F8B9B8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F85F2-EF2A-40C6-B836-617CB37F6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60B4BDF-CFA0-446C-819C-6A8C2ADEA5D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391C32E-4543-45B8-ADFC-A1A0E640B46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3E472DD-8E9D-436E-963C-976862700DA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D467690-EC54-426B-B4FD-34B12ADF049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0521013-1656-4C88-AD7D-B728B0BEA1F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C1EC9E4-137E-48A2-B3F3-4363467C0A0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DD7A2D1-5B21-4447-94E3-563C126CAE1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B1289CD-A2C6-45BF-A5B8-07E42C3AEFF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B6D6796-CA53-4D13-99E5-FACD352E1BD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85BBC54-1A34-4A46-8908-5D89DAA939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9741F-63EA-4B72-8870-0E10E70E4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399AD06-9530-4A33-86AD-738FDBC629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8D68A5F-EABE-4CD1-87FC-11EF65CE0E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27C3903-91C9-40C4-A427-E9EE8C7BBF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93A1DF3-C064-4617-ADAB-675FC4EEC5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BB1171D-EB68-4385-B382-6B26D7F1D6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903C113-1C95-4F15-98FC-DBBA3BAC06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9B4E18E-27E7-4D2E-8038-524C31A730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3006745-7AB4-4682-96E0-8638FAB17E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C22807C-2607-4749-A1E0-B934C8B5DF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C2C6B12-B3AE-4E73-B5A7-E59AEE06CE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86DDB-3CE9-41BF-9E46-1AC8B8388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31A010D-D977-42BB-B0B0-8DF2A84E66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30ABA5E-AFBD-478D-99FE-8F28463BC14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FBFF87-70CE-43EE-9E54-E9B9586DEA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FF85A2-9805-48EB-9BCE-EE4ABA4CCC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668CA0-0C07-4615-94AD-7409D39982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FF5AB7-7C29-4179-B8DB-A35B903661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4CA6D6-0B08-4950-87FB-37CAF80E01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356E67-18EF-4E8F-9719-665A00422D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AA043E-DB24-4E2B-A1A3-517FD4FC95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950EE2-052C-404B-848F-C4512D13B2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3D748-DA49-415C-B2FF-AC7F0638C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9775D9-2852-4779-9871-38C5B0CF12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AB01B1-C3DE-41A8-A8A1-00AC28325B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887E503-EAA7-49D0-B481-2D38A0E0698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7DCB7F4-8339-4D9D-BDC7-E2DD8A3B64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415075B-1ED6-4AC6-81E3-58134342AA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4EB99EC-B157-4867-BB47-2FD147B82C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6A92FAC-DE99-4289-A655-CD4A2BFB4D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19AA9AC-B989-4869-9E32-1E3ED58E1B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3765EB3-C7F0-49E9-88E8-DAA3B5422E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828DFE4-0F68-434B-B817-A4E04A4348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D9578-4170-49E4-994C-08FF7685B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3E67E95-613C-4846-BF7F-F3FD913E72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21EBF5E-53DF-4012-918C-64EF8E1EE6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27DF886-3F24-4AEA-9490-AE42B1404E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A4A97CC-2CF6-4842-A5A4-8114E4B23B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75E3F99-AD4E-4ADC-BBFC-8B157959D9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15316-8A0E-4594-9F15-FA249DAD8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20F0D-C650-44B2-9F9A-E6C3B239F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0F923-4EC3-43F0-91D2-49FD2D152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7C1D3-C5DA-4603-8473-8245D719C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9E052-8FC8-4D84-8B41-F62D42894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B8C2A-FFD3-4916-9582-EB249A589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4935C-71C8-49A6-A96F-40EC2F9B5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6AFEA-2BB6-4B92-B642-861F1CFFD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BE991-C1D8-4339-BFE9-341D66495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E5CA2E-C9F4-4AFF-997E-A9E394F50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EF695-5345-4DC9-9E61-DA063112BD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7B43E0-BE6B-4AB0-B952-2EC44A4D9C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B79E89-ECF6-4897-BABA-4CCCCAB42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43FAA7-91F6-4ED2-AAAC-7C515E2277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B6CA39-D33A-442B-B1C1-CC374AF738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BDC055-E567-41C6-A606-0529AC58B7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6EBF8-6500-4065-A1EF-1FCF12762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A83C87-0090-4DE8-B3AD-0388EDD380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A9801-34D3-49FC-9822-E73FF5AA2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44FFD-FA98-4682-992C-E602AA0374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3E0F35-0BCD-4018-BA70-68C8ACB7B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D8D22F-E3A4-42A7-AF77-4B1BEEC4F7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54712A-E089-4269-9BCC-775D296B3A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F48D76-740B-4977-BA8B-8538D7D26E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BCC6322-9825-4556-A5F1-E3C03DA3A18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03B7E9D-45BC-4A07-A085-CFFE800943C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64989A5-3169-439D-B0C2-B12A11ABF3E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95E37-3FAC-4573-AF20-97781FB6C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D52E944-96CE-4916-BDD4-1250204B3AC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ABF8A84-494F-4316-8D06-E436DD9C4E9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C4A68A5-D1CD-4E9A-A519-7AF12A93A24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DA8DD17-F6FC-4AD9-80BD-58BCDDCAB11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048AF95-D8F1-4CFC-B0EF-352DD780EEE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079AA1A-D161-4A8D-BA09-91E8A74534C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41CE8C6-1C6F-4E37-8F83-80DE89FD5C1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0B0F013A-2B49-4A40-A6AF-85C7F7D69AF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7F9EC80-0D82-4F8D-8483-DA7940E0596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4A6008-05CA-48A4-843E-A2ABA268D9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3D693-23EE-4959-885F-3F8B57B70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C1D15A-D886-42E6-850B-5C97662592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78F5FF-DC00-4A9C-A305-457B9CF8CF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0ADFEB-D941-4EFA-B1BD-EB89193CA7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5557AF-D1BF-4C3A-81A9-2A624D0256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929AE5-F99C-4EA2-B8C7-C07E75883E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15F5EF-1533-49C4-90CF-4974CF6BEB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3FF2FB-E5FB-49E4-B2F8-2C232A0AF7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928E65-9BBA-4D6D-9CE7-CB73C83B8F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FEE25F-AFCB-44A8-8621-22A2C145AD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46538B-6C41-4EEC-BB3E-BF331E58A9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419C1-E3DB-4871-A36C-832DE5DBB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5E8428-46A7-4FF4-A8C4-4FECBB6268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BB655A-D872-41BA-ADB8-888EC4569D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00773A-AF42-4EEA-BD49-8160028D5A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3313FB-8C8D-4C0A-9C9D-C59D3631CF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3CA2F5-EA38-4C53-83EB-57D9E43CEA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3BD81C-6B3E-4639-BDC9-79D39E922F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A89619-84D2-487B-8B87-0215DC78E2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C620FD-F9B1-4123-ACB9-0CDD3695D2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E7B21C-5C53-4E0C-8844-1E6328BEE2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158343-80FF-42E5-A5CB-F4260439FD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6F99F-92CC-4B01-9801-5DC2E7F5F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24F0B2-6848-4B94-B379-D72519F1B8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C91174-FDE6-47C4-8786-34FDCA7FCA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FB8B44-D6E1-42AA-9EE2-281FC1A976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61CFFB-9F6D-4192-9D69-869600CE8F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3E1C05-9DBD-4A8F-94FD-F10B6D43C1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4BA09A-D554-4427-9569-FD155F6206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AF7BA3-E5D4-4095-926F-A141ACB50C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0FEE93-7310-42E0-9AAD-44AAF3E859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9E47A0-160D-494E-8C0E-3FF2D0C708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0BCB6C-D815-44E4-AAEE-63BA714A12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723F5-90B6-4E0F-B479-E89F5E0CE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D9255F-129F-47B8-95E4-AD9EA85564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215412-8855-45C4-84AD-3EB3360F23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E2E41E-C04E-4B58-BBB8-7D385035B5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5B00B4-F71E-464C-BDC9-F86C40B8E7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517189-31FD-48C7-8F07-CBF4167DC6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81202E-2685-4D1D-BFB0-A55961D7FC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CDF760-56E0-44E1-AF8E-E108DDB52C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0D1496-0076-4CB8-9C70-CE93A3C419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19E026-4131-4839-A52E-964CED5EDD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05F559-A2A0-49CB-98FB-C9CF727424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E39AB-6509-41A1-8247-887725A63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07EF61-8EB1-47C8-87B7-0EF477FCC0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2A019-70C0-473D-AEE4-5398EA4240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11A626-3F89-4AAB-895B-B1F3D065B4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6A1234-63E2-4414-BB84-4862396CB7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49090E-1F19-442F-B37A-DDDD41EED9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74FFD9-F697-47AE-A68A-428E4EEC0D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001F61-F53F-4577-B440-43734B69A9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E885A69-B88F-4D4D-9069-03F233B9E20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12C76D2-FC8D-4911-B1B6-133417CE972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7614BCB-2D78-4EC4-848F-06B24E7910F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C81A-39C9-41BF-9603-E6B1E6F32FE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AF31-E078-4C76-90B6-7E6A90B91F0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7D14-C35A-40CD-96C5-03545E0B7CB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5E83-42B0-422A-9FDE-017BD082EB6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6383-CFA2-4D5E-92B1-53471827AC3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27CB0-EE5E-4A32-B120-76747C1C6DE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744B-C7D9-4763-BB85-1B1C69791AC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AE2D-AEAB-40C3-B685-14D79A397AF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2ABA-4803-4981-8259-1EE0A1779E3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504A-0712-4956-8902-4C9763D3C70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BADF-5FA3-42B9-810B-FB8E9FF2DDF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4284-1E52-4315-8C53-0A6A4B5421C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hyperlink" Target="http://www.wikihow.com/Image:Be-a-Professional-Teacher-Step-1.jpg" TargetMode="External"/><Relationship Id="rId2" Type="http://schemas.openxmlformats.org/officeDocument/2006/relationships/image" Target="../media/image1.jpeg"/><Relationship Id="rId3"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Text Box 3"/>
          <p:cNvSpPr/>
          <p:nvPr/>
        </p:nvSpPr>
        <p:spPr>
          <a:xfrm>
            <a:off x="1177920" y="4572000"/>
            <a:ext cx="6919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enyampa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UST. MAT NAWI BIN MAT JUSO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PG KAMPUS PEREMPUAN MELAYU</a:t>
            </a:r>
            <a:endParaRPr b="0" lang="en-US" sz="1400" spc="-1" strike="noStrike">
              <a:solidFill>
                <a:srgbClr val="000000"/>
              </a:solidFill>
              <a:latin typeface="Times New Roman"/>
            </a:endParaRPr>
          </a:p>
        </p:txBody>
      </p:sp>
      <p:sp>
        <p:nvSpPr>
          <p:cNvPr id="607" name="Text Box 4"/>
          <p:cNvSpPr/>
          <p:nvPr/>
        </p:nvSpPr>
        <p:spPr>
          <a:xfrm>
            <a:off x="787320" y="2773440"/>
            <a:ext cx="769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Tahoma"/>
                <a:ea typeface="Tahoma"/>
              </a:rPr>
              <a:t>Data Kualitatif</a:t>
            </a:r>
            <a:endParaRPr b="0" lang="en-US" sz="4800" spc="-1" strike="noStrike">
              <a:solidFill>
                <a:srgbClr val="000000"/>
              </a:solidFill>
              <a:latin typeface="Times New Roman"/>
            </a:endParaRPr>
          </a:p>
        </p:txBody>
      </p:sp>
      <p:sp>
        <p:nvSpPr>
          <p:cNvPr id="608" name="Rectangle 5"/>
          <p:cNvSpPr/>
          <p:nvPr/>
        </p:nvSpPr>
        <p:spPr>
          <a:xfrm>
            <a:off x="1523880" y="1219320"/>
            <a:ext cx="6629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cc"/>
                </a:solidFill>
                <a:latin typeface="Tahoma"/>
                <a:ea typeface="Tahoma"/>
              </a:rPr>
              <a:t>8. ANALISIS</a:t>
            </a:r>
            <a:endParaRPr b="0" lang="en-US" sz="5400" spc="-1" strike="noStrike">
              <a:solidFill>
                <a:srgbClr val="000000"/>
              </a:solidFill>
              <a:latin typeface="Times New Roman"/>
            </a:endParaRPr>
          </a:p>
        </p:txBody>
      </p:sp>
      <p:sp>
        <p:nvSpPr>
          <p:cNvPr id="609" name="Line 6"/>
          <p:cNvSpPr/>
          <p:nvPr/>
        </p:nvSpPr>
        <p:spPr>
          <a:xfrm>
            <a:off x="762120" y="2590920"/>
            <a:ext cx="7721640" cy="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Line 7"/>
          <p:cNvSpPr/>
          <p:nvPr/>
        </p:nvSpPr>
        <p:spPr>
          <a:xfrm>
            <a:off x="762120" y="4343400"/>
            <a:ext cx="7721640" cy="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Text Box 11"/>
          <p:cNvSpPr/>
          <p:nvPr/>
        </p:nvSpPr>
        <p:spPr>
          <a:xfrm>
            <a:off x="685800" y="6216480"/>
            <a:ext cx="77724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Footer Placeholder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13" name="Slide Number Placeholder 3"/>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B5C75-21AA-44E4-A004-E6A65B68441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3"/>
          <p:cNvSpPr/>
          <p:nvPr/>
        </p:nvSpPr>
        <p:spPr>
          <a:xfrm>
            <a:off x="380880" y="0"/>
            <a:ext cx="8763120" cy="698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Hitchcock dan Hughes (1995), menambah bahawa penjelasan analisis data kualitatif dilihat sebagai cara penyelidik beralih daripada memberikan penjelasan tentang sesuatu isu atau masalah kepada memberikan penjelasan mengapa isu atau masalah itu dianggap sebagai isu atau sebagai masalah.</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nalisis kandungan merupakan proses  pembacaan dan mengulangi pembacaan setiap transkrip untuk mencari persamaan dan perbezaan cirinya dengan tujuan untuk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0"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41"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147A-C193-4F31-83A2-F325C39A6DA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3"/>
          <p:cNvSpPr/>
          <p:nvPr/>
        </p:nvSpPr>
        <p:spPr>
          <a:xfrm>
            <a:off x="380880" y="0"/>
            <a:ext cx="8763120" cy="728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endapatkan tema dan membuat pengkategorian dat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aklumat lengkap yang diperolehi membolehkan tidak berlakunya penafian kepentingan mana-mana juga data yang diperolehi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n dapat mengelakkan penyelidik daripada memilih hanya data yang bersesuaian dengan pandangannya sahaj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atu cara yang biasa digunakan ialah melalui pengekodan isi kandung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3"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44"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2002-FC21-4D25-B556-5184C3C4ADB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ext Box 3"/>
          <p:cNvSpPr/>
          <p:nvPr/>
        </p:nvSpPr>
        <p:spPr>
          <a:xfrm>
            <a:off x="380880" y="0"/>
            <a:ext cx="8763120" cy="71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engan menggunakan kaedah ini, penyelidik secara sistematik akan mengekod setiap satu transkrip,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amada dalam bentuk nombor atau perkataan untuk menetapkan ciri-ciri khusus yang dibuat ke atas data dalam teks.</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mungkin telah mempunyai satu senarai kategori dan akan menambah kategori baharu sekiranya perlu semasa proses membaca dan menganalisis jawapan responde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6"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47"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2D65-707D-4644-991F-5B3BBEC5E0A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3"/>
          <p:cNvSpPr/>
          <p:nvPr/>
        </p:nvSpPr>
        <p:spPr>
          <a:xfrm>
            <a:off x="380880" y="0"/>
            <a:ext cx="8763120" cy="71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Terdapat dua kaedah untuk membuat penandaan data iaitu:</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gekodan perenggan  - untuk menentukan tema atau kategor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andaan ayat – menggunakan pen pelbagai warna bertujuan untuk menandakan dan mengasingkan tema-tema yang berlainan. Penggunaan warna yang berlainan akan memudahkan penyelidik mengenlpasti fakta berkaian semasa membuat penulisan dan lapor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50"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9DBE-7163-4196-A3E1-6CE7B072BE7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3"/>
          <p:cNvSpPr/>
          <p:nvPr/>
        </p:nvSpPr>
        <p:spPr>
          <a:xfrm>
            <a:off x="380880" y="0"/>
            <a:ext cx="8763120" cy="658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engan menggunakan kedua-dua kaedah ini, penyelidik akan mendapati berlakunya perubahan dan perkembangan kategori semasa analisis data dibuat.</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engan cara ini, penyelidik akan menggunakan kesemua maklumat yang ada dan dapat mengurangkan kecenderungan untuk memilih  maklumat yang dikehendaki sahaj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usunan data dan maklumat perlu dibuat agar data dapat dikumpulkan mengikut tem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53"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77F5-6DDC-4B7B-9A9D-E12C41233FC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3"/>
          <p:cNvSpPr/>
          <p:nvPr/>
        </p:nvSpPr>
        <p:spPr>
          <a:xfrm>
            <a:off x="380880" y="0"/>
            <a:ext cx="8763120" cy="673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Terdapat tiga cara penyusunan data ini boleh dilakukan :</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Narrow"/>
                <a:ea typeface="Arial Unicode MS"/>
              </a:rPr>
              <a:t>(1) Potong dan simpan dalam folder –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perlu membuat beberapa salinan transkrip dan memotong setiap satu mengikut tema atau kategor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ta itu kemudian diasingkan dan dimasukkan ke dalam folder yang berasing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emudian penyelidik boleh membuat perbandingan untuk mendapatkan persamaan dan perbezaan.</a:t>
            </a:r>
            <a:endParaRPr b="0" lang="en-US" sz="3600" spc="-1" strike="noStrike">
              <a:solidFill>
                <a:srgbClr val="000000"/>
              </a:solidFill>
              <a:latin typeface="Times New Roman"/>
            </a:endParaRPr>
          </a:p>
        </p:txBody>
      </p:sp>
      <p:sp>
        <p:nvSpPr>
          <p:cNvPr id="655"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56"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4BB1-58C8-493F-994B-8FA8A7EDB85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3"/>
          <p:cNvSpPr/>
          <p:nvPr/>
        </p:nvSpPr>
        <p:spPr>
          <a:xfrm>
            <a:off x="380880" y="0"/>
            <a:ext cx="8763120" cy="369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Tandakan setiap keratan dengan nama responden atau menggunakan kod.</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Walaupun cara ini mengambil masa, tetapi akan memudahkan kerja penyelidik yang berhadapan dengan data yang sangat banyak.</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8"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59"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7B70-2CB6-4A77-861F-4C1B165D387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3"/>
          <p:cNvSpPr/>
          <p:nvPr/>
        </p:nvSpPr>
        <p:spPr>
          <a:xfrm>
            <a:off x="380880" y="0"/>
            <a:ext cx="8763120" cy="60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Narrow"/>
                <a:ea typeface="Arial Unicode MS"/>
              </a:rPr>
              <a:t>(2) Sistem Kad Indek –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tiap transkrip perlu ditandakan dengan nombor-nombor baris dengan tujuan untuk membuat rujukan rentas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akan menyediakan kad-kad bagi setiap tema atau kategor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Rujukan rentasan seterusnya dibuat bagi setiap kad ke atas setiap transkrip untuk memudahkan mengesan apa yang dikatakan oleh responden mengenai sesuatu topik.</a:t>
            </a:r>
            <a:endParaRPr b="0" lang="en-US" sz="3600" spc="-1" strike="noStrike">
              <a:solidFill>
                <a:srgbClr val="000000"/>
              </a:solidFill>
              <a:latin typeface="Times New Roman"/>
            </a:endParaRPr>
          </a:p>
        </p:txBody>
      </p:sp>
      <p:sp>
        <p:nvSpPr>
          <p:cNvPr id="661"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62"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10D8-ACD6-4D3C-931C-453C73A7888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3"/>
          <p:cNvSpPr/>
          <p:nvPr/>
        </p:nvSpPr>
        <p:spPr>
          <a:xfrm>
            <a:off x="380880" y="0"/>
            <a:ext cx="8763120" cy="298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ara ini lebih cepat tetapi memerlukan penyelidik kerap melakukan rujukan transkrip asal semasa membuat penulisan dapat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aedah ini hanya sesuai digunakan untuk data dan maklumat yang sedikit.</a:t>
            </a:r>
            <a:endParaRPr b="0" lang="en-US" sz="3600" spc="-1" strike="noStrike">
              <a:solidFill>
                <a:srgbClr val="000000"/>
              </a:solidFill>
              <a:latin typeface="Times New Roman"/>
            </a:endParaRPr>
          </a:p>
        </p:txBody>
      </p:sp>
      <p:sp>
        <p:nvSpPr>
          <p:cNvPr id="664"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65"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8ECD-6C5F-49E4-906A-DB46F4F7827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3"/>
          <p:cNvSpPr/>
          <p:nvPr/>
        </p:nvSpPr>
        <p:spPr>
          <a:xfrm>
            <a:off x="380880" y="0"/>
            <a:ext cx="8763120" cy="658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Narrow"/>
                <a:ea typeface="Arial Unicode MS"/>
              </a:rPr>
              <a:t>(3) Analisis Komputer –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kiranya penyelidik mempunyai akses kepada pakej komputer yang dapat menganalisis data kualitatif (SPSS, Nvivo dsb), maka penyelidik boleh menggunakan perisian berkena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boleh membuatnaik transkrip yang dibina menggunakan pakej pemprosesan perkata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risisan ini akan menandakan bahagian-bahagian yang berlainan mengikut tema.</a:t>
            </a:r>
            <a:endParaRPr b="0" lang="en-US" sz="3600" spc="-1" strike="noStrike">
              <a:solidFill>
                <a:srgbClr val="000000"/>
              </a:solidFill>
              <a:latin typeface="Times New Roman"/>
            </a:endParaRPr>
          </a:p>
        </p:txBody>
      </p:sp>
      <p:sp>
        <p:nvSpPr>
          <p:cNvPr id="667"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68"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FAE2-A3A6-413E-85D3-FF477BB36F1E}"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3"/>
          <p:cNvSpPr/>
          <p:nvPr/>
        </p:nvSpPr>
        <p:spPr>
          <a:xfrm>
            <a:off x="380880" y="0"/>
            <a:ext cx="8763120" cy="161748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Data Kualitatif :</a:t>
            </a:r>
            <a:endParaRPr b="0" lang="en-US" sz="4000" spc="-1" strike="noStrike">
              <a:solidFill>
                <a:srgbClr val="000000"/>
              </a:solidFill>
              <a:latin typeface="Times New Roman"/>
            </a:endParaRPr>
          </a:p>
          <a:p>
            <a:pPr marL="743040" indent="-743040">
              <a:lnSpc>
                <a:spcPct val="100000"/>
              </a:lnSpc>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15"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16"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CE26-7CD9-4A75-804D-B7B0997B5E8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pic>
        <p:nvPicPr>
          <p:cNvPr id="617" name="Picture 4" descr="http://pad3.whstatic.com/images/thumb/5/5c/Be-a-Professional-Teacher-Step-1.jpg/670px-Be-a-Professional-Teacher-Step-1.jpg">
            <a:hlinkClick r:id="rId1"/>
          </p:cNvPr>
          <p:cNvPicPr/>
          <p:nvPr/>
        </p:nvPicPr>
        <p:blipFill>
          <a:blip r:embed="rId2"/>
          <a:stretch/>
        </p:blipFill>
        <p:spPr>
          <a:xfrm>
            <a:off x="1878120" y="1447920"/>
            <a:ext cx="7026120" cy="483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3"/>
          <p:cNvSpPr/>
          <p:nvPr/>
        </p:nvSpPr>
        <p:spPr>
          <a:xfrm>
            <a:off x="380880" y="0"/>
            <a:ext cx="87631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terusnya mengasingkan dan menyusun data mengikut pelbagai tema.</a:t>
            </a:r>
            <a:endParaRPr b="0" lang="en-US" sz="3600" spc="-1" strike="noStrike">
              <a:solidFill>
                <a:srgbClr val="000000"/>
              </a:solidFill>
              <a:latin typeface="Times New Roman"/>
            </a:endParaRPr>
          </a:p>
        </p:txBody>
      </p:sp>
      <p:sp>
        <p:nvSpPr>
          <p:cNvPr id="670"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71"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D7B2-63E2-4FCB-B3E5-85E4A779206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3"/>
          <p:cNvSpPr/>
          <p:nvPr/>
        </p:nvSpPr>
        <p:spPr>
          <a:xfrm>
            <a:off x="380880" y="0"/>
            <a:ext cx="8763120" cy="5626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Mengkategorikan Data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ebanyakan penyelidik kualitatif akan sampai kepada satu tahap apabila data yang diperolehi perlu disusun untuk dibuat analisis.</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etika penyelidik  terpaksa menerima pelbagai bentuk data dari pelbagai perspektif, untuk membolehkan data-data itu difahami, satu bentuk susunan dibuat melalui pengkategorian data.</a:t>
            </a:r>
            <a:endParaRPr b="0" lang="en-US" sz="3600" spc="-1" strike="noStrike">
              <a:solidFill>
                <a:srgbClr val="000000"/>
              </a:solidFill>
              <a:latin typeface="Times New Roman"/>
            </a:endParaRPr>
          </a:p>
        </p:txBody>
      </p:sp>
      <p:sp>
        <p:nvSpPr>
          <p:cNvPr id="673"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74"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07CB-411F-44C0-ACEA-0551228D8AE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 Box 3"/>
          <p:cNvSpPr/>
          <p:nvPr/>
        </p:nvSpPr>
        <p:spPr>
          <a:xfrm>
            <a:off x="380880" y="0"/>
            <a:ext cx="8763120" cy="60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atu cara yang terkenal untuk melakukannya ialah dengan mengenalpasti kategori utama dalam dat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Untuk melakukannya tidaklah mudah meskipun ia kelihatan mudah.</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esemua data mesti dimasukkan ke dalam mana-mana kategori, samada kategori utama atau subkategor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Tidak ada data yang dibenarkan masuk di bawah lebih daripada satu kategori.</a:t>
            </a:r>
            <a:endParaRPr b="0" lang="en-US" sz="3600" spc="-1" strike="noStrike">
              <a:solidFill>
                <a:srgbClr val="000000"/>
              </a:solidFill>
              <a:latin typeface="Times New Roman"/>
            </a:endParaRPr>
          </a:p>
        </p:txBody>
      </p:sp>
      <p:sp>
        <p:nvSpPr>
          <p:cNvPr id="676"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77"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BEC4-4571-4325-AEC6-58AD9F5D96C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 Box 3"/>
          <p:cNvSpPr/>
          <p:nvPr/>
        </p:nvSpPr>
        <p:spPr>
          <a:xfrm>
            <a:off x="152280" y="0"/>
            <a:ext cx="89917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n setiap kategori perlu berada pada satu tahap analisis.</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roses ini memakan mas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Oleh itu, penyelidik perlu membaca transkrip beberapa kali,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n melakukan eksperimen dengan menggunakan beberapa kaedah rumus sebelum menentukan data tersebut di bawah kategori   yang mana satu.</a:t>
            </a:r>
            <a:endParaRPr b="0" lang="en-US" sz="3600" spc="-1" strike="noStrike">
              <a:solidFill>
                <a:srgbClr val="000000"/>
              </a:solidFill>
              <a:latin typeface="Times New Roman"/>
            </a:endParaRPr>
          </a:p>
        </p:txBody>
      </p:sp>
      <p:sp>
        <p:nvSpPr>
          <p:cNvPr id="679"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80"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A277-36FC-4E1E-BDE9-65B6A3FB6C5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3"/>
          <p:cNvSpPr/>
          <p:nvPr/>
        </p:nvSpPr>
        <p:spPr>
          <a:xfrm>
            <a:off x="152280" y="0"/>
            <a:ext cx="8991720" cy="632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Samb…:</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ontohnya dengan hanya memerhatikan interaksi dan komunikasi murid dalam kumpulan, kemahiran mencari dan menyusun maklumat dan sebagainy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strukturan pemerhatian secara sedar akan memudahkan dapatan untuk dikaitakan dengan hipotesis yang akan diuj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merhati perlu berhati-hati agar tidak dipengaruhi oleh tanggapan awal.</a:t>
            </a:r>
            <a:endParaRPr b="0" lang="en-US" sz="3600" spc="-1" strike="noStrike">
              <a:solidFill>
                <a:srgbClr val="000000"/>
              </a:solidFill>
              <a:latin typeface="Times New Roman"/>
            </a:endParaRPr>
          </a:p>
        </p:txBody>
      </p:sp>
      <p:sp>
        <p:nvSpPr>
          <p:cNvPr id="682"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83"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B86F-841E-467E-BEDB-E30E79C516D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 Box 3"/>
          <p:cNvSpPr/>
          <p:nvPr/>
        </p:nvSpPr>
        <p:spPr>
          <a:xfrm>
            <a:off x="152280" y="0"/>
            <a:ext cx="8991720" cy="60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Beberapa kaedah boleh digunakan untuk memudahkan proses ini iaitu membuat rumusan terhadap data,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engan memasukkan ke dalam jadual data (</a:t>
            </a:r>
            <a:r>
              <a:rPr b="1" i="1" lang="en-US" sz="3600" spc="-1" strike="noStrike">
                <a:solidFill>
                  <a:srgbClr val="000000"/>
                </a:solidFill>
                <a:latin typeface="Arial Narrow"/>
                <a:ea typeface="Arial Unicode MS"/>
              </a:rPr>
              <a:t>tabulate</a:t>
            </a:r>
            <a:r>
              <a:rPr b="1" lang="en-US" sz="3600" spc="-1" strike="noStrike">
                <a:solidFill>
                  <a:srgbClr val="000000"/>
                </a:solidFill>
                <a:latin typeface="Arial Narrow"/>
                <a:ea typeface="Arial Unicode MS"/>
              </a:rPr>
              <a:t>).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tau membina bentuk-bentuk atau melakar gambarajah.</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apisan sebegini dapat membantu penyelidik untuk membuat rumusan secara sepintas lalu.</a:t>
            </a:r>
            <a:endParaRPr b="0" lang="en-US" sz="3600" spc="-1" strike="noStrike">
              <a:solidFill>
                <a:srgbClr val="000000"/>
              </a:solidFill>
              <a:latin typeface="Times New Roman"/>
            </a:endParaRPr>
          </a:p>
        </p:txBody>
      </p:sp>
      <p:sp>
        <p:nvSpPr>
          <p:cNvPr id="685"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86"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27F7-32A5-48EA-B3E6-B19E58AFEB8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3"/>
          <p:cNvSpPr/>
          <p:nvPr/>
        </p:nvSpPr>
        <p:spPr>
          <a:xfrm>
            <a:off x="152280" y="0"/>
            <a:ext cx="8991720" cy="5139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Contoh Kategori adalah seperti berikut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erjasam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omunikas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Interaks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etusan ide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ktif</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urang aktif dsb.</a:t>
            </a:r>
            <a:endParaRPr b="0" lang="en-US" sz="3600" spc="-1" strike="noStrike">
              <a:solidFill>
                <a:srgbClr val="000000"/>
              </a:solidFill>
              <a:latin typeface="Times New Roman"/>
            </a:endParaRPr>
          </a:p>
        </p:txBody>
      </p:sp>
      <p:sp>
        <p:nvSpPr>
          <p:cNvPr id="688"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89"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FF36-F473-412D-B628-A9CF558E66C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3"/>
          <p:cNvSpPr/>
          <p:nvPr/>
        </p:nvSpPr>
        <p:spPr>
          <a:xfrm>
            <a:off x="152280" y="0"/>
            <a:ext cx="8991720" cy="5626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1) Mengekod Data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kiranya analisis dapatan dilakukan dengan menggunakan pakej statistikal, adalah dinasihatkan agar dibuat kod untuk data bukan numerikal semasa membuat soal selidik.</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ta boleh dikodkan mengikut kategori dan subkategori  yang telah dikenalpasti melalui bacaan dan bacaan semula data yang telah dikumpulkan.</a:t>
            </a:r>
            <a:endParaRPr b="0" lang="en-US" sz="3600" spc="-1" strike="noStrike">
              <a:solidFill>
                <a:srgbClr val="000000"/>
              </a:solidFill>
              <a:latin typeface="Times New Roman"/>
            </a:endParaRPr>
          </a:p>
        </p:txBody>
      </p:sp>
      <p:sp>
        <p:nvSpPr>
          <p:cNvPr id="691"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92"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32AD-A613-4B72-8947-589BEB9F0FB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 Box 3"/>
          <p:cNvSpPr/>
          <p:nvPr/>
        </p:nvSpPr>
        <p:spPr>
          <a:xfrm>
            <a:off x="152280" y="0"/>
            <a:ext cx="8991720" cy="673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engekod lazimnya bermula dengan ringkasan teks yang dikaj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ara ini dipanggil pengekodan deskriptif kerana ia merupakan penjelasan ringkas tentang apa yang telah dicatatkan dalam transkrip.</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roses diteruskan dengan membuat membuat kategori. Ini dinamakan pengekodan analitikal.</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elalui pengkategorian data, maklumat yang relevan dengan topik yang dikaji akan diperolehi bagi membantu menjelaskan persoalan kajian.</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4"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95"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9C23-6C8F-4F98-9950-1A4A9AE4006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3"/>
          <p:cNvSpPr/>
          <p:nvPr/>
        </p:nvSpPr>
        <p:spPr>
          <a:xfrm>
            <a:off x="152280" y="0"/>
            <a:ext cx="8991720" cy="49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gekodan boleh dibuat berdasarkan kategori jantin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ontohnya, kod bagi lelaki ialah “1” dan kod bagi perempuan ialah “2”</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lain jantina, kod boleh dibuat berdasarkan tema, topik, konsep, idea, kosa kata dsb.</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od boleh juga dibuat dalam bentuk paras atau bukan hirarki.</a:t>
            </a:r>
            <a:endParaRPr b="0" lang="en-US" sz="3600" spc="-1" strike="noStrike">
              <a:solidFill>
                <a:srgbClr val="000000"/>
              </a:solidFill>
              <a:latin typeface="Times New Roman"/>
            </a:endParaRPr>
          </a:p>
        </p:txBody>
      </p:sp>
      <p:sp>
        <p:nvSpPr>
          <p:cNvPr id="697"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98"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F401-F7BA-44E2-9582-743B9DBFC40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3"/>
          <p:cNvSpPr/>
          <p:nvPr/>
        </p:nvSpPr>
        <p:spPr>
          <a:xfrm>
            <a:off x="380880" y="0"/>
            <a:ext cx="8763120" cy="515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1. Data Kualitatif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Lazimnya seseorang penyelidik yang menggunakan kaedah kuantitatif akan meneroka aplikasi teori dalam pelbagai konteks,</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tau cuba menghasilkan satu teori ddaripada data yang dikumpulka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9"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20"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33CE-F14D-4E54-B92F-7743A1A82DE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3"/>
          <p:cNvSpPr/>
          <p:nvPr/>
        </p:nvSpPr>
        <p:spPr>
          <a:xfrm>
            <a:off x="152280" y="0"/>
            <a:ext cx="8991720" cy="594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ontoh, ketika menjawab soalan “Kepada siapakah anda akan minta tolong sekiranya tidak memahami pelajar”?</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Respon yang diterima :</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Guru sendiri</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Guru tuisyen</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Ibubapa</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dik beradik</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Rakan</a:t>
            </a:r>
            <a:endParaRPr b="0" lang="en-US" sz="3600" spc="-1" strike="noStrike">
              <a:solidFill>
                <a:srgbClr val="000000"/>
              </a:solidFill>
              <a:latin typeface="Times New Roman"/>
            </a:endParaRPr>
          </a:p>
        </p:txBody>
      </p:sp>
      <p:sp>
        <p:nvSpPr>
          <p:cNvPr id="700"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01"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177D-BEB1-4184-9664-FB8421CBECE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3"/>
          <p:cNvSpPr/>
          <p:nvPr/>
        </p:nvSpPr>
        <p:spPr>
          <a:xfrm>
            <a:off x="152280" y="609480"/>
            <a:ext cx="8991720" cy="369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Ia juga boleh bersifat hirarki atau bercabang.</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lalunya kod bercabang merupakan cabang kepada data utama dan diatur dalam bentuk contoh, punca, konteks dan sebagainy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ontohnya, program peningkatan kecemerlangan akademik.</a:t>
            </a:r>
            <a:endParaRPr b="0" lang="en-US" sz="3600" spc="-1" strike="noStrike">
              <a:solidFill>
                <a:srgbClr val="000000"/>
              </a:solidFill>
              <a:latin typeface="Times New Roman"/>
            </a:endParaRPr>
          </a:p>
        </p:txBody>
      </p:sp>
      <p:sp>
        <p:nvSpPr>
          <p:cNvPr id="703"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04"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28C4-34BB-4370-8525-57818B54C46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 Box 3"/>
          <p:cNvSpPr/>
          <p:nvPr/>
        </p:nvSpPr>
        <p:spPr>
          <a:xfrm>
            <a:off x="152280" y="0"/>
            <a:ext cx="8991720" cy="3447720"/>
          </a:xfrm>
          <a:prstGeom prst="rect">
            <a:avLst/>
          </a:prstGeom>
          <a:noFill/>
          <a:ln w="0">
            <a:noFill/>
          </a:ln>
        </p:spPr>
        <p:style>
          <a:lnRef idx="0"/>
          <a:fillRef idx="0"/>
          <a:effectRef idx="0"/>
          <a:fontRef idx="minor"/>
        </p:style>
        <p:txBody>
          <a:bodyPr lIns="90000" rIns="90000" tIns="46800" bIns="46800" anchor="t">
            <a:spAutoFit/>
          </a:bodyPr>
          <a:p>
            <a:pPr lvl="1" marL="1200240" indent="-743040" algn="just">
              <a:lnSpc>
                <a:spcPct val="100000"/>
              </a:lnSpc>
              <a:spcBef>
                <a:spcPts val="601"/>
              </a:spcBef>
              <a:spcAft>
                <a:spcPts val="601"/>
              </a:spcAft>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Latihan Tambahan -</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Bimbingan guru</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Dalam kelas</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Di luar kelas</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Bimbingan rakan sebaya</a:t>
            </a:r>
            <a:endParaRPr b="0" lang="en-US" sz="3600" spc="-1" strike="noStrike">
              <a:solidFill>
                <a:srgbClr val="000000"/>
              </a:solidFill>
              <a:latin typeface="Times New Roman"/>
            </a:endParaRPr>
          </a:p>
        </p:txBody>
      </p:sp>
      <p:sp>
        <p:nvSpPr>
          <p:cNvPr id="706"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07"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E229-2299-4BFE-B7E9-40FB9398490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3"/>
          <p:cNvSpPr/>
          <p:nvPr/>
        </p:nvSpPr>
        <p:spPr>
          <a:xfrm>
            <a:off x="152280" y="0"/>
            <a:ext cx="8991720" cy="6252840"/>
          </a:xfrm>
          <a:prstGeom prst="rect">
            <a:avLst/>
          </a:prstGeom>
          <a:noFill/>
          <a:ln w="0">
            <a:noFill/>
          </a:ln>
        </p:spPr>
        <p:style>
          <a:lnRef idx="0"/>
          <a:fillRef idx="0"/>
          <a:effectRef idx="0"/>
          <a:fontRef idx="minor"/>
        </p:style>
        <p:txBody>
          <a:bodyPr lIns="90000" rIns="90000" tIns="46800" bIns="46800" anchor="t">
            <a:spAutoFit/>
          </a:bodyPr>
          <a:p>
            <a:pPr lvl="1" marL="1200240" indent="-743040" algn="just">
              <a:lnSpc>
                <a:spcPct val="100000"/>
              </a:lnSpc>
              <a:spcBef>
                <a:spcPts val="601"/>
              </a:spcBef>
              <a:spcAft>
                <a:spcPts val="601"/>
              </a:spcAft>
              <a:buClr>
                <a:srgbClr val="000000"/>
              </a:buClr>
              <a:buFont typeface="Arial Narrow"/>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otivasi –</a:t>
            </a:r>
            <a:endParaRPr b="0" lang="en-US" sz="3600" spc="-1" strike="noStrike">
              <a:solidFill>
                <a:srgbClr val="000000"/>
              </a:solidFill>
              <a:latin typeface="Times New Roman"/>
            </a:endParaRPr>
          </a:p>
          <a:p>
            <a:pPr lvl="2" marL="16574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Kemahiran belajar</a:t>
            </a:r>
            <a:endParaRPr b="0" lang="en-US" sz="3600" spc="-1" strike="noStrike">
              <a:solidFill>
                <a:srgbClr val="000000"/>
              </a:solidFill>
              <a:latin typeface="Times New Roman"/>
            </a:endParaRPr>
          </a:p>
          <a:p>
            <a:pPr lvl="2" marL="16574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Menggumpul maklumat</a:t>
            </a:r>
            <a:endParaRPr b="0" lang="en-US" sz="3600" spc="-1" strike="noStrike">
              <a:solidFill>
                <a:srgbClr val="000000"/>
              </a:solidFill>
              <a:latin typeface="Times New Roman"/>
            </a:endParaRPr>
          </a:p>
          <a:p>
            <a:pPr lvl="2" marL="16574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Menyusun data </a:t>
            </a:r>
            <a:endParaRPr b="0" lang="en-US" sz="3600" spc="-1" strike="noStrike">
              <a:solidFill>
                <a:srgbClr val="000000"/>
              </a:solidFill>
              <a:latin typeface="Times New Roman"/>
            </a:endParaRPr>
          </a:p>
          <a:p>
            <a:pPr lvl="2" marL="16574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Membaca</a:t>
            </a:r>
            <a:endParaRPr b="0" lang="en-US" sz="3600" spc="-1" strike="noStrike">
              <a:solidFill>
                <a:srgbClr val="000000"/>
              </a:solidFill>
              <a:latin typeface="Times New Roman"/>
            </a:endParaRPr>
          </a:p>
          <a:p>
            <a:pPr lvl="2" marL="16574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Kemahiran mengurus masa</a:t>
            </a:r>
            <a:endParaRPr b="0" lang="en-US" sz="3600" spc="-1" strike="noStrike">
              <a:solidFill>
                <a:srgbClr val="000000"/>
              </a:solidFill>
              <a:latin typeface="Times New Roman"/>
            </a:endParaRPr>
          </a:p>
          <a:p>
            <a:pPr lvl="2" marL="16574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Kemahiran berfikir</a:t>
            </a:r>
            <a:endParaRPr b="0" lang="en-US" sz="3600" spc="-1" strike="noStrike">
              <a:solidFill>
                <a:srgbClr val="000000"/>
              </a:solidFill>
              <a:latin typeface="Times New Roman"/>
            </a:endParaRPr>
          </a:p>
          <a:p>
            <a:pPr lvl="2" marL="16574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Kritis</a:t>
            </a:r>
            <a:endParaRPr b="0" lang="en-US" sz="3600" spc="-1" strike="noStrike">
              <a:solidFill>
                <a:srgbClr val="000000"/>
              </a:solidFill>
              <a:latin typeface="Times New Roman"/>
            </a:endParaRPr>
          </a:p>
          <a:p>
            <a:pPr lvl="2" marL="16574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Kreatif</a:t>
            </a:r>
            <a:endParaRPr b="0" lang="en-US" sz="3600" spc="-1" strike="noStrike">
              <a:solidFill>
                <a:srgbClr val="000000"/>
              </a:solidFill>
              <a:latin typeface="Times New Roman"/>
            </a:endParaRPr>
          </a:p>
        </p:txBody>
      </p:sp>
      <p:sp>
        <p:nvSpPr>
          <p:cNvPr id="709"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10"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E016-953C-47ED-B367-3918750C79A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3"/>
          <p:cNvSpPr/>
          <p:nvPr/>
        </p:nvSpPr>
        <p:spPr>
          <a:xfrm>
            <a:off x="152280" y="0"/>
            <a:ext cx="8991720" cy="7181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Perkara Yang Dikodkan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masa mengekod, lazimnya penyelidik telah mempunyai beberapa kod di dalam fikiran dan masih mencari idea-idea yang baharu melalui data yang terkumpul.</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harmaz (2003) mencadangkan agar penyelidik mengemukakan soalan-soalan panduan berikut semasa mengekod data :</a:t>
            </a:r>
            <a:endParaRPr b="0" lang="en-US" sz="3600" spc="-1" strike="noStrike">
              <a:solidFill>
                <a:srgbClr val="000000"/>
              </a:solidFill>
              <a:latin typeface="Times New Roman"/>
            </a:endParaRPr>
          </a:p>
          <a:p>
            <a:pPr lvl="1" marL="45720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pakah yang berlaku?</a:t>
            </a:r>
            <a:endParaRPr b="0" lang="en-US" sz="3600" spc="-1" strike="noStrike">
              <a:solidFill>
                <a:srgbClr val="000000"/>
              </a:solidFill>
              <a:latin typeface="Times New Roman"/>
            </a:endParaRPr>
          </a:p>
          <a:p>
            <a:pPr lvl="1" marL="45720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pakah yang mereka (sampel) lakukan?</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2"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13"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9867-8E45-45A6-954F-A583529025A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3"/>
          <p:cNvSpPr/>
          <p:nvPr/>
        </p:nvSpPr>
        <p:spPr>
          <a:xfrm>
            <a:off x="152280" y="0"/>
            <a:ext cx="8991720" cy="478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Bogdan dan Biklen (1992), Strauss (1987), Mason (1996) dan Gibbs (2006) telah menyenaraikan perkara-perkara yang boleh dikodk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tiap  contoh yang diberikan lebih bersifat deskriptif kerana ia lebih mudah untuk menjelaskan suasana.</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5"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16"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FDCC-6976-43AE-B1C7-1CCD3163ECA8}"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18"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CB74-A42A-4A4B-B898-5F4D42485E7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graphicFrame>
        <p:nvGraphicFramePr>
          <p:cNvPr id="719" name=""/>
          <p:cNvGraphicFramePr/>
          <p:nvPr/>
        </p:nvGraphicFramePr>
        <p:xfrm>
          <a:off x="457200" y="380880"/>
          <a:ext cx="8305920" cy="5821560"/>
        </p:xfrm>
        <a:graphic>
          <a:graphicData uri="http://schemas.openxmlformats.org/drawingml/2006/table">
            <a:tbl>
              <a:tblPr/>
              <a:tblGrid>
                <a:gridCol w="990720"/>
                <a:gridCol w="4800600"/>
                <a:gridCol w="251460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a:rPr>
                        <a:t>BIL</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a:rPr>
                        <a:t>PERKARA YANG BOLEH DIKODKAN</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a:rPr>
                        <a:t>CONTOH</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5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1.</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Tingkah laku</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Cakap besar, merajuk</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2043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2.</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Peristiwa – Perkara yang dilalui dan sering diulang-ulangi menceritainya</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Berkhatan, hari pertama sekolah</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2043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3.</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Strategi dan amalan</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Belajar sampai lewat malam</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155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4.</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Keadaan, kekangan atau paksaan</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Kehilangan kawan rapat</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3"/>
          <p:cNvSpPr/>
          <p:nvPr/>
        </p:nvSpPr>
        <p:spPr>
          <a:xfrm>
            <a:off x="152280" y="0"/>
            <a:ext cx="8991720" cy="533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atu kaedah yang boleh digunakan untuk mengenalpasti tema, kategori dan kod ialah dengan membuat perbandingan secara tetap dan berterus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tiap kali teks dikodkan, penyelidik perlu membuat perbandingan dengan teks yang telah dikodkan terdahulu.</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engan cara ini, pengekodan dapat dapat dilakukan dengan lebih tekal dan tetap.</a:t>
            </a:r>
            <a:endParaRPr b="0" lang="en-US" sz="3600" spc="-1" strike="noStrike">
              <a:solidFill>
                <a:srgbClr val="000000"/>
              </a:solidFill>
              <a:latin typeface="Times New Roman"/>
            </a:endParaRPr>
          </a:p>
        </p:txBody>
      </p:sp>
      <p:sp>
        <p:nvSpPr>
          <p:cNvPr id="721"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22"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76B3C-697C-4F2D-B63E-4458B90AAE2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 Box 3"/>
          <p:cNvSpPr/>
          <p:nvPr/>
        </p:nvSpPr>
        <p:spPr>
          <a:xfrm>
            <a:off x="152280" y="0"/>
            <a:ext cx="8991720" cy="628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Narrow"/>
                <a:ea typeface="Arial Unicode MS"/>
              </a:rPr>
              <a:t>Strauss dan Corbin (1990) – </a:t>
            </a:r>
            <a:r>
              <a:rPr b="1" lang="en-US" sz="3600" spc="-1" strike="noStrike">
                <a:solidFill>
                  <a:srgbClr val="000000"/>
                </a:solidFill>
                <a:latin typeface="Arial Narrow"/>
                <a:ea typeface="Arial Unicode MS"/>
              </a:rPr>
              <a:t>telah mencadangkan penganalisis data kualitatif membuat perbandingan yang sistematik.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ontohnya, sekiranya seorang responden bercakap mengenai bagaimana ibubapanya memberikan sokongan kewangan semasa belajar di sekolah berasrama penuh, penganalisis boleh membandingkan dengan cara lain bagaimana ibu bapa memberikan sokongan emosi, pengawasan, kerja sekolah dan latihan di asrama, sokongan kerohanian dan lain-lain lagi.</a:t>
            </a:r>
            <a:endParaRPr b="0" lang="en-US" sz="3600" spc="-1" strike="noStrike">
              <a:solidFill>
                <a:srgbClr val="000000"/>
              </a:solidFill>
              <a:latin typeface="Times New Roman"/>
            </a:endParaRPr>
          </a:p>
        </p:txBody>
      </p:sp>
      <p:sp>
        <p:nvSpPr>
          <p:cNvPr id="724"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25"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E313-B5CD-46F6-8B54-FA6459BC44A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Text Box 3"/>
          <p:cNvSpPr/>
          <p:nvPr/>
        </p:nvSpPr>
        <p:spPr>
          <a:xfrm>
            <a:off x="152280" y="0"/>
            <a:ext cx="8991720" cy="648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2) Pengekodan Axial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Ia merupakan langkah yang diambil selepas melakukan pengekodan fakt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Langkah pertama dengan penyelidik akan menumpukan perhatian pada tema-tema yang telah dikodk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od atau idea baharu mungkin akan muncul dan penyelidik perlu memberikan perhatian kepadanya juga.</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7"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28"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9A7F-6C65-4F49-B4D6-872971CB018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3"/>
          <p:cNvSpPr/>
          <p:nvPr/>
        </p:nvSpPr>
        <p:spPr>
          <a:xfrm>
            <a:off x="380880" y="0"/>
            <a:ext cx="8763120" cy="588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engan kata lain, walaupun penyelidik telah mempunyai pandangan atau idea mengenai sesuatu topik, penyelidik juga akan mendapatkan pandangan orang lain untuk memantapkan idea atau konsep.</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ya kualitatif yang diperolehi melalui temu bual, pemerhatian, rakam audio video, teks atau catatan jurnal dan diari merupakan maklumat yang subjektif, kaya dan mendalam.</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2"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23"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3B59-D648-4676-BF7B-A07A4EE22B0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 Box 3"/>
          <p:cNvSpPr/>
          <p:nvPr/>
        </p:nvSpPr>
        <p:spPr>
          <a:xfrm>
            <a:off x="152280" y="0"/>
            <a:ext cx="8991720" cy="728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terusnya data disusun mengikut tema dan penyelidik mengenalpasti paksi konsep utama dalam analisis.</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akan membina perhubungan antara data dalam satu kategori yang sama atau antara kategori dan subkategor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ontoh, perkaitan data dapat dilihat melalui jawapan kepada soalan-soalan berikut :</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Jelaskan model kemahiran membaca yang pernah anda ikuti ? Dan kaedah membaca manakah yang anda gunakan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31"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B60B-6C04-45FE-9085-6B84A078A69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3"/>
          <p:cNvSpPr/>
          <p:nvPr/>
        </p:nvSpPr>
        <p:spPr>
          <a:xfrm>
            <a:off x="152280" y="0"/>
            <a:ext cx="8991720" cy="353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rbandingan boleh dibuat berdasarkan respon kepada soalan-soalan tersebut untuk melihat hubungan antara kemahiran membaca dengan kaedah yang digunakan untuk menguasai pembacaan.</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34"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23FB-8C92-4D36-ABA4-68F2A14313D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3"/>
          <p:cNvSpPr/>
          <p:nvPr/>
        </p:nvSpPr>
        <p:spPr>
          <a:xfrm>
            <a:off x="152280" y="0"/>
            <a:ext cx="8991720" cy="632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3) Pengekodan Pilihan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telah melalui dua langkah di atas, penyelidik telahpun mengenalpasti tema-tema utama data penyelidikan yang diperoleh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seterusnya mencari perkaitan antara kategori utama dengan mana-mana kategori lain yang berkait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engan menumpukan kepada satu aspek kategori utama, satu gambaran perkaitan daripada kategori utama akan dikenalpasti.</a:t>
            </a:r>
            <a:endParaRPr b="0" lang="en-US" sz="3600" spc="-1" strike="noStrike">
              <a:solidFill>
                <a:srgbClr val="000000"/>
              </a:solidFill>
              <a:latin typeface="Times New Roman"/>
            </a:endParaRPr>
          </a:p>
        </p:txBody>
      </p:sp>
      <p:sp>
        <p:nvSpPr>
          <p:cNvPr id="736"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37"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B85F-F7FF-45E8-A91E-3EEC01A84A4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Text Box 3"/>
          <p:cNvSpPr/>
          <p:nvPr/>
        </p:nvSpPr>
        <p:spPr>
          <a:xfrm>
            <a:off x="152280" y="0"/>
            <a:ext cx="8991720" cy="71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ontohnya, penyelidik akan memberikan tumpuan kepada respon-respon sampel yang tidak pernah mengikuti kursus motivasi kemahiran belajar.</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akan membandingkan respon-respon tersebut kepada beberapa soalan meneroka pengalaman belajar kumpulan yang tidak pernah mengikuti kursus motivasi dengan lebih mendalam.</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Respons kepada data menggunakan kod kemudian akan dibuat analisis.</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9"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40"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E20B-33C7-4DCC-8743-EDB76E59CF6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Text Box 3"/>
          <p:cNvSpPr/>
          <p:nvPr/>
        </p:nvSpPr>
        <p:spPr>
          <a:xfrm>
            <a:off x="152280" y="0"/>
            <a:ext cx="8991720" cy="648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Menyusun Data Dalam Grid Analisis:</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Grid analisis merupakan teknik yang berguna untuk membolehkan penyelidik membuat keputusan terutamanya apabila mempunyai alternatif lain yan g lebih baik.</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Teknik ini merupakan teknik berkesan untuk membuat keputusan apabila tidak diperolehi pilihan yang jelas dan tepat.</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43"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8296-E8E4-446E-942C-3292D20F0818}"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3"/>
          <p:cNvSpPr/>
          <p:nvPr/>
        </p:nvSpPr>
        <p:spPr>
          <a:xfrm>
            <a:off x="152280" y="0"/>
            <a:ext cx="8991720" cy="588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Teknik ini memerlukan penyelidik menggunakan jadual yang terdiri daripada faktor-faktor yang perlu diberikan perhati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emudian penyelidik memberikan nilai skor bagi setiap faktor, menimbangnya dan menjumlahkan skor untuk mendapatkan skor keseluruhan bagi setiap pilih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aedah ini kelihatan kompleks, tetapi sebenarnya agak mudah digunakan sekiranya penyelidik mengikuti langkah-langkah berikut :</a:t>
            </a:r>
            <a:endParaRPr b="0" lang="en-US" sz="3600" spc="-1" strike="noStrike">
              <a:solidFill>
                <a:srgbClr val="000000"/>
              </a:solidFill>
              <a:latin typeface="Times New Roman"/>
            </a:endParaRPr>
          </a:p>
        </p:txBody>
      </p:sp>
      <p:sp>
        <p:nvSpPr>
          <p:cNvPr id="745"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46"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5047-40D6-4E42-9D5A-CE7F51866B4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3"/>
          <p:cNvSpPr/>
          <p:nvPr/>
        </p:nvSpPr>
        <p:spPr>
          <a:xfrm>
            <a:off x="152280" y="0"/>
            <a:ext cx="8991720" cy="702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Langkah pertama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enyenaraikan semua pilihan ke dalam baris dalam jadual. Senaraikan faktor-faktor yang perlu diberikan pertimbangan semasa membuat keputus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usun aturkan kepentingan faktor-faktor yang akan digunakan untuk membuat keputus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Tunjukkan dalam bentuk skala bernombor, contoh 0-5 mewakili faktor yang sangat kurang penting.</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8"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49"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9B36-5100-4CA6-8A16-4071B494EE7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 Box 3"/>
          <p:cNvSpPr/>
          <p:nvPr/>
        </p:nvSpPr>
        <p:spPr>
          <a:xfrm>
            <a:off x="152280" y="0"/>
            <a:ext cx="8991720" cy="673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akan menggunakan skala ini untuk menimbang pilihan kepentingan faktor-faktor berkenaan.</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Narrow"/>
                <a:ea typeface="Arial Unicode MS"/>
              </a:rPr>
              <a:t>Langkah Seterusnya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Ialah memberikan skor kepada faktor-faktor pertimbang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ilihan dibuat antara 0 (lemah) hingga skor 5 (sangat baik).</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emungkinan terdapat faktor yang mendapat skor 0. Ini bermakna sekiranya penyelidik menpunyai lebih daripada 5 faktor, maka…</a:t>
            </a:r>
            <a:endParaRPr b="0" lang="en-US" sz="3600" spc="-1" strike="noStrike">
              <a:solidFill>
                <a:srgbClr val="000000"/>
              </a:solidFill>
              <a:latin typeface="Times New Roman"/>
            </a:endParaRPr>
          </a:p>
        </p:txBody>
      </p:sp>
      <p:sp>
        <p:nvSpPr>
          <p:cNvPr id="751"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52"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64C5-AD71-4C0F-8F61-DBA5AEC0A1D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Text Box 3"/>
          <p:cNvSpPr/>
          <p:nvPr/>
        </p:nvSpPr>
        <p:spPr>
          <a:xfrm>
            <a:off x="152280" y="0"/>
            <a:ext cx="8991720" cy="643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t>
            </a:r>
            <a:r>
              <a:rPr b="1" lang="en-US" sz="3600" spc="-1" strike="noStrike">
                <a:solidFill>
                  <a:srgbClr val="000000"/>
                </a:solidFill>
                <a:latin typeface="Arial Narrow"/>
                <a:ea typeface="Arial Unicode MS"/>
              </a:rPr>
              <a:t>kebarangkalian terdapat faktor-faktor tersebut yang diberikan skor yang sama atau sekiranya tidak terdapat satupun faktor yang layak diberikan skor, maka kesemuanya akan mendapat skor  0.</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rabkan setiap skor dengan nilai kepentingan yang telah ditetapkan, nilai pemberat akan diperolehi bagi setiap gabungan faktor tersebut.</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khir sekali, jumlahkan kesemua skor pemberat bagi setiap pilihan. Pilihan yang mendapat paling tinggi skor akan dipilih.</a:t>
            </a:r>
            <a:endParaRPr b="0" lang="en-US" sz="3600" spc="-1" strike="noStrike">
              <a:solidFill>
                <a:srgbClr val="000000"/>
              </a:solidFill>
              <a:latin typeface="Times New Roman"/>
            </a:endParaRPr>
          </a:p>
        </p:txBody>
      </p:sp>
      <p:sp>
        <p:nvSpPr>
          <p:cNvPr id="754"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55"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FFE6-8F46-4772-9215-D61DA1917FF8}"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Text Box 3"/>
          <p:cNvSpPr/>
          <p:nvPr/>
        </p:nvSpPr>
        <p:spPr>
          <a:xfrm>
            <a:off x="152280" y="0"/>
            <a:ext cx="89917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ontohnya, seorang guru ingin membeli sebuah komputer untuk melancarkan proses persediaan bahan bantu mengajar.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ia memerlukan sebuah komputer yang senang dibawa ke kelas.</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ia juga suka sebuah komputer yang comel dan menarik dengan harga yang tidak terlalu mahal.</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aka, pilihan yang ada :</a:t>
            </a:r>
            <a:endParaRPr b="0" lang="en-US" sz="3600" spc="-1" strike="noStrike">
              <a:solidFill>
                <a:srgbClr val="000000"/>
              </a:solidFill>
              <a:latin typeface="Times New Roman"/>
            </a:endParaRPr>
          </a:p>
        </p:txBody>
      </p:sp>
      <p:sp>
        <p:nvSpPr>
          <p:cNvPr id="757"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58"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3C31-2E13-49F5-B411-8031CBFF2D8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3"/>
          <p:cNvSpPr/>
          <p:nvPr/>
        </p:nvSpPr>
        <p:spPr>
          <a:xfrm>
            <a:off x="380880" y="0"/>
            <a:ext cx="8763120" cy="478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Lazimnya data ini direkodkan dalam bentuk susunan perkataan dan ayat.</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ta-data ini perlu dibuat analisis dan dibuat interpretasi sebelum membuat rumusan dan kesimpulan mengenainya dibuat.</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ta kualitatif yang diperolehi boleh dibuat nalisis kandungan atau analisis kandungan bahasa (</a:t>
            </a:r>
            <a:r>
              <a:rPr b="1" i="1" lang="en-US" sz="3600" spc="-1" strike="noStrike">
                <a:solidFill>
                  <a:srgbClr val="000000"/>
                </a:solidFill>
                <a:latin typeface="Arial Narrow"/>
                <a:ea typeface="Arial Unicode MS"/>
              </a:rPr>
              <a:t>discourse analysis</a:t>
            </a:r>
            <a:r>
              <a:rPr b="1" lang="en-US" sz="3600" spc="-1" strike="noStrike">
                <a:solidFill>
                  <a:srgbClr val="000000"/>
                </a:solidFill>
                <a:latin typeface="Arial Narrow"/>
                <a:ea typeface="Arial Unicode MS"/>
              </a:rPr>
              <a:t>).</a:t>
            </a:r>
            <a:endParaRPr b="0" lang="en-US" sz="3600" spc="-1" strike="noStrike">
              <a:solidFill>
                <a:srgbClr val="000000"/>
              </a:solidFill>
              <a:latin typeface="Times New Roman"/>
            </a:endParaRPr>
          </a:p>
        </p:txBody>
      </p:sp>
      <p:sp>
        <p:nvSpPr>
          <p:cNvPr id="625"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26"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4D5A-FB3F-47C9-BBEB-E7CB3407AFC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 Box 3"/>
          <p:cNvSpPr/>
          <p:nvPr/>
        </p:nvSpPr>
        <p:spPr>
          <a:xfrm>
            <a:off x="152280" y="0"/>
            <a:ext cx="8991720" cy="625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1 : Komputer riba dengan saiz monitor 14 inc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2 : Komputer riba bersaiz 10 inc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3 : Komputer desktop</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Narrow"/>
                <a:ea typeface="Arial Unicode MS"/>
              </a:rPr>
              <a:t>Kriteria yang perlu diambil kira adalah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os</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udah dibawa ke sana ke sin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nang untuk disimp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lesan untuk digunak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enyeronokkan, cantik, kukuh dsb…</a:t>
            </a:r>
            <a:endParaRPr b="0" lang="en-US" sz="3600" spc="-1" strike="noStrike">
              <a:solidFill>
                <a:srgbClr val="000000"/>
              </a:solidFill>
              <a:latin typeface="Times New Roman"/>
            </a:endParaRPr>
          </a:p>
        </p:txBody>
      </p:sp>
      <p:sp>
        <p:nvSpPr>
          <p:cNvPr id="760"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61"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1BD7-7C15-4A13-B206-EFA354F5585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3"/>
          <p:cNvSpPr/>
          <p:nvPr/>
        </p:nvSpPr>
        <p:spPr>
          <a:xfrm>
            <a:off x="152280" y="0"/>
            <a:ext cx="8991720" cy="343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Akhirnya guru berkenaan akan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embina sebuah jadual seperti di bawah dengan memberikan skor kepada setiap pilihan mengikut keutamaan bagi setiap faktor :</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64"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B80A-A357-4549-923D-38D27D7D669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graphicFrame>
        <p:nvGraphicFramePr>
          <p:cNvPr id="765" name=""/>
          <p:cNvGraphicFramePr/>
          <p:nvPr/>
        </p:nvGraphicFramePr>
        <p:xfrm>
          <a:off x="228600" y="3200400"/>
          <a:ext cx="8686800" cy="2916360"/>
        </p:xfrm>
        <a:graphic>
          <a:graphicData uri="http://schemas.openxmlformats.org/drawingml/2006/table">
            <a:tbl>
              <a:tblPr/>
              <a:tblGrid>
                <a:gridCol w="1371600"/>
                <a:gridCol w="685800"/>
                <a:gridCol w="1143000"/>
                <a:gridCol w="1295280"/>
                <a:gridCol w="933480"/>
                <a:gridCol w="1200240"/>
                <a:gridCol w="1143000"/>
                <a:gridCol w="9144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Faktor</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Kos</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udah dibawa</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udah disimpan</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elesa</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eronok</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Cantik</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r>
              <a:tr h="569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Pemberat</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r>
              <a:tr h="56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K1</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r>
              <a:tr h="56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K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4</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r>
              <a:tr h="568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K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0</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0</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Text Box 3"/>
          <p:cNvSpPr/>
          <p:nvPr/>
        </p:nvSpPr>
        <p:spPr>
          <a:xfrm>
            <a:off x="152280" y="0"/>
            <a:ext cx="8991720" cy="189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terusnya guru berkenaan akan menetapkan pemberat bagi setiap faktor antara 1-5.</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7"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68"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51EA-B7DC-4A7C-A839-83D081BCEDB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graphicFrame>
        <p:nvGraphicFramePr>
          <p:cNvPr id="769" name=""/>
          <p:cNvGraphicFramePr/>
          <p:nvPr/>
        </p:nvGraphicFramePr>
        <p:xfrm>
          <a:off x="228600" y="1523880"/>
          <a:ext cx="8686800" cy="2916360"/>
        </p:xfrm>
        <a:graphic>
          <a:graphicData uri="http://schemas.openxmlformats.org/drawingml/2006/table">
            <a:tbl>
              <a:tblPr/>
              <a:tblGrid>
                <a:gridCol w="1371600"/>
                <a:gridCol w="685800"/>
                <a:gridCol w="1143000"/>
                <a:gridCol w="1295280"/>
                <a:gridCol w="933480"/>
                <a:gridCol w="1200240"/>
                <a:gridCol w="990720"/>
                <a:gridCol w="10666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Faktor</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Kos</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udah dibawa</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udah disimpan</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elesa</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eronok</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Cantik</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Jumlah</a:t>
                      </a:r>
                      <a:endParaRPr b="0" lang="en-US" sz="16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r>
              <a:tr h="569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Pemberat</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5</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4</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r>
              <a:tr h="567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K1</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6</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5</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6</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9</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46</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r>
              <a:tr h="56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K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6</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0</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4</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6</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49</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r>
              <a:tr h="568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K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9</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0</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0</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6</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6</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Text Box 3"/>
          <p:cNvSpPr/>
          <p:nvPr/>
        </p:nvSpPr>
        <p:spPr>
          <a:xfrm>
            <a:off x="152280" y="0"/>
            <a:ext cx="8991720" cy="643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patan yang diperolehi adalah menarik kerana sekiranya dilihat sekali imbas dalam jadual pertama, kelihatan seperti K1 akan menjadi pilihan kerana kelebihan skor untuk tiga faktor selesa, seronok dan cantik.</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baliknya yang menjadi pilihan akhir adalah K2 berdasarkan perhitungan dalam jadual kedua tad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kiranya guru tersebut tidak berpuas hati dengan keputusan itu, mungkin guru boleh menyemak balik nilai pemberat yang diberikan.</a:t>
            </a:r>
            <a:endParaRPr b="0" lang="en-US" sz="3600" spc="-1" strike="noStrike">
              <a:solidFill>
                <a:srgbClr val="000000"/>
              </a:solidFill>
              <a:latin typeface="Times New Roman"/>
            </a:endParaRPr>
          </a:p>
        </p:txBody>
      </p:sp>
      <p:sp>
        <p:nvSpPr>
          <p:cNvPr id="771"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72"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87C4-FFB3-47E3-AD33-869240C92AA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3"/>
          <p:cNvSpPr/>
          <p:nvPr/>
        </p:nvSpPr>
        <p:spPr>
          <a:xfrm>
            <a:off x="152280" y="0"/>
            <a:ext cx="8991720" cy="673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unci utama dalam grid analisis dapat membantu penyelidik untuk membentangkan pilihan dalam bentuk penjadual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mberat ditetapkan untuk menunjukkan kepentingan bagi setiap skor.</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tiap pilihan diberikan skor dari lemah ke sangat baik.</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rabkan setiap skor dengan nilai pemberat setiap faktor untuk melihat taburan keseluruh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khirnya jumlahkan skor tersebut dan pilihan dibuat pada skor yang tertinggi.</a:t>
            </a:r>
            <a:endParaRPr b="0" lang="en-US" sz="3600" spc="-1" strike="noStrike">
              <a:solidFill>
                <a:srgbClr val="000000"/>
              </a:solidFill>
              <a:latin typeface="Times New Roman"/>
            </a:endParaRPr>
          </a:p>
        </p:txBody>
      </p:sp>
      <p:sp>
        <p:nvSpPr>
          <p:cNvPr id="774"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75"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39F1-BE07-4B27-BE88-5882F8099548}"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0" y="152280"/>
            <a:ext cx="8686800" cy="3733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cc"/>
                </a:solidFill>
                <a:latin typeface="Georgia"/>
              </a:rPr>
              <a:t>Sekian</a:t>
            </a:r>
            <a:r>
              <a:rPr b="0" lang="en-US" sz="3300" spc="-1" strike="noStrike">
                <a:solidFill>
                  <a:srgbClr val="cc00cc"/>
                </a:solidFill>
                <a:latin typeface="Georgia"/>
              </a:rPr>
              <a:t>, </a:t>
            </a:r>
            <a:br>
              <a:rPr sz="3300"/>
            </a:br>
            <a:r>
              <a:rPr b="0" lang="en-US" sz="3300" spc="-1" strike="noStrike">
                <a:solidFill>
                  <a:srgbClr val="cc00cc"/>
                </a:solidFill>
                <a:latin typeface="Georgia"/>
              </a:rPr>
              <a:t>Terima kasih</a:t>
            </a:r>
            <a:endParaRPr b="0" lang="en-US" sz="3300" spc="-1" strike="noStrike">
              <a:solidFill>
                <a:srgbClr val="7b9899"/>
              </a:solidFill>
              <a:latin typeface="Georgia"/>
            </a:endParaRPr>
          </a:p>
        </p:txBody>
      </p:sp>
      <p:sp>
        <p:nvSpPr>
          <p:cNvPr id="777" name="Footer Placeholder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78"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7F4B4-65DD-4CB8-B0C0-5EA1C3A4850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3"/>
          <p:cNvSpPr/>
          <p:nvPr/>
        </p:nvSpPr>
        <p:spPr>
          <a:xfrm>
            <a:off x="380880" y="0"/>
            <a:ext cx="8763120" cy="643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aedah menggumpul dan merekodkan data kualitatif melalui temu bual dan segala kemungkinan kesulitan yang tidak diduga perlu didokumentasikan dengan lengkap dan tepat.</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tidak harus bergantung kepada daya ingatannya semata-mata, tetapi sebaiknya dalam bentuk penulis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ebaikan menterjemahkan data rakaman kepada bentuk penulisan ialah penyelidik akan dapat membuat rujukan dengan lebih mudah dan cepat, sambil mencatatkan nota...</a:t>
            </a:r>
            <a:endParaRPr b="0" lang="en-US" sz="3600" spc="-1" strike="noStrike">
              <a:solidFill>
                <a:srgbClr val="000000"/>
              </a:solidFill>
              <a:latin typeface="Times New Roman"/>
            </a:endParaRPr>
          </a:p>
        </p:txBody>
      </p:sp>
      <p:sp>
        <p:nvSpPr>
          <p:cNvPr id="628"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29"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EF0C-58DB-4B8E-AA2C-EC55EC3069C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3"/>
          <p:cNvSpPr/>
          <p:nvPr/>
        </p:nvSpPr>
        <p:spPr>
          <a:xfrm>
            <a:off x="380880" y="0"/>
            <a:ext cx="8763120" cy="463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t>
            </a:r>
            <a:r>
              <a:rPr b="1" lang="en-US" sz="3600" spc="-1" strike="noStrike">
                <a:solidFill>
                  <a:srgbClr val="000000"/>
                </a:solidFill>
                <a:latin typeface="Arial Narrow"/>
                <a:ea typeface="Arial Unicode MS"/>
              </a:rPr>
              <a:t>menandakan dengan kod-kod tertentu, menyusun semula data untuk dibuat analisis dan lain-lain lag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lain itu, penyelidik akan menjadi biasa dan lebih cekap sekiranya penterjemahan daripada rakaman kepada tulisan dibuat sendiri, walaupun penyelidik boleh sahaja mengupah orang lain untuk melakukannya.</a:t>
            </a:r>
            <a:endParaRPr b="0" lang="en-US" sz="3600" spc="-1" strike="noStrike">
              <a:solidFill>
                <a:srgbClr val="000000"/>
              </a:solidFill>
              <a:latin typeface="Times New Roman"/>
            </a:endParaRPr>
          </a:p>
        </p:txBody>
      </p:sp>
      <p:sp>
        <p:nvSpPr>
          <p:cNvPr id="631"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32"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D0A9-E7CC-4C26-8F88-A8D97C7D960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3"/>
          <p:cNvSpPr/>
          <p:nvPr/>
        </p:nvSpPr>
        <p:spPr>
          <a:xfrm>
            <a:off x="380880" y="0"/>
            <a:ext cx="8763120" cy="6174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Analisis Kandungan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Walaupun tidak memerlukan teknik statistikal yang merumitkan sepertimana analisis data kuantitatif, analisis data kualitatif tidaklah semudah yang dijangkak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Ini adalah kerana data kualitatif melibatkan jumlah maklumat yang besar dan agak sukar untuk dikendalikan secara menyeluruh, sistematik dan sukar juga untuk disusn dan disesuaikan dengan data-data yang relevan.</a:t>
            </a:r>
            <a:endParaRPr b="0" lang="en-US" sz="3600" spc="-1" strike="noStrike">
              <a:solidFill>
                <a:srgbClr val="000000"/>
              </a:solidFill>
              <a:latin typeface="Times New Roman"/>
            </a:endParaRPr>
          </a:p>
        </p:txBody>
      </p:sp>
      <p:sp>
        <p:nvSpPr>
          <p:cNvPr id="634"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35"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479A-ADB0-4981-9C2C-9AE173545C1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 Box 3"/>
          <p:cNvSpPr/>
          <p:nvPr/>
        </p:nvSpPr>
        <p:spPr>
          <a:xfrm>
            <a:off x="380880" y="0"/>
            <a:ext cx="8763120" cy="478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arshall dan Rossman (1990), analisis data kualitatif merupakan satu proses menyusun, menstruktur dan memberi makna kepada himpunan data yang dikumpul.</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Ia satu proses yang cerewet, kabur, mengambil masa, kreatif dan menarik.</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ta ini tidak tersusun dalam bentuk linear dan tidak kemas.</a:t>
            </a:r>
            <a:endParaRPr b="0" lang="en-US" sz="3600" spc="-1" strike="noStrike">
              <a:solidFill>
                <a:srgbClr val="000000"/>
              </a:solidFill>
              <a:latin typeface="Times New Roman"/>
            </a:endParaRPr>
          </a:p>
        </p:txBody>
      </p:sp>
      <p:sp>
        <p:nvSpPr>
          <p:cNvPr id="637"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38"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0167-EDB9-4DAC-A677-469755588AB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5T05:09:46Z</dcterms:created>
  <dc:creator>Pusat Perkembangan Kurikulum</dc:creator>
  <dc:description/>
  <dc:language>en-US</dc:language>
  <cp:lastModifiedBy>User</cp:lastModifiedBy>
  <dcterms:modified xsi:type="dcterms:W3CDTF">2014-01-22T02:17:34Z</dcterms:modified>
  <cp:revision>446</cp:revision>
  <dc:subject/>
  <dc:title>PowerPoint Presentation</dc:title>
</cp:coreProperties>
</file>