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C17D-5B14-4D01-B04D-AC968BC4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F952-0E99-4EC9-ACEC-4942D0D3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447E-7D1C-4995-BE3D-808B6E21F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E13F-238B-47F5-8C53-139E94734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7122-8529-4459-8705-372302B4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954E-6D32-407D-A974-D7076D6D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48E0-86F3-4A60-89BE-D92684C5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A843-61C1-4E45-A902-C8E7E025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D446-1FE9-4E7F-A0B0-F64DFD07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98E0-FB11-4C15-B359-6D9070D3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CCBB-23AD-4514-A3CC-49516865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CFAE-50EC-4387-B5F9-53D88F7E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B7EDAE-9FAA-4B6F-9C5C-E817CC28D6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23C12C-C405-446E-BB84-9FCBA31D58C6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" Target="slide5.xml"/><Relationship Id="rId7" Type="http://schemas.openxmlformats.org/officeDocument/2006/relationships/image" Target="../media/image2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7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40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4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47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50" name="Picture 10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54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7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60" name="Picture 10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0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1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0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1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5:43:17Z</dcterms:created>
  <dc:creator>최봉수</dc:creator>
  <dc:description/>
  <dc:language>en-US</dc:language>
  <cp:lastModifiedBy>군만두 맛있다</cp:lastModifiedBy>
  <dcterms:modified xsi:type="dcterms:W3CDTF">2023-07-12T05:50:52Z</dcterms:modified>
  <cp:revision>2</cp:revision>
  <dc:subject/>
  <dc:title>슬라이드 1</dc:title>
</cp:coreProperties>
</file>