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A5B-8B3E-49DF-8317-B19D21A0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CC1-74E3-4956-9A5A-15C75491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91E-0D1E-4C05-A74F-C9135610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844-2756-4C9D-9037-131D43BB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734-0277-40DD-BFBE-AFA6C25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0B5-EA79-417C-ACE3-11AF02EC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F94-EF85-4583-B91B-CCDFF58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A94-466C-4343-8E11-719145C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43B-D164-4FA3-B593-8E82BAF4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33A-C1CA-4E44-BC27-B4E334A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DF7-0DA5-4979-B6F4-58C48B1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A8C-B94A-410C-9045-2916EAE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FE446-F136-43EE-9BBF-509A45420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7554D-DFB7-4122-8493-C6410867291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43:17Z</dcterms:created>
  <dc:creator>최봉수</dc:creator>
  <dc:description/>
  <dc:language>en-US</dc:language>
  <cp:lastModifiedBy>군만두 맛있다</cp:lastModifiedBy>
  <dcterms:modified xsi:type="dcterms:W3CDTF">2023-07-12T05:50:52Z</dcterms:modified>
  <cp:revision>2</cp:revision>
  <dc:subject/>
  <dc:title>슬라이드 1</dc:title>
</cp:coreProperties>
</file>