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EB6-A9DD-433E-AAFD-DBEBDE2F934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Kent u iemand die u graag zou willen veranderen of verbeteren of wie u andere gewoonten zou willen bijbrengen? Goed! Dat is prachtig! Ik ben er helemaal voor, dat u het doet. Maar waarom zou u niet met uzelf beginnen? Van een zeer egoïstisch standpunt bekeken, zal u dat heel wat meer voordelen brengen dan wanneer u zou proberen anderen te veranderen.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Suc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36A-0FFE-4EFA-89AE-0D7E9F06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521-D1B6-4797-A8EB-298D032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DE3-E6CD-4068-8ECC-49C6A1AC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5DF-D8F4-43F0-8AA5-EB421D75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A03-76AC-455D-AAF4-76BEAB0D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D82-EE5F-476F-B839-74F4D3B5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87E-0945-4B2A-A6FF-52EC868F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F0D-C37E-4210-95E5-81791CB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C1A-843F-4B8D-AEC5-922D9097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479-DDA9-4875-963E-FC326516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623-801B-4205-84EE-D520FEEB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BF7-03DC-4554-9D95-E30EF06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6C13-EBE1-435A-AE79-D38416A0C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5240" y="498600"/>
            <a:ext cx="4672080" cy="5860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35240" y="498600"/>
            <a:ext cx="4672080" cy="5860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6000" y="2565360"/>
            <a:ext cx="700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66"/>
                </a:solidFill>
                <a:latin typeface="Lucida Handwriting"/>
              </a:rPr>
              <a:t>Kent u iemand die u graag zou willen veranderen of verbe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300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4936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66"/>
                </a:solidFill>
                <a:latin typeface="Lucida Handwriting"/>
              </a:rPr>
              <a:t>of wie u andere gewoonten zou willen bijbren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9640" y="33660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Lucida Handwriting"/>
              </a:rPr>
              <a:t>Goed! Dat is prachti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74480" y="955800"/>
            <a:ext cx="62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Lucida Handwriting"/>
              </a:rPr>
              <a:t>Ik ben er helemaal voor, dat u het do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01520" y="3573360"/>
            <a:ext cx="70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66"/>
                </a:solidFill>
                <a:latin typeface="Lucida Handwriting"/>
              </a:rPr>
              <a:t>Maar waarom zou u niet met uzelf begin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13400" y="4149720"/>
            <a:ext cx="69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Dit  is  veel  gemakkelijker  te  verwezenlijken  en 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4869000"/>
            <a:ext cx="54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Lucida Handwriting"/>
              </a:rPr>
              <a:t>Zal  u  heel  wat meer voordelen  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24920" y="5516640"/>
            <a:ext cx="73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Lucida Handwriting"/>
              </a:rPr>
              <a:t>dan  wanneer u zou  proberen   anderen  te  veranderen.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116840" y="4508640"/>
            <a:ext cx="19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Lucida Handwriting"/>
              </a:rPr>
              <a:t>Suc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67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8:58:36Z</dcterms:created>
  <dc:creator/>
  <dc:description/>
  <dc:language>en-US</dc:language>
  <cp:lastModifiedBy>Smets</cp:lastModifiedBy>
  <dcterms:modified xsi:type="dcterms:W3CDTF">2011-12-20T05:22:57Z</dcterms:modified>
  <cp:revision>8</cp:revision>
  <dc:subject/>
  <dc:title>Dia 1</dc:title>
</cp:coreProperties>
</file>