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6D99-0EDF-42C5-AFF3-E960463370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Kent u iemand die u graag zou willen veranderen of verbeteren of wie u andere gewoonten zou willen bijbrengen? Goed! Dat is prachtig! Ik ben er helemaal voor, dat u het doet. Maar waarom zou u niet met uzelf beginnen? Van een zeer egoïstisch standpunt bekeken, zal u dat heel wat meer voordelen brengen dan wanneer u zou proberen anderen te veranderen.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Suc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B30-AA6B-4A44-AC42-0D9DCA21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308-9461-48CE-B694-D4126FEF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D87-3D81-434E-A59C-4746D84A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12C-A95F-40E2-AC63-92A4041D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659-78A4-451E-AE41-9330FF94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9A1-2C60-4FB3-B2E3-C1D5795C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22D-277C-4540-A0A7-462E8302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736-B4BE-4FF8-8A72-414A60A0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05B-FFE1-440A-AA25-20D4EB73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063-8297-46BA-82B2-7905351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0ED-2FAC-4737-94B1-40C34E0D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16D-341F-4690-8395-046D0FD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CF15-8E84-45CC-868E-CB70023A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5240" y="498600"/>
            <a:ext cx="4672080" cy="5860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35240" y="498600"/>
            <a:ext cx="4672080" cy="5860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6000" y="2565360"/>
            <a:ext cx="700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66"/>
                </a:solidFill>
                <a:latin typeface="Lucida Handwriting"/>
              </a:rPr>
              <a:t>Kent u iemand die u graag zou willen veranderen of verbe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300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4936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66"/>
                </a:solidFill>
                <a:latin typeface="Lucida Handwriting"/>
              </a:rPr>
              <a:t>of wie u andere gewoonten zou willen bijbren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39640" y="33660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Lucida Handwriting"/>
              </a:rPr>
              <a:t>Goed! Dat is prachti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74480" y="955800"/>
            <a:ext cx="62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Lucida Handwriting"/>
              </a:rPr>
              <a:t>Ik ben er helemaal voor, dat u het do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01520" y="3573360"/>
            <a:ext cx="70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66"/>
                </a:solidFill>
                <a:latin typeface="Lucida Handwriting"/>
              </a:rPr>
              <a:t>Maar waarom zou u niet met uzelf begin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13400" y="4149720"/>
            <a:ext cx="69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Dit  is  veel  gemakkelijker  te  verwezenlijken  en 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4869000"/>
            <a:ext cx="54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Lucida Handwriting"/>
              </a:rPr>
              <a:t>Zal  u  heel  wat meer voordelen  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24920" y="5516640"/>
            <a:ext cx="73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Lucida Handwriting"/>
              </a:rPr>
              <a:t>dan  wanneer u zou  proberen   anderen  te  veranderen.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116840" y="4508640"/>
            <a:ext cx="19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Lucida Handwriting"/>
              </a:rPr>
              <a:t>Suc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67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2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8:58:36Z</dcterms:created>
  <dc:creator/>
  <dc:description/>
  <dc:language>en-US</dc:language>
  <cp:lastModifiedBy>Smets</cp:lastModifiedBy>
  <dcterms:modified xsi:type="dcterms:W3CDTF">2011-12-20T05:22:57Z</dcterms:modified>
  <cp:revision>8</cp:revision>
  <dc:subject/>
  <dc:title>Dia 1</dc:title>
</cp:coreProperties>
</file>