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Brenda%20Lee%20-%20Just%20A%20Closer%20Walk%20With%20Thee.wav" ContentType="audio/x-wav"/>
  <Override PartName="/ppt/media/image61.jpeg" ContentType="image/jpeg"/>
  <Override PartName="/ppt/media/image35.jpeg" ContentType="image/jpeg"/>
  <Override PartName="/ppt/media/image1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22.jpeg" ContentType="image/jpeg"/>
  <Override PartName="/ppt/media/image64.gif" ContentType="image/gif"/>
  <Override PartName="/ppt/media/image36.jpeg" ContentType="image/jpeg"/>
  <Override PartName="/ppt/media/image23.jpeg" ContentType="image/jpeg"/>
  <Override PartName="/ppt/media/image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41.jpeg" ContentType="image/jpeg"/>
  <Override PartName="/ppt/media/image63.gif" ContentType="image/gif"/>
  <Override PartName="/ppt/media/image42.jpeg" ContentType="image/jpeg"/>
  <Override PartName="/ppt/media/image59.jpeg" ContentType="image/jpeg"/>
  <Override PartName="/ppt/media/image17.jpeg" ContentType="image/jpeg"/>
  <Override PartName="/ppt/media/image18.jpeg" ContentType="image/jpeg"/>
  <Override PartName="/ppt/media/image5.jpeg" ContentType="image/jpeg"/>
  <Override PartName="/ppt/media/image62.jpeg" ContentType="image/jpeg"/>
  <Override PartName="/ppt/media/image16.gif" ContentType="image/gif"/>
  <Override PartName="/ppt/media/image26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Brenda%20Lee%20-%20Just%20A%20Closer%20Walk%20With%20The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924360" y="1125360"/>
            <a:ext cx="71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Comic Sans MS"/>
              </a:rPr>
              <a:t>Amazing Railway Rout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" name=""/>
          <p:cNvSpPr/>
          <p:nvPr/>
        </p:nvSpPr>
        <p:spPr>
          <a:xfrm>
            <a:off x="1187280" y="4581360"/>
            <a:ext cx="678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8ab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684360" y="5734080"/>
            <a:ext cx="177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Brenda Le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336600"/>
            <a:ext cx="864072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  <p:sndAc>
      <p:stSnd>
        <p:snd r:embed="rId3" name="Brenda%20Lee%20-%20Just%20A%20Closer%20Walk%20With%20The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336600"/>
            <a:ext cx="864216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8036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70040" y="-243000"/>
            <a:ext cx="3965760" cy="741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6600"/>
            <a:ext cx="864216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36600"/>
            <a:ext cx="842472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336600"/>
            <a:ext cx="756144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336600"/>
            <a:ext cx="770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336600"/>
            <a:ext cx="777744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66760" y="0"/>
            <a:ext cx="50104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14560" y="0"/>
            <a:ext cx="51148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17600" y="0"/>
            <a:ext cx="47088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1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19160"/>
            <a:ext cx="7490160" cy="661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54324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19861200">
            <a:off x="324000" y="2276640"/>
            <a:ext cx="2828880" cy="180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280" y="336600"/>
            <a:ext cx="828036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332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3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011400"/>
            <a:ext cx="9325080" cy="3846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98640" y="0"/>
            <a:ext cx="534672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341280"/>
            <a:ext cx="8207280" cy="617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8000" y="336600"/>
            <a:ext cx="9036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9640" y="336600"/>
            <a:ext cx="82090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4360" y="336600"/>
            <a:ext cx="7920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28440"/>
            <a:ext cx="8713800" cy="6745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23760"/>
            <a:ext cx="6912000" cy="6810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7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95400" y="0"/>
            <a:ext cx="53532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1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59000" y="0"/>
            <a:ext cx="4626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84520" y="0"/>
            <a:ext cx="557496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8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24000" y="336600"/>
            <a:ext cx="835164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4952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88960" y="0"/>
            <a:ext cx="616608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70120" y="0"/>
            <a:ext cx="560556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57240" y="-195120"/>
            <a:ext cx="5429520" cy="7248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-28440"/>
            <a:ext cx="8569080" cy="6856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08000" y="336600"/>
            <a:ext cx="9036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-28440"/>
            <a:ext cx="8569080" cy="6856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5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71280" cy="360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00720" y="2924280"/>
            <a:ext cx="7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...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7451640" y="5445000"/>
            <a:ext cx="7207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d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2720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 flipH="1">
            <a:off x="7740720" y="4005360"/>
            <a:ext cx="1101600" cy="147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0920" y="336600"/>
            <a:ext cx="8713800" cy="618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96880" y="0"/>
            <a:ext cx="61502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73480" y="0"/>
            <a:ext cx="43970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8360" y="336600"/>
            <a:ext cx="8207280" cy="61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8:51:06Z</dcterms:created>
  <dc:creator>Coddy Sam</dc:creator>
  <dc:description>2272010</dc:description>
  <dc:language>en-US</dc:language>
  <cp:lastModifiedBy>abc</cp:lastModifiedBy>
  <dcterms:modified xsi:type="dcterms:W3CDTF">2010-07-22T19:21:22Z</dcterms:modified>
  <cp:revision>5</cp:revision>
  <dc:subject>Jesus</dc:subject>
  <dc:title>Walking With Jesus</dc:title>
</cp:coreProperties>
</file>