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C68-CCA6-4E14-A407-1AA9A9DB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67B-D3C0-4D72-AE8E-4B5F0326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77F-10FD-4E12-80F2-229BF84E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B44-150D-4499-B03E-2A2CDCF5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1CE-2891-4CA4-A167-7BCAAAA9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A20-9C6E-4C8F-AAF9-73F6C9B5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ECC-4533-4C27-8CC4-44B8EEBB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E65-89CA-4537-8E4E-7E8C58A0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F0E-ECEC-4EDB-992B-2CF7DD74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B3A-289C-4DAC-B746-C3350D6A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576-D49A-49BB-874F-7A754F5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D1A-CD2F-4D7C-8C71-3C12F0EB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C921-CB62-4BBA-AA3A-13794EBA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ptain Howdy"/>
              </a:rPr>
              <a:t>Amaz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ptain Howdy"/>
              </a:rPr>
              <a:t>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90600"/>
            <a:ext cx="9144000" cy="6075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760" y="0"/>
            <a:ext cx="871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2840" y="0"/>
            <a:ext cx="6718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5560" y="0"/>
            <a:ext cx="5491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2120"/>
            <a:ext cx="9144000" cy="587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0"/>
            <a:ext cx="4173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5920"/>
            <a:ext cx="9144000" cy="608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16200" y="0"/>
            <a:ext cx="5511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25640"/>
            <a:ext cx="9144000" cy="480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8360"/>
            <a:ext cx="9144000" cy="646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ir Millhouse Outline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9528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quiline"/>
              </a:rPr>
              <a:t>Khalid Ned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0880"/>
            <a:ext cx="9144000" cy="555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840" y="0"/>
            <a:ext cx="8518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0600"/>
            <a:ext cx="9144000" cy="6075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6920" y="0"/>
            <a:ext cx="4608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7680" y="0"/>
            <a:ext cx="81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6600"/>
            <a:ext cx="9144000" cy="6183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7:21:02Z</dcterms:created>
  <dc:creator>User</dc:creator>
  <dc:description/>
  <dc:language>en-US</dc:language>
  <cp:lastModifiedBy>User</cp:lastModifiedBy>
  <dcterms:modified xsi:type="dcterms:W3CDTF">2008-12-01T17:21:31Z</dcterms:modified>
  <cp:revision>1</cp:revision>
  <dc:subject/>
  <dc:title>Amazing photography</dc:title>
</cp:coreProperties>
</file>