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7AD-4185-47DF-974D-A5302B78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3981-AD0F-4B21-BCF3-E5D621F4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2CE-C880-4DFB-94E6-1C90C820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88F-3CE1-40EE-8CE5-5A793FCCD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FDDF-6A67-49EF-87BB-8D00D584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EDC-33E5-4001-8083-4A57A137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642-2658-4DEF-92E6-347F84C9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3B8-BBFD-40C1-A376-BE5046DE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BD3-0382-443E-88D8-0DCE7306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6FA-FFC1-48F4-894E-81E1A3E9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C72-7D31-4AFA-B904-6DD75199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DCE-A33E-49C4-9935-9EB14862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0673-AB4E-4C97-A69F-A9A9F0BC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1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ptain Howdy"/>
              </a:rPr>
              <a:t>Amazin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ptain Howdy"/>
              </a:rPr>
              <a:t>phot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90600"/>
            <a:ext cx="9144000" cy="6075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760" y="0"/>
            <a:ext cx="8718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2840" y="0"/>
            <a:ext cx="6718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25560" y="0"/>
            <a:ext cx="5491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92120"/>
            <a:ext cx="9144000" cy="587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0"/>
            <a:ext cx="41734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0"/>
            <a:ext cx="6858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5920"/>
            <a:ext cx="9144000" cy="608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16200" y="0"/>
            <a:ext cx="55116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25640"/>
            <a:ext cx="9144000" cy="480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8360"/>
            <a:ext cx="9144000" cy="646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ir Millhouse Outline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95288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quiline"/>
              </a:rPr>
              <a:t>Khalid Nedh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0880"/>
            <a:ext cx="9144000" cy="555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840" y="0"/>
            <a:ext cx="8518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0"/>
            <a:ext cx="9144000" cy="685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90600"/>
            <a:ext cx="9144000" cy="6075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66920" y="0"/>
            <a:ext cx="4608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7680" y="0"/>
            <a:ext cx="81086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36600"/>
            <a:ext cx="9144000" cy="6183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7:21:02Z</dcterms:created>
  <dc:creator>User</dc:creator>
  <dc:description/>
  <dc:language>en-US</dc:language>
  <cp:lastModifiedBy>User</cp:lastModifiedBy>
  <dcterms:modified xsi:type="dcterms:W3CDTF">2008-12-01T17:21:31Z</dcterms:modified>
  <cp:revision>1</cp:revision>
  <dc:subject/>
  <dc:title>Amazing photography</dc:title>
</cp:coreProperties>
</file>