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511-CA87-4048-A512-0A284700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2D2-E446-4A29-882E-AFEBB585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365-28CA-45F1-A572-9AAC34B5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667-223D-4E84-ABCB-E1B3D957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4B4-FB79-4EA8-9D2A-B169240C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4BE-3B71-4F56-8351-3AE3E32E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291-3046-41DA-9060-C1316DA0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D69-6D28-4306-B9EB-2AE07549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8B5-DB67-47CA-8D6A-58C6678F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F78-B01A-47D7-A69B-3004CA58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C0C-4BF8-455B-9B4B-07B2D54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03C-8729-4994-B8A4-15067976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8A32-F341-4E09-A524-B73B613D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NhËp m«n nh÷ng nguyªn lý c¬ b¶n cña chñ nghÜa M¸c-Lªnin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I. Kh¸i l­îc vÒ chñ nghÜa M¸c-Lªnin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1. Chñ nghÜa M¸c-Lªnin vµ ba bé phËn lý luËn cÊu thµ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a, Chñ nghÜa M¸c-Lªn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Lµ hÖ thèng quan ®iÓm vµ häc thuyÕt” khoa häc cña C. M¸c, Ph. ¡ngghen vµ sù ph¸t triÓn cña V.I.Lªnin; lµ sù kÕ thõa vµ ph¸t triÓn nh÷ng tinh hoa, gi¸ trÞ lÞch sö t­ t­ëng cña nh©n lo¹i, trªn c¬ së thùc tiÔn cña thêi ®¹i; lµ khoa häc vÒ sù nghiÖp gi¶i phãng giai cÊp v« s¶n, gi¶i phãng nh©n d©n lao ®éng vµ gi¶i phãng con ng­êi; lµ thÕ giíi quan vµ ph­¬ng ph¸p luËn phæ biÕn cña nhËn thøc khoa hä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iÕt häc cæ ®iÓn §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¸c kÕ thõa h¹t nh©n hîp lý cña phÐp biÖn chøng cña Hªgghen, phª ph¸n tÝnh chÊt duy t©m, thÇn bÝ cña nã, x©y dùng nªn phÐp biÖn chøng duy vËt – ph­¬ng ph¸p luËn khoa häc vµ  c¸ch m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 thõa thÕ giíi quan duy vËt cña Phoi¬b¾c, phª ph¸n tÝnh chÊt siªu h×nh kh«ng triÖt ®Ó cña nã x©y dùng nªn chñ nghÜa duy vËt biÖn chøng, thùc hiÖn cuéc c¸ch m¹ng trong triÕt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Phñ ®Þnh cña phñ ®Þ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phñ ®Þnh biÖn chø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¼ng ®Þnh c¸i cò, nh©n tè tÝch cùc cña c¸i c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æ sung thªm nh÷ng nh©n tè tÝch cùc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×nh thøc cña phñ ®Þnh biÖn chø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ñ ®Þnh lÇn thø nhÊt: sù vËt bÞ thay thÕ bëi c¸i míi ®èi lËp víi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ñ ®Þnh lÇn thø hai: sù vËt l¹i bÞ thay bëi c¸i ®èi lËp víi nã, “d­êng nh­” trë l¹i c¸i ban ®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quy lu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y luËt phñ ®Þnh cña phñ ®Þnh nªu lªn mèi liªn hÖ , sù kÕ thõa gi÷a c¸i kh¼ng ®Þnh vµ c¸i phñ ®Þnh, nhê ®ã phñ ®Þnh biÖn chøng lµ ®iÒu kiÖn cho sù ph¸t triÓn ; nã b¶o tån néi ding tÝch cùc cña c¸c giai ®o¹n tr­íc vµ bæ sung thªm nh÷ng cuéc tÝnh míi lµm cho sù ph¸t triÓn ®i theo ®­êng “xo¸y èc’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y luËt gióp chóng ta nhËn thøc vÒ xu h­íng ph¸t triÓn cña sù vËt: kh«ng theo ®­êng th¼ng, mµ diÔn ra quanh co, phøc t¹p bao gåm nhiÒu chu kú kh¸c nhau, chu kú sau bao giê còng tiÕn bé h¬n chu kú tr­í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eo quy luËt, mäi sù vËt lu«n xuÊt hiÖn c¸i míi thay thÕ c¸i cò, c¸i tiÕn bé thay thÕ c¸i l¹c hËu; c¸i míi kÕ thõa nh÷ng nh©n tè tÝch cùc cña c¸i cò, ph¶i kÕ thõa tinh hoa cña c¸i c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míi lµ c¸i hîp quy luËt, nh­ng khi míi ra ®êi nã cßn yÕu ít, Ýt ái v× vËy ph¶i t¹o ®iÒu kiÖn cho nã ph¸t triÓn, chiÕn th¾ng c¸i c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V. Lý luËn nhËn thøc duy vËt biÖn chø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Thùc tiÔn, nhËn thøc vµ vai trß cña thùc tiÔn víi nhËn thø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a, Thùc tiÔn vµ c¸c h×nh thøc c¬ b¶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thùc tiÔ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 vÒ thùc tiÔ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ña CNDVBC: Thùc tiÔn lµ toµn bé nh÷ng ho¹t ®éng vËt chÊt  cã môc ®Ých , mang tÝnh lÞch sö – x· héi cña con ng­êi nh»m c¶i biÕn tù nhiªn vµ x· hé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h×nh thøc c¬ b¶n cña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s¶n xuÊt vËt ch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con ng­êi sö dông lùc l­îng vËt chÊt t¸c ®éng vµo thÕ giíi vËt chÊt t¹o ra cña c¶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c¬ b¶n, nguyªn thuû nhÊt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chÝnh trÞ x· hé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®éng cña c¸c c¸ nh©n c¸c tæ chøc x· héi nh»m c¶I biÕn c¸c quan hÖ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o¹t déng thùc nghiÖm khoa hä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¹o ra c¸c ®iÒu kiÖn gièng hoÆc gÇn gièng c¸c tr¹ng th¸i cña tù nhiªn t×m hiÓu quy luËt biÕn ®æi ph¸t triÓn cña ®èi t­îng nghiªn cø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µy nay ®ãng vai trß ®Æc biÖt quan träng ®èi víi s¶n xuÊ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NhËn thøc vµ c¸c tr×nh ®é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¸i niÖm: qu¸ tr×nh ph¶n ¸nh thÕ giíi kh¸ch quan vµo ®Çu ãc con ng­êi, trªn c¬ së thùc tiÔ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¸c tr×nh ®é nhËn thø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th«ng th­êng, nhËn thøc khoa hä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th«ng th­êng ®­îc h×nh thµnh mét c¸ch tù ph¸t, trùc tiÕp tõ ®êi sèng hµng ngµy cña con ng­ê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khoa häc ®­îc h×nh thµnh mét c¸ch tù gi¸c, gi¸n tiÕp c¸c ®Æc ®iÓm, b¶n chÊt, tÊt yÕu cña ®èi t­îng nghiªn cø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kinh nghiÖm, nhËn thøc lý lu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kinh nghiÖm tri thøc thu nhËn tõ sù quan s¸t trùc tiÕp sù vËt trong tù nhiªn, x· héi hay trong c¸c thÝ nghiÖm khoa hä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Ën thøc lý luËn: tri thøc thu nhËn gi¸n tiÕp, trõu t­îng kh¸i qu¸t vÒ b¶n chÊt vµ quy luËt cña sù v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Vai trß cña thùc tiÔn ®èi víi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ùc tiÔn lµ c¬ së, ®éng lùc, môc ®Ých cña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ùc tiÔn lµ tiªu chuÈn ®Ó kiÓm tra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hèng nhÊt biÖn chøng thùc tiÔn vµ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2. Con ®­êng biÖn chøng cña sù nhËn thøc ch©n lý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a. Lª-nin vÒ con ®­êng biÖn chøng cña qu¸ tr×nh nhËn th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Ën thøc c¶m tÝnh ( trùc quan sinh ®éng): giai ®o¹n ®Çu tiªn cña qu¸ tr×nh nhËn thøc, ph¶n ¸nh mét c¸ch trùc tiÕp c¸c ®Æc ®iÓm thuéc tÝnh tÝnh chÊt cña sv,ht khi chóng t¸c ®éng lªn c¸c gi¸c quan cña con ng­êi, bao gåm ba h×nh thøc: c¶m gi¸c, tri gi¸c, biÓu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¶m gi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sù ph¶n ¸nh tõng ®Æc ®iÓm, tõng thuéc tÝnh, tõng tÝnh chÊt cña sv,ht khi chóng t¸c ®éng trùc tiÕp vµo gi¸c quan con ng­ê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nguån gèc cña mäi sù hiÓu biÕ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kÕt qu¶ cña sù chuyÓn ho¸ n¨ng l­îng kÝch thÝch tõ bªn ngoµi thµnh c¸c yÕu tè cña ý th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i gi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h×nh ¶nh t­¬ng ®èi toµn vÑn vÒ sù vËt khi nã t¸c ®éng trùc tiÕp vµo c¸c gi¸c quan, lµ sù tæng hîp c¸c c¶m gi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h×nh thøc nhËn thøc cao h¬n, phong phó, ®Çy ®ñ h¬n vÒ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inh tÕ chÝnh trÞ häc cæ ®iÓn A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 thõa c¸c gi¸ trÞ ®· ®¹t ®­îc cña A.Xmit vµ Ric¸c®« nh­: gi¸ trÞ cña hµng ho¸ lµ thêi gian L§XH cÇn thiÕt kÕt tinh trong hµng ho¸, quy luËt gi¸ trÞ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¬ së khoa häc chøng minh quan niÖm duy vËt vÒ lÞch sö cña M¸c, còng nh­ kinh tÕ chÝnh trÞ khoa häc cña m×nh, ®ång thêi phª ph¸n tÝnh chÊt siªu h×nh, coi CNTB lµ vÜnh cöu, kh«ng v¹ch ra ®­îc b¶n chÊt cña CN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iÓu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sù nhí l¹i, h×nh dung l¹i sù vËt khi nã kh«ng cßn trùc tiÕp t¸c ®éng vµo c¸c gi¸c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· h×nh thµnh sù tæng hîp, ph©n tÝch, ®¸nh gi¸, Ýt nhiÒu trõu t­îng ho¸ vÒ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×nh ¶nh cao nhÊt cña biÓu t­îng lµ sù t­ëng t­îng, b­íc ®Çu tiªn cña sù ph¶n ¸nh s¸ng t¹o cña trÝ tu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1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.VnTim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Ën thøc lý tÝnh ( t­ duy trõu t­îng): lµ sù ph¶n ¸nh kh¸i qu¸t, gi¸n tiÕp nh÷ng ®Æc ®iÓm, thuéc tÝnh c¬ b¶n, b¶n chÊt cña ®èi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Æc tr­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ªn c¬ së nhËn thøc c¶m tÝnh, nh­ng ph¶n ¸nh hiÖn thùc s©u s¾c h¬n: t¸ch ra vµ n¾m c¸I b¶n chÊt cã tÝnh quy lu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ao gåm ba h×nh thøc: kh¸i niÖm, ph¸n ®o¸n, suy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×nh thøc cña t­ duy trõu t­îng, ph¶n ¸nh nh÷ng ®Æc tÝnh b¶n chÊt cña sù v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nguyªn liÖu ®Ó t¹o nªn ý thøc, t­ t­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ph­¬ng tiÖn thùc hiÖn giao tiÕp, trao ®æi t­ t­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§­îc h×nh thµnh vµ ph¸t triÓn cïng víi khoa häc vµ ho¹t ®éng thùc tiÔn cña con ng­ê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éi dung cña kh¸i niÖm mang tÝnh kh¸ch quan, biÕn ®æi theo hiÖn thùc vµ ho¹t ®éng thùc tiÔn cña con ng­ê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¸n ®o¸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µ h×nh thøc liªn kÕt c¸c kh¸i niÖm ®Ó kh¼ng ®Þnh hay phñ ®Þnh mét thuéc tÝnh nµo ®ã cña sù vËt hiÖn t­î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rong ng«n ng÷ th­êng ®­îc biÓu hiÖn b»ng mét mÖnh ®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¸c h×nh thøc cña ph¸n ®o¸n: §¬n nhÊt, ®Æc thï, phæ biÕ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uy l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×nh thøc cña t­ duy liªn kÕt c¸c ph¸n ®o¸n ®Ó rót ra tri thøc míi vÒ sù vËt, hiÖn t­îng b»ng ph¸n ®o¸n mí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«ng cô s¾c bÐn nhÊt cña t­ duy: mäi khoa häc ®Òu dùa trªn suy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n ¸nh gi¸n tiÕp sù vËt th«ng qua ph¸n ®o¸n tiÒn ®Ò, sù tu©n thñ c¸c quy t¾c l«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èi quan hÖ gi÷a nhËn thøc c¶m tÝnh vµ nhËn thøc lý tÝ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thèng nhÊt gi÷a hai giai ®o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kh¸c nhau gi÷a ch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èi quan hÖ biÖn chøng gi÷a hai giai ®o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Ch©n lý vµ vai trß cña ch©n lý víi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Tri thøc phï hîp víi ®èi t­îng vµ ®­îc thùc tiÔn kiÓm nghiÖ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tÝnh ch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tuyÖt ®èi vµ tÝnh t­¬ng ®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ch©n lý ®èi víi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Vai trß cña ch©n lý ®èi víi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oi ®­êng, dÉn d¾t, chØ ®¹o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Gi¸o dôc, thuyÕt phôc, ®éng viªn, tËp hîp quÇn ch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§Þnh h­íng cho ho¹t ®éng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hèng bÖnh kinh nghiÖm, tuyÖt ®èi ho¸ thùc tiÔn, coi th­êng lý luË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hèng bÖnh gi¸o ®iÒu, tuyÖt ®èi ho¸ lý luËn, coi th­êng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oi träng c¶ lý luËn, c¶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H"/>
              </a:rPr>
              <a:t>Ch­¬ng II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H"/>
              </a:rPr>
              <a:t> Chñ nghÜa duy vËt lÞch sö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. Vai trß cña s¶n xuÊt vËt chÊt vµ quy luËt QHSX phï hîp víi tr×nh ®é ph¸t triÓn cña LLSX 1. S¶n xuÊt vËt chÊt vµ vai trß cña n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s¶n xuÊt vËt chÊt vµ ph­¬ng thøc s¶n xu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¸i niÖm s¶n xuÊt vËt ch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¸c nh©n tè c¬ b¶n cña qu¸ tr×nh SXV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g­êi lao ®é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­ liÖu s¶n xu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¸i niÖm ph­¬ng thøc s¶n xu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¸c yÕu tè cña ph­¬ng thøc s¶n xu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Lùc l­îng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Quan hÖ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ñ nghÜa x· héi kh«ng t­ëng Ph¸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 thõa sù phª ph¸n nh÷ng h¹n chÕ, bÊt c«ng ¸p bøc, bãc lét trong CNTB,…vµ chøng minh x· héi t­ b¶n chØ lµ b­íc qu¸ ®é lªn x· héi míi x· héi XHCN cña c¸c 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ai «ng lo¹i bá tÝnh kh«ng t­ëng, v¹ch ra sø mÖnh lÞch sö cña giai cÊp c«ng nh©n ®­a CNXH tõ kh«ng t­ëng thµnh khoa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s¶n xuÊt vËt chÊt vµ ph­¬ng thøc s¶n xuÊt ®èi víi sù tån t¹i vµ ph¸t triÓn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s¶n xuÊt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ph­¬ng thøc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lo¹i h×nh ph­¬ng thøc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Quy luËt QHSX phï hîp víi tr×nh ®é ph¸t triÓn cña LL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s¶n xuÊt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­êi lao ®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yÕu tè cña LLSX: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­ liÖu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oa häc-c«ng ngh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s¶n xuÊt: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së h÷u TL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a mÆt cña QHSX: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tæ chøc s¶n x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ph©n phè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191120" y="45720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190760" y="5029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6708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5029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495680" y="2971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LLSX vµ QH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thèng nhÊt gi÷a LLSX vµ QH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quyÕt ®Þnh cña LLSX ®èi víi QH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trë l¹i cña QHSX ®èi víi LL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vµ ®éng lùc c¬ b¶n cña sù vËn ®éng ph¸t triÓn cña c¸c PTSX lµ m©u thuÉn biÖn chøng gi÷a LLSX vµ QH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I. BiÖn chøng cña c¬ së h¹ tÇng vµ kiÕn tróc th­îng tÇ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Kh¸i niÖm CSHT vµ KT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CS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§Æc ®iÓm:  Lµ quan hÖ “vËt chÊt”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tiªu chÝ ph©n biÖt c¸c HTKT-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HSX thèng tr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yÕu tè hîp thµnh CSHT:    QHSX tµn d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HSX t­¬ng l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KTT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yÕu tè cña KTTT:    Quan ®iÓm, t­ t­ëng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thiÕt chÕ “vËt chÊ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334120" y="35053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341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34120" y="39625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5680" y="5638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Mèi quan hÖ biÖn chøng gi÷a CSHT vµ KT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quyÕt ®Þnh cña CSHT ®èi víi KT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quyÕt ®Þnh cña CSHT ®èi víi KT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trë l¹i cña KTTT ®èi víi CS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cña KTTT ®èi víi CS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II. Tån t¹i x· héi quyÕt ®Þnh ý thøc x· héi vµ tÝnh ®éc lËp t­¬ng ®èi cña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Tån t¹i x· héi quyÕt ®Þnh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tån tai x· héi vµ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quyÕt ®Þnh cña tån t¹i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TÝnh ®éc lËp t­¬ng ®èi cña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®éc lËp t­¬ng ®èi cña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Tån t¹i x· héi quyÕt ®Þnh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ån t¹i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quyÕt ®Þnh cña tån t¹i x· héi ®èi víi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néi dung quyÕt ®Þnhcña tån t¹i x· héi ®èi víi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TÝnh ®éc lËp t­¬ng ®èi cña ý thøc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®éc lËp t­¬ng ®èi cña ý thøc x· hé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l¹c hËu cña YTXH so víi T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v­ît tr­íc cña YTXH ®èi víi T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kÕ thõa lÉn nhau cña c¸c h×nh th¸i Y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lÉn nhau cña c¸c h×nh th¸i Y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trë l¹i cña YTXH ®èi víi TT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V. H×nh th¸i kinh tÕ – x· héi vµ qu¸ tr×nh lÞch sö - tù nhiªn cña sù ph¸t triÓn c¸c h×nh th¸i kinh tÕ -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lÞch sö – tù nhiªn sù ph¸t triÓn cña c¸c HTKT-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nh©n tè chñ quan ®èi víi tiÕn tr×nh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èng nhÊt biÖn chøng gi÷a nh©n tè kh¸ch quan vµ nh©n tè chñ quan ®èi víi sù vËn ®éng ph¸t triÓn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.VnTime"/>
              </a:rPr>
              <a:t>1. Giai cÊp vµ vai trß cña ®Êu tranh giai cÊ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a, Kh¸i niÖm giai cÊp, tÇng líp x· h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tÇng líp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, Nguån gèc giai cÊ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trùc tiÕ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s©u 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, Vai trß cña ®Êu tranh giai cÊp ®èi víi sù vËn ®éng, ph¸t triÓn cña c¸c XH cã ®èi kh¸ng g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iÒn ®Ò khoa häc tù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Þnh luËt b¶o toµn vµ chuyÓn ho¸ n¨ng l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uyÕt tÕ bµ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uyÕt tiÕn ho¸ §¸c u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oa häc ®· v¹ch ra mèi liªn hÖ thèng nhÊt gi÷a c¸c d¹ng tån t¹i kh¸c nhau, c¸c h×nh thøc vËn ®éng mang tÝnh biÖn chøng cña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V. Vai trß cña ®Êu tranh giai cÊp vµ c¸ch m¹ng x· héi ®èi víi sù vËn ®éng, ph¸t triÓn cña x· héi cã ®èi kh¸ng giai cÊ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Giai cÊp vµ vai trß cña ®Êu tranh giai cÊ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Vai trß cña ®Êu tranh giai cÊ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Êu tranh giai cÊp vµ c¸c h×nh thøc ®Êu tranh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µ n­íc – c«ng cô chuyªn chÝnh cña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®Êu tranh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C¸ch m¹ng x· héi vµ vai trß cña nã ®èi víi sù ph¸t triÓn cña x· héi cã ®èi kh¸ng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c¸ch m¹ng x· héi vµ nguån gèc c¸ch m¹ng x· hé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c¸ch m¹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c¸ch m¹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cña c¸ch m¹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ph­¬ng thøc cña sù vËn ®éng vµ ph¸t triÓn cña x· héi cã ®èi kh¸ng giai cÊ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®éng lùc ph¸t triÓn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I. Quan ®iÓm cña CNDVLS vÒ con ng­êi vµ vai trß s¸ng t¹o lÞch sö cña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Con ng­êi vµ b¶n chÊt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B¶n chÊt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Kh¸i niÖm quÇn chóng nh©n d©n vµ vai trß s¸ng t¹o lÞch sö cña quÇn chóng nh©n d©n vµ c¸ nh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s¸ng t¹o lÞch sö cña quÇn chóng nh©n d©n vµ vai trß cña c¸ nh©n trong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Con ng­êi vµ b¶n chÊt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con ng­ê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tù nhiªn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x· héi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hèng nhÊt biÖn chøng gi÷a hai mÆt tù nhiªn vµ x· héi trong ho¹t ®éng hiÖn thùc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B¶n chÊt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 vÒ b¶n chÊt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ña CNDVLS vÒ b¶n chÊt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¨ng lùc s¸ng t¹o lÞch sö cña con ng­êi vµ c¸c ®iÒu kiÖn ph¸t huy n¨ng lùc s¸ng t¹o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i¶i phãng con ng­êi – gi¶i phãng ®éng lùc c¬ b¶n cña sù ph¸t triÓn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Kh¸i niÖm quÇn chóng nh©n d©n vµ vai trß s¸ng t¹o lÞch sö cña QCND vµ c¸ nh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 vÒ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quÇn chóng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s¸ng t¹o lÞch sö cña QCND vµ vai trß cña c¸ nh©n trong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Çn chóng nh©n d©n lµ chñ thÓ s¸ng t¹o lÞch sö vµ lµ lùc l­îng quyÕt sù ph¸t triÓn lÞch sö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chñ yÕu t¹o ra cña c¶i vËt chÊt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chñ yÕu s¸ng t¹o c¸c gi¸ trÞ tinh th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c¬ b¶n cña c¸c cuéc c¸ch m¹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c¸ nh©n, vÜ nh©n ®èi víi sù ph¸t triÓn cña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. §iÒu kiÖn ra ®êi triÕt häc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6320" y="990720"/>
            <a:ext cx="8991000" cy="5486400"/>
            <a:chOff x="76320" y="990720"/>
            <a:chExt cx="8991000" cy="5486400"/>
          </a:xfrm>
        </p:grpSpPr>
        <p:sp>
          <p:nvSpPr>
            <p:cNvPr id="82" name=""/>
            <p:cNvSpPr/>
            <p:nvPr/>
          </p:nvSpPr>
          <p:spPr>
            <a:xfrm>
              <a:off x="3200040" y="990720"/>
              <a:ext cx="2514240" cy="12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§iÒu kiÖn ra ®ê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TriÕt häc M¸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76320" y="2743200"/>
              <a:ext cx="2819160" cy="3733920"/>
              <a:chOff x="76320" y="2743200"/>
              <a:chExt cx="2819160" cy="3733920"/>
            </a:xfrm>
          </p:grpSpPr>
          <p:sp>
            <p:nvSpPr>
              <p:cNvPr id="84" name=""/>
              <p:cNvSpPr/>
              <p:nvPr/>
            </p:nvSpPr>
            <p:spPr>
              <a:xfrm>
                <a:off x="228600" y="2743200"/>
                <a:ext cx="25146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§iÒu kiÖn kinh tÕ x· héi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T©y ¢u vµo thÕ kû XI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343400"/>
                <a:ext cx="83808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ñng c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vµ ph¸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r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PTS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BC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66680" y="4343400"/>
                <a:ext cx="83844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GCV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b­íc lª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vò ®µi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hÝnh tr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57400" y="4343400"/>
                <a:ext cx="83808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Nhu cÇu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lý luË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ña thù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iÔn c¸c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m¹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7200" y="411480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7200" y="4114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38280" y="4114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47920" y="36576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200040" y="4267080"/>
              <a:ext cx="83808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TriÕ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häc c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®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§ø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90760" y="4267080"/>
              <a:ext cx="83772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Kinh t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chÝnh tr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häc 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480" y="4267080"/>
              <a:ext cx="83772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CNX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kh«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t­ë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Ph¸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1280" y="403848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128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36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1640" y="3581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248160" y="2743200"/>
              <a:ext cx="2819160" cy="3733920"/>
              <a:chOff x="6248160" y="2743200"/>
              <a:chExt cx="2819160" cy="3733920"/>
            </a:xfrm>
          </p:grpSpPr>
          <p:sp>
            <p:nvSpPr>
              <p:cNvPr id="100" name=""/>
              <p:cNvSpPr/>
              <p:nvPr/>
            </p:nvSpPr>
            <p:spPr>
              <a:xfrm>
                <a:off x="6400440" y="2743200"/>
                <a:ext cx="25146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Nh÷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tiÒn ®Ò khoa häc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.VnTime"/>
                  </a:rPr>
                  <a:t>tù nhiª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48160" y="4343400"/>
                <a:ext cx="83808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§Þn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luËt b¶o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oµn v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huy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hãa n¨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l­î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238520" y="4343400"/>
                <a:ext cx="83844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Hä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huyÕ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vÒ t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bµ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9240" y="4343400"/>
                <a:ext cx="83808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Hä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huyÕ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iÕn hã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ñ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§¸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Uy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629040" y="411480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629040" y="4114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10120" y="4114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19760" y="36576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447560" y="1600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7560" y="160020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19760" y="1676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714280" y="16765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571640" y="2209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040" y="2743200"/>
              <a:ext cx="26668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Nguån gèc lý luË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. ChuyÓn biÕn t­ t­ëng cña C.M¸c vµ Ph.¡ng ghen tõ 1842 - 18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920" y="1366920"/>
            <a:ext cx="8381880" cy="5414760"/>
            <a:chOff x="304920" y="1366920"/>
            <a:chExt cx="8381880" cy="5414760"/>
          </a:xfrm>
        </p:grpSpPr>
        <p:grpSp>
          <p:nvGrpSpPr>
            <p:cNvPr id="116" name=""/>
            <p:cNvGrpSpPr/>
            <p:nvPr/>
          </p:nvGrpSpPr>
          <p:grpSpPr>
            <a:xfrm>
              <a:off x="304920" y="1366920"/>
              <a:ext cx="8381880" cy="5414760"/>
              <a:chOff x="304920" y="1366920"/>
              <a:chExt cx="8381880" cy="5414760"/>
            </a:xfrm>
          </p:grpSpPr>
          <p:sp>
            <p:nvSpPr>
              <p:cNvPr id="117" name=""/>
              <p:cNvSpPr/>
              <p:nvPr/>
            </p:nvSpPr>
            <p:spPr>
              <a:xfrm>
                <a:off x="1370160" y="1366920"/>
                <a:ext cx="3201840" cy="137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-PhÐp BC  cña Hª ghe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-CNDV Phoi ¬ b¾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0880" y="3581280"/>
                <a:ext cx="213372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C.M¸c ho¹t ®é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ë b¸o S«ng Ran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920" y="5638680"/>
                <a:ext cx="220968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X· héi §ø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®Çu thÕ kû XI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05320" y="3581280"/>
                <a:ext cx="213336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C.M¸c vµ ¡ng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ghen ho¹t ®é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ë Ph¸p vµ An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29000" y="5638680"/>
                <a:ext cx="220968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XHTB T©y ¢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§Çu TK XI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77120" y="3581280"/>
                <a:ext cx="220968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-CNDT-&gt;CND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-DCCM-&gt;CN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371240" y="2743200"/>
                <a:ext cx="1600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5480" y="2743200"/>
                <a:ext cx="1600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14600" y="42670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38680" y="41911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66680" y="4952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676520" y="4952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91120" y="4952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724280" y="4952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514600" y="6172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. C.M¸c vµ Ph.¡ng ghen ®Ò xuÊt t­ t­ëng triÕt häc giai ®o¹n 1844 - 18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" y="1981080"/>
            <a:ext cx="8686800" cy="3733920"/>
            <a:chOff x="228600" y="1981080"/>
            <a:chExt cx="8686800" cy="3733920"/>
          </a:xfrm>
        </p:grpSpPr>
        <p:sp>
          <p:nvSpPr>
            <p:cNvPr id="134" name=""/>
            <p:cNvSpPr/>
            <p:nvPr/>
          </p:nvSpPr>
          <p:spPr>
            <a:xfrm>
              <a:off x="228600" y="4419720"/>
              <a:ext cx="27003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XHTB T©y ¢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gi÷a TK X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7080" y="4419720"/>
              <a:ext cx="27003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Phong trµo ®Êu tra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giai cÊp v« s¶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1981080"/>
              <a:ext cx="304776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Ho¹t ®éng cñ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.M¸c vµ Ph.¡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g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1981080"/>
              <a:ext cx="304812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§Ò xuÊt c¸c nguyªn lý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.VnTim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- CNDC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43000" y="3581280"/>
              <a:ext cx="2176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752480" y="3580920"/>
              <a:ext cx="1916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2003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3581280"/>
              <a:ext cx="2003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800" y="5105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¸c, ¡ngghen víi qu¸ tr×nh h×nh thµnh vµ ph¸t triÓn chñ nghÜa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¸c, ¡ngghen víi qu¸ tr×nh ph¸t triÓn chñ nghÜa M¸c (giai ®o¹n 1848-18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æng kÕt kinh nghiÖm cña phong trµo c«ng nh©n víi c¸c t¸c phÈm: §Êu tranh giai cÊp ë Ph¸p, Ngµy m­êi t¸m th¸ng S­¬ng mï cña Lui B«nap¸ct¬, Phª ph¸n c­¬ng lÜnh G«t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¸c phÈm “T­ b¶n” kh«ng chØ lµ c«ng tr×nh vÒ kinh tÕ mµ cßn lµ t¸c phÈm triÕt hä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¸c phÈm “BiÖn chøng cña tù nhiªn”, “Chèng §uy- rinh” kh¸i qu¸t c¸c thµnh tùu khoa häc phª ph¸n c¸c lý luËn triÕt häc duy t©m, siªu h×nh, b¶o vÖ chñ nghÜa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. M¸c vµ Ph.¡ngghen bæ xung vµ ph¸t triÓn CNDVBC vµ CNDV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66680" y="1981080"/>
            <a:ext cx="7391520" cy="4267440"/>
            <a:chOff x="1066680" y="1981080"/>
            <a:chExt cx="7391520" cy="4267440"/>
          </a:xfrm>
        </p:grpSpPr>
        <p:sp>
          <p:nvSpPr>
            <p:cNvPr id="148" name=""/>
            <p:cNvSpPr/>
            <p:nvPr/>
          </p:nvSpPr>
          <p:spPr>
            <a:xfrm>
              <a:off x="1066680" y="1981080"/>
              <a:ext cx="2743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Lý luËn cña C.M¸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vµ Ph.¡ng g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3200400"/>
              <a:ext cx="274320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Bæ xung vµ ph¸t tr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BC v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4495680"/>
              <a:ext cx="2743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Phong trµo ®Êu tra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ña GCV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52480" y="3733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971800" y="3733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1800" y="41148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. B­íc chuyÓn biÕn c¸ch m¹ng cña triÕt häc M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9480" y="533520"/>
            <a:ext cx="8152920" cy="6172200"/>
            <a:chOff x="609480" y="533520"/>
            <a:chExt cx="8152920" cy="6172200"/>
          </a:xfrm>
        </p:grpSpPr>
        <p:grpSp>
          <p:nvGrpSpPr>
            <p:cNvPr id="156" name=""/>
            <p:cNvGrpSpPr/>
            <p:nvPr/>
          </p:nvGrpSpPr>
          <p:grpSpPr>
            <a:xfrm>
              <a:off x="609480" y="533520"/>
              <a:ext cx="8152920" cy="6172200"/>
              <a:chOff x="609480" y="533520"/>
              <a:chExt cx="8152920" cy="6172200"/>
            </a:xfrm>
          </p:grpSpPr>
          <p:sp>
            <p:nvSpPr>
              <p:cNvPr id="157" name=""/>
              <p:cNvSpPr/>
              <p:nvPr/>
            </p:nvSpPr>
            <p:spPr>
              <a:xfrm>
                <a:off x="1142640" y="533520"/>
                <a:ext cx="2286000" cy="13716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riÕt häc tr­í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M¸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38680" y="533520"/>
                <a:ext cx="2286000" cy="13716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riÕt häc M¸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609480" y="2210040"/>
                <a:ext cx="3276000" cy="4495680"/>
                <a:chOff x="609480" y="2210040"/>
                <a:chExt cx="3276000" cy="44956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09480" y="22100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vËt siªu h×n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BiÖn chøng duy t©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9480" y="31244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vËt trong tù nhiª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t©m trong x· hé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9480" y="40388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ChØ chó ý gi¶i thÝch th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giíi, kh«ng chó ý c¶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t¹o thÕ giíi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09480" y="49532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ThÕ giíi quan cña giai cÊp bãc lét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kh«ng cã tÝnh khoa häc triÖt ®Ó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9480" y="5867640"/>
                  <a:ext cx="327600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Coi triÕt häc lµ khoa häc cña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c¸c khoa hä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94560" y="3048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194560" y="39625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00400" y="48769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00400" y="57913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800240" y="2210040"/>
                <a:ext cx="3962160" cy="4495680"/>
                <a:chOff x="4800240" y="2210040"/>
                <a:chExt cx="3962160" cy="44956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800240" y="22100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-Duy vËt biÖn chø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- BiÖn chøng duy vË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800240" y="31244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vËt trong tù nhiª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.VnTim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Duy vËt trong x· hé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800240" y="40388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Coi thùc tiÔn lµ trung t©m, lý luËn ph¶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phôc vô thùc tiÔn c¶i t¹o thÕ gií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800240" y="49532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ThÕ giíi quan cña giai cÊp v« s¶n thè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nhÊt gi÷a tÝnh c¸ch m¹ng vµ tÝnh khoa hä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800240" y="5867640"/>
                  <a:ext cx="3962160" cy="83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TriÕt häc M¸c lµ thÕ giíi quan v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ph­¬ng ph¸p luËn chung nhÊt cho c¸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.VnTime"/>
                    </a:rPr>
                    <a:t>khoa häc cô thÓ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961320" y="30481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961320" y="39625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61320" y="48769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961320" y="57913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6781680" y="1905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85640" y="1905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885840" y="25909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5840" y="3581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5840" y="4419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5840" y="5334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5840" y="6248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990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.VnTimeH"/>
              </a:rPr>
              <a:t>Chñ nghÜa M¸c-Lª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762120"/>
            <a:ext cx="61722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.VnTimeH"/>
              </a:rPr>
              <a:t>Chñ nghÜa M¸c-lª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590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8195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.VnTime"/>
              </a:rPr>
              <a:t>TriÕt hä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281952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2819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895480"/>
            <a:ext cx="266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971800"/>
            <a:ext cx="316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.VnTime"/>
              </a:rPr>
              <a:t>Kinh tÕ chÝnh tr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819520"/>
            <a:ext cx="2743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.VnTime"/>
              </a:rPr>
              <a:t>CNXH khoa hä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676520" y="2209680"/>
            <a:ext cx="2590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209680"/>
            <a:ext cx="3124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Lªnin víi viÖc b¶o vÖ vµ ph¸t triÓn chñ nghÜa M¸c trong ®iÒu kiÖn lÞch sö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Bèi c¶nh lÞch sö míi vµ nhu cÇu b¶o vÖ, ph¸t triÓn chñ nghÜa M¸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ai trß cña Lªnin ®èi víi viÖc b¶o vÖ vµ ph¸t triÓn chñ nghÜa M¸c trong ®iÒu kiÖn lÞch sö mí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iai ®o¹n V.I Lªnin ph¸t triÓn triÕt häc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5800" y="1523880"/>
            <a:ext cx="7924680" cy="5029200"/>
            <a:chOff x="685800" y="1523880"/>
            <a:chExt cx="7924680" cy="5029200"/>
          </a:xfrm>
        </p:grpSpPr>
        <p:sp>
          <p:nvSpPr>
            <p:cNvPr id="191" name=""/>
            <p:cNvSpPr/>
            <p:nvPr/>
          </p:nvSpPr>
          <p:spPr>
            <a:xfrm>
              <a:off x="685800" y="5562720"/>
              <a:ext cx="243828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-CNTB -&gt; CN§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- CMV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8480" y="5562720"/>
              <a:ext cx="320040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.VnTim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M th¸ng M­êi Ng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.VnTim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XD CNXH ë n­íc Ng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3505320"/>
              <a:ext cx="22860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Ho¹t ®éng c¸ch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m¹ng cñ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V.I.Lªn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38280" y="1523880"/>
              <a:ext cx="297180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KHTN cuèi thÕ k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XIX ®Çu thÕ kû 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295280" y="4724280"/>
              <a:ext cx="1981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905120" y="4723920"/>
              <a:ext cx="17524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4724280"/>
              <a:ext cx="1600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4114800" y="4723920"/>
              <a:ext cx="1828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6720" y="281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962520" y="28191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2200" y="3505320"/>
              <a:ext cx="243828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Ph¸t tr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BC v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"/>
                </a:rPr>
                <a:t>CNDV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10080" y="2057400"/>
              <a:ext cx="243864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5409720" y="2285640"/>
              <a:ext cx="2057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41148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172200" y="47242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629400" y="47239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æng qu¸t c¸c giai ®o¹n h×nh thµnh, ph¸t triÓn triÕt häc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8600" y="1371600"/>
            <a:ext cx="8839080" cy="5334120"/>
            <a:chOff x="228600" y="1371600"/>
            <a:chExt cx="8839080" cy="5334120"/>
          </a:xfrm>
        </p:grpSpPr>
        <p:grpSp>
          <p:nvGrpSpPr>
            <p:cNvPr id="209" name=""/>
            <p:cNvGrpSpPr/>
            <p:nvPr/>
          </p:nvGrpSpPr>
          <p:grpSpPr>
            <a:xfrm>
              <a:off x="3200400" y="1371600"/>
              <a:ext cx="3123720" cy="5334120"/>
              <a:chOff x="3200400" y="1371600"/>
              <a:chExt cx="3123720" cy="5334120"/>
            </a:xfrm>
          </p:grpSpPr>
          <p:sp>
            <p:nvSpPr>
              <p:cNvPr id="210" name=""/>
              <p:cNvSpPr/>
              <p:nvPr/>
            </p:nvSpPr>
            <p:spPr>
              <a:xfrm>
                <a:off x="3200400" y="1371600"/>
                <a:ext cx="312372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.M¸c ho¹t ®éng ë b¸o S«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Ranh, Thùc tiÔn ë Ph¸p vµ Anh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00400" y="2743200"/>
                <a:ext cx="312372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õ thùc tiÔn phong trµo ®Ê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ranh cña giai cÊp v« s¶n ë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¸c n­íc t­ b¶n T©y ¢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00400" y="4114800"/>
                <a:ext cx="312372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§­a lý luËn vµo phong trµ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GCVS vµ tæng kÕt kin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nghiÖm thùc tiÔ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00400" y="5486400"/>
                <a:ext cx="312372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NTB chuyÓn sang CND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MVS vµ n­íc x· héi chñ nghÜ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®Çu tiªn ra ®êi. Khoa häc c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b­íc ph¸t triÓn míi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553080" y="1371600"/>
              <a:ext cx="2514600" cy="5334120"/>
              <a:chOff x="6553080" y="1371600"/>
              <a:chExt cx="2514600" cy="5334120"/>
            </a:xfrm>
          </p:grpSpPr>
          <p:sp>
            <p:nvSpPr>
              <p:cNvPr id="215" name=""/>
              <p:cNvSpPr/>
              <p:nvPr/>
            </p:nvSpPr>
            <p:spPr>
              <a:xfrm>
                <a:off x="6553080" y="1371600"/>
                <a:ext cx="2514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.M¸c vµ Ph.¡ng gh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huy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õ CNDT sang CNDV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tõ DCCM sang CNC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53080" y="2743200"/>
                <a:ext cx="2514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.M¸c vµ Ph.¡ng gh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®Ò xuÊt c¸c nguyªn lý cñ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NDVBC vµ CNDV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53080" y="4114800"/>
                <a:ext cx="2514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.M¸c vµ Ph.¡ng gh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bæ xung, ph¸t tr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NDVBC vµ CNDV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486400"/>
                <a:ext cx="2514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Lªnin b¶o vÖ vµ ph¸t tr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CNDVBC vµ CNDVLS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§Æc biÖt lµ lý luËn CMV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vµ x©y dùng CNX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752480" y="1371600"/>
              <a:ext cx="914400" cy="5334120"/>
              <a:chOff x="1752480" y="1371600"/>
              <a:chExt cx="914400" cy="5334120"/>
            </a:xfrm>
          </p:grpSpPr>
          <p:sp>
            <p:nvSpPr>
              <p:cNvPr id="220" name=""/>
              <p:cNvSpPr/>
              <p:nvPr/>
            </p:nvSpPr>
            <p:spPr>
              <a:xfrm>
                <a:off x="1752480" y="1371600"/>
                <a:ext cx="91440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52480" y="2819520"/>
                <a:ext cx="91440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52480" y="4191120"/>
                <a:ext cx="91440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52480" y="5562720"/>
                <a:ext cx="914400" cy="114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89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.VnTime"/>
                  </a:rPr>
                  <a:t>19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228600" y="1371600"/>
              <a:ext cx="1295280" cy="388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Giai ®o¹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C.M¸c vµ P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¡ng g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x©y dùn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ph¸t tr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triÕt hä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cña m×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8600" y="5486400"/>
              <a:ext cx="12952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Giai ®o¹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Lªnin ph¸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triÓn triÕ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häc M¸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2388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688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448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33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2448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688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448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66880" y="6095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24480" y="6019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3880" y="327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23880" y="4724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388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8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5257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d, Chñ nghÜa M¸c-Lªnin vµ thùc tiÔn phong trµo c¸ch m¹ng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ñ nghÜa M¸c-Lªnin víi c¸ch m¹ng v« s¶n 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ñ nghÜa M¸c-Lªnin víi phong trµo ®Êu tranh gi¶i phãng d©n téc vµ x©y dùng CNXH trªn ph¹m vi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I. §èi t­îng, môc ®Ých vµ yªu cÇu vÒ ph­¬ng ph¸p häc tËp, nghiªn cøu nh÷ng nguyªn lý c¬ b¶n cña chñ nghÜa M¸c-Lª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èi t­îng vµ ph¹m vi häc tËp, nghiªn cø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§èi t­îng: Nh÷ng quan ®iÓm vµ häc thuyÕt cña M¸c, ¡ngghen vµ Lª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¹m vi: Nh÷ng quan ®iÓm vµ häc thuyÕt c¬ b¶n nhÊt thuéc ba bé phËn c¬ b¶n cÊu thµnh chñ nghÜa M¸c-Lª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Môc ®Ých vµ yªu cÇu vÒ mÆt ph­¬ng ph¸p häc tËp nghiªn cø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Môc ®Ých cña viÖc häc tËp nghiªn cø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©y dùng thÕ giíi quan, ph­¬ng ph¸p luËn khoa häc vµ vËn dông s¸ng t¹o trong ho¹t ®éng nhËn thøc vµ ho¹t ®é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Óu ®­îc c¬ së lý luËn quan träng nhÊt cho c¸c m«n häc: T­ t­ëng Hå ChÝ Minh, §­êng lèi cña §¶ng céng s¶n ViÖt 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¾m ®­îc nÒn t¶ng t­ t­ëng cña §¶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»m x©y dùng niÒm tin, lý t­ëng cho sinh v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ét sè yªu cÇu c¬ b¶n vÒ ph­¬ng ph¸p häc tËp, nghiªn cø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­êng xuyªn g¾n kÕt nh÷ng quan ®iÓm c¬ b¶n cña chñ nghÜa M¸c-Lªnin víi thùc tiÔn cña ®Êt n­íc vµ thêi ®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n¾m v÷ng tinh thÇn, thùc chÊt cña nã; tr¸nh bÖnh kinh viÖn, gi¸o ®iÒu trong häc tËp vËn dông c¸c nguyªn lý c¬ b¶n ®ã tro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äc tËp nghiªn cøu mçi nguyªn lý ph¶i g¾n víi quan hÖ víi c¸c nguyªn lý kh¸c, víi bé phËn cÊu thµnh kh¸c ®Ó hiÓu sù thèng nhÊt vµ nhÊt qu¸n cña chñ nghÜa M¸c-Lªnin, vµ hiÓu nã trong tiÕn tr×nh lÞch sö t­ t­ëng nh©n lo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ThÕ giíi quan vµ ph­¬ng ph¸p luËn triÕt häc cña chñ nghÜa M¸c-Lª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Õ giíi quan vµ ph­¬ng ph¸p luËn triÕt häc lµ bé phËn lý luËn nÒn t¶ng cña chñ nghÜa M¸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NDVBC: h¹t nh©n lý luËn cña thÕ giíi quan khoa hä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BCDV: häc thuyÕt vÒ sù ph¸t triÓn, lµ ph­¬ng ph¸p luËn võa mang tÝnh khoa häc, võa mang tÝnh c¸ch m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Lµ chñ nghÜa duy vËt lÞch sö – hÖ thèng c¸c quan niÖm duy vËt vÒ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­¬ng1 Chñ nghÜa duy vËt biÖn chø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I. Chñ nghÜa duy vËt vµ chñ nghÜa duy vËt biÖn chøng</a:t>
            </a:r>
            <a:r>
              <a:rPr b="0" lang="en-US" sz="2800" spc="-1" strike="noStrike">
                <a:solidFill>
                  <a:srgbClr val="000099"/>
                </a:solidFill>
                <a:latin typeface=".VnTime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VÊn ®Ò c¬ b¶n cña triÕt häc, sù ®èi lËp gi÷a CNDV vµ CNDT trong vÊn ®Ò c¬ b¶n cña 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Ên ®Ò c¬ b¶n cña triÕt häc: Quan hÖ vËt chÊt-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Ên ®Ò c¬ b¶n cã hai mÆt, mçi mÆt tr¶ lêi cho mét c©u hái l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t chÊt vµ ý thøc c¸i nµo cã tr­íc c¸i nµo cã sau, c¸i nµo quyÕt ®Þnh c¸i nµ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on ng­êi cã kh¶ n¨ng nhËn thøc thÕ giíi ®­îc hay kh«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¶ lêi vÊn ®Ò c¬ b¶n cña triÕt häc lµ c¬ së ®Ó ph©n chia triÕt häc thµnh c¸c tr­êng ph¸i lín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gi÷a vËt chÊt vµ ý thøc lµ vÊn ®Ò c¬ b¶n v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§©y lµ vÊn ®Ò chung nhÊt, lín n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Gi¶i quyÕt ®­îc vÊn ®Ò chung nµy cho c¬ së ®Ó gi¶i quyÕt c¸c vÊn ®Ò Ýt chung h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Gi¶i quyÕt vÊn ®Ò nµy cho biÕt lËp tr­êng thÕ giíi quan cña c¸c nhµ triÕt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iÕt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Lµ hÖ thèng tri thøc lý luËn chung nhÊt cña con ng­êi vÒ thÕ giíi, vÒ vÞ trÝ vai trß cña con ng­êi trong thÕ giíi Ê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èi t­îng: Quan hÖ gi÷a vËt chÊt vµ ý thøc, c¸c quy luËt chung nhÊt cña tù nhiªn, x· héi vµ t­ d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Þ trÝ, vai trß: ThÓ hiÖn thÕ giíi quan, ph­¬ng ph¸p luËn, c¬ së lý luËn cho kinh tÕ chÝnh trÞ häc vµ chñ nghÜa x· héi khoa häc; “lµ c«ng cô vÜ ®¹i” ®Ó nhËn thøc vµ c¶i t¹o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.VnTim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¶ lêi mÆt thø nhÊt cña vÊn ®Ò c¬ b¶n cña triÕt hä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: nh÷ng ng­êi cho r»ng vËt chÊt lµ c¸i cã tr­íc, sinh ra vµ quyÕt ®Þnh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T: nh÷ng ng­êi cho r»ng ý thøc lµ c¸i cã tr­íc sinh ra vµ quyÕt ®Þnh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Þ nguyªn luËn: ý thøc vµ vËt chÊt song song tån t¹i, kh«ng c¸i nµo quyÕt ®Þnh c¸i nµ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¶ lêi mÆt thø 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 cho r»ng con ng­êi cã kh¶ n¨ng nhËn thøc thÕ giíi, sù nhËn thøc nµy cã néi dung kh¸ch quan, kh«ng phô thuéc ý chÝ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T: bé phËn cho r»ng con ng­êi cã kh¶ n¨ng nhËn thøc thÕ giíi nh­ng ®ã chØ lµ sù “tù nhËn thøc” cña tinh thÇn thÕ giíi, mét bé phËn phñ nhËn kh¶ n¨ng nhËn thøc thÕ giíi cña con ng­êi ( BÊt kh¶ tri luËn, CNDT chñ quan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CNDV trong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®iÓm cña c¸c lùc l­îng tiÕn bé, c¸ch m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¾n bã chÆt chÏ víi khoa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®iÓm cña C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quan ®iÓm cña giai cÊp thèng trÞ ph¶n ®éng, c¸c lùc l­îng ph¶n tiÕn b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sù tuyÖt ®èi ho¸ qu¸ tr×nh nhËn thøc cña con ng­êi, g¾n bã chÆt chÏ víi t«n gi¸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C¸c h×nh thøc c¬ b¶n cña CNDV trong lÞch s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 chÊt ph¸c, ng©y th¬, tù nhiªn thêi cæ ®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 siªu h×nh, m¸y mãc thÕ kû XVII-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BC do C.M¸c, Ph.¡ngghen x©y dùng vµ V.I.Lªnin ph¸t triÓn lµ h×nh thøc hoµn bÞ nhÊt cña CNDV- thÕ giíi quan cña giai cÊp c«ng nh©n, c¸c lùc l­îng tiÕn b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. VËt chÊ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Ph¹m trï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ña CNDV tr­íc M¸c vÒ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CNDV cæ ®¹i: ®ång nhÊt vËt chÊt víi c¸c d¹ng cô thÓ cña vËt chÊt nh­: n­íc, löa, kh«ng khÝ, nguyªn tö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CNDV siªu h×nh thÕ kû XVII-XVI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oi vËt chÊt lµ nguyªn tö, cã cÊu t¹o d¹ng h¹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huéc tÝnh c¬ b¶n cña vËt chÊt lµ cã khèi l­îng, n¨ng l­îng kh«ng ®æi, bÊt biÕn, vÜnh viÔn nh­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51920" y="2362320"/>
            <a:ext cx="8991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Þnh nghÜa vËt chÊt cña Lªnin:  xem  </a:t>
            </a:r>
            <a:r>
              <a:rPr b="0" lang="en-US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÷ng ®iÓm cÇn l­u ý khi nghiªn cøu ®Þnh nghÜa vËt chÊt cña Lª-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c¬ b¶n cña ®Þnh nghÜ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cña ®Þnh nghÜ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37296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cña CNDVBC vÒ vËt chÊ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Ph­¬ng thøc vµ h×nh thøc tån t¹i cña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n ®éng: lµ mäi sù biÕn ®æi nãi 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n ®éng vµ ®øng 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h×nh thøc cña vËn ®éng: VËn ®éng c¬ häc, vËt lý , ho¸ häc, sinh häc vµ vËn ®éng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«ng gian vµ thêi gian víi t­ c¸ch lµ h×nh thøc tån t¹i cña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n ®éng: Ph­¬ng thøc tån t¹i cña vËt chÊt, lµ mäi sù biÕn ®æi nãi ch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t chÊt tån t¹i b»ng vËn ®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lµ vËn ®éng cña vËt chÊt, kh«ng cã vËt chÊt kh«ng vËn ®éng, kh«ng cã vËn ®éng ph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lµ vËn ®éng tù th©n cña vËt chÊt, do b¶n th©n kÕt cÊu vËt chÊt quy ®Þ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vµ ®øng im. §øng im lµ vËn ®éng trong th¨ng b»ng t¹m thêi cña sù vË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h×nh thøc c¬ b¶n cña vËn ®é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c¬ hä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vËt l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ho¸ hä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sinh hä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VËn ®éng x· hé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gi÷a c¸c h×nh thøc vËn ®é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¸c h×nh thøc vËn ®éng kh¸c nhau vÒ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H×nh thøc vËn ®éng cao dùa trªn c¬ së vµ bao hµm c¸c h×nh thøc vËn ®éng thÊp h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Mçi sù vËt cã thÓ cã nhiÒu h×nh thøc vËn ®é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«ng gian: lµ h×nh thøc tån t¹i cña vËt chÊt xÐt vÒ mÆt qu¶ng tÝnh (tÝnh 3 chiÒu: dµi, réng, cao) biÓu hiÖn sù cïng tån t¹i vµ t¸ch biÖt còng nh­ trËt tù ph©n bè c¸c sù vË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êi gian: lµ h×nh thøc tån t¹i cña vËt chÊt xÐt vÒ mÆt ®é dµi diÔn biÕn, sù kÕ tiÕp cña c¸c qu¸ tr×nh, tr×nh tù xuÊt hiÖn mÊt ®i cña sù vËt (qu¸ khø, hiÖn t¹i, t­¬ng l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Æc ®iÓm cña kh«ng gian, thêi g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Ýnh kh¸ch quan cña kh«ng gian, thêi g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Ýnh vÜnh cöu, v« tËn cña kh«ng thêi g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«ng gian cã ba chiÒu, thêi gian cã mét chiÒ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TÝnh thèng nhÊt vËt chÊt cña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uËn ®iÓm cña ¡ngghen vÒ tÝnh thèng nhÊt vËt chÊt cña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cña tÝnh thèng nhÊt vËt chÊt cña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Ýnh vËt chÊt cña thÕ giíi ®­îc thùc tiÔn vµ khoa häc chøng mi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X· héi loµi ng­êi lµ cÊp ®é cao nhÊt cña vËt chÊt, cã kÕt cÊu vµ quy luËt vËn ®éng kh¸ch quan kh«ng phô thuéc ý thøc con ng­êi, quan hÖ kinh tÕ chiÕm vÞ trÝ hµng ®Çu trong hÖ thèng c¸c quan hÖ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B¶n chÊt cña thÕ giíi lµ vËt chÊt, cã nguyªn nh©n tù nã, vÜnh h»ng, v« tËn, cã biÓu hiÖn mu«n h×nh mu«n vÎ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inh tÕ chÝnh trÞ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Lµ khoa häc vÒ nh÷ng quy luËt chi phèi sù s¶n xuÊt vµ sù trao ®æi nh÷ng t­ liÖu sinh ho¹t vËt chÊt trong x· héi loµi ng­ê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èi t­îng: Nghiªn cøu quan hÖ s¶n xuÊt x· héi trong mèi liªn hÖ chÆt chÏ vµ t¸c ®éng qua l¹i víi lùc l­îng s¶n xuÊt vµ kiÕn tróc th­îng tÇ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Þ trÝ, vai trß: LuËn chøng nh÷ng quy luËt kinh tÕ c¬ b¶n cña CNTB, v¹ch ra b¶n chÊt bãc lét cña nã, kh¼ng ®Þnh vai trß cña giai cÊp c«ng nh©n, tÊt yÕu cña sù thay thÕ vÒ c¬ së kinh tÕ tõ CNTB lªn CN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tù nhiªn cña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lµ s¶n phÈm cña mét d¹ng vËt chÊt cã tæ chøc cao lµ n·o ng­êi - cÊu tróc vËt chÊt phøc t¹p víi tõ 14 ®Õn 17 tû n¬ron thÇn kinh liªn kÕt chÆt chÏ víi 5 gi¸c quan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Õ giíi vËt chÊt lµ ®èi t­îng ph¶n ¸nh cña ý thøc. Ph¶n ¸nh ý thøc lµ sù ph¶n ¸nh kh¸c biÖt vÒ chÊt so víi bé phËn cßn l¹i cña giíi tù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ãm l¹i nguån gèc tù nhiªn cña ý thøc bao gåm n·o ng­êi vµ thÕ giíi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ộ não người và ý thứ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ộ não người là một tổ chức v/c sống đặc biệt có cấu trúc tinh vi và phức tạp. Bộ não người là cơ quan vật chất của ý thứ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800600" y="4213080"/>
            <a:ext cx="3657600" cy="2187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807080" y="1852560"/>
            <a:ext cx="3720960" cy="218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981080" y="2095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ộ não người và ý thứ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ạt động ý thức chỉ diễn ra trong bộ não người, trên cơ sở các quá trình sinh lý- thần kinh của bộ n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649760" y="1833480"/>
            <a:ext cx="4037040" cy="3041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981080" y="2095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ý luËn ph¶n ¸nh cña CNDV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n ¸nh lµ sù t¸i t¹o nh÷ng ®Æc ®iÓm cña hÖ thèng vËt chÊt nµy lªn mét hÖ thèng vËt chÊt kh¸c khi hai hÖ thèng nµy t¸c ®éng vµ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t qu¶ cña sù ph¶n ¸nh lµ c¸c th«ng tin mµ ®é phøc t¹p cña nã phô thuéc tr×nh ®é c¸i ph¶n ¸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íi chÊt v« sinh cã c¸c h×nh thøc ph¶n ¸nh: vËt lý, ho¸ häc mang tÝnh thô ®éng, kh«ng lùa chä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íi chÊt h÷u si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ích th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ể hiện ở thực vật và động vật bậc thấp. Là phản ứng trả lời tác động của môi trường ở bên ngoài có ảnh hưởng trực tiếp đến quá trình trao đổi chất của chú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ính cảm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à hình thức phản ánh của động vật chưa có hệ thần kinh trung ương, là tính nhạy cảm đối với sự thay đổi của môi trườ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302280" cy="2205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ản ánh tâm l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à hình thức phản ánh ở các động vật bậc cao khi có hệ thần kinh trung ương xuất hiệ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2752560" cy="1987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810240" cy="30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ề nguồn gốc tự nhiên của ý thứ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525680" y="1752480"/>
            <a:ext cx="6548400" cy="4267440"/>
            <a:chOff x="1525680" y="1752480"/>
            <a:chExt cx="6548400" cy="4267440"/>
          </a:xfrm>
        </p:grpSpPr>
        <p:sp>
          <p:nvSpPr>
            <p:cNvPr id="296" name=""/>
            <p:cNvSpPr/>
            <p:nvPr/>
          </p:nvSpPr>
          <p:spPr>
            <a:xfrm>
              <a:off x="1525680" y="3043080"/>
              <a:ext cx="281628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.VnTime"/>
                </a:rPr>
                <a:t>Nguån gèc tù nhiª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.VnTime"/>
                </a:rPr>
                <a:t>cña ý thø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1752480"/>
              <a:ext cx="2816280" cy="4267440"/>
              <a:chOff x="5257800" y="1752480"/>
              <a:chExt cx="2816280" cy="426744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1752480"/>
                <a:ext cx="2816280" cy="160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Bé ãc cña con ng­ê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57800" y="4419720"/>
                <a:ext cx="2816280" cy="160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.VnTime"/>
                  </a:rPr>
                  <a:t>ThÕ giíi kh¸ch qu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V="1">
              <a:off x="4343400" y="2437920"/>
              <a:ext cx="914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43400" y="3733920"/>
              <a:ext cx="9144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981080" y="2095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x· héi cña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ao ®éng: lµ qu¸ tr×nh con ng­êi t¸c ®éng vµo tù nhiªn t¹o ra c¸c s¶n phÈm phôc vô nhu cÇu cña m×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µ ®iÒu kiÖn tån t¹i cña con ng­êi, s¸ng t¹o ra chÝnh b¶n th©n con ng­êi, buéc tù nhiªn béc lé thuéc tÝnh, tÝnh chÊt quy luËt vËn ®éng biÕn ®æi – néi dung ph¶n ¸nh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«n ng÷: lµ hÖ thèng tÝn hiÖu vËt chÊt mang néi dung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­¬ng thøc trao ®æi th«ng tin, tri thøc, … tõ thÕ hÖ nµy sang thÕ hÖ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B¶n chÊt vµ kÕt cÊu cña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cña ý thø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- 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lµ sù ph¶n ¸nh tinh thÇn, ph¶n ¸nh c¸c thuéc tÝnh, tÝnh chÊt, quy luËt cña thÕ giíi vËt chÊt kh¸c víi bé phËn cßn l¹i cña thÕ giíi vËt chÊt ph¶n ¸nh mang tÝnh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n ¸nh ý thøc lµ “h×nh ¶nh chñ quan cña thÕ giíi kh¸ch quan” lµ “thÕ giíi kh¸ch quan ®­îc di chuyÓn vµo n·o ng­êi vµ c¶i biÕn trong ®ã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n ¸nh ý thøc mang tÝnh trõu t­îng,tù gi¸c, s¸ng t¹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mang tÝnh x· héi, chÞu sù chi phèi cña c¸c quy luËt x· héi mang b¶n chÊt x· h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ñ nghÜa x· héi khoa hä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Häc thuyÕt vÒ chÝnh trÞ - x· héi cña qu¸ tr×nh n¶y sinh, h×nh thµnh vµ ph¸t triÓn chñ nghÜa x· hé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èi t­îng: §iÒu kiÖn lÞch sö vµ tÝnh quy luËt cña qu¸ tr×nh ®Êu tranh lËt ®æ CNTB, c¶i t¹o x· héi ®Ó x©y dùng CN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Þ trÝ, vai trß: KÕ tôc ph¸t triÓn vµ hoµn thiÖn chñ nghÜa M¸c, lµ hÖ t­ t­ëng cña giai cÊp v« s¶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n ¸nh s¸ng t¹o cña ý thøc thÓ hiÖn qu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ao ®æi th«ng tin gi÷a chñ thÎ vµ kh¸ch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« h×nh ho¸ ®èi t­îng trong t­ duy d­íi d¹ng h×nh ¶nh tinh thÇn – qu¸ tr×nh “s¸ng t¹o l¹i hiÖn thùc” thµnh c¸c ý t­ëng ph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uyÓn m« h×nh tõ t­ duy ra hiÖn thùc kh¸ch quan- qu¸ tr×nh hiÖn thùc ho¸ t­ t­ëng th«ng qua ho¹t ®éng thùc tiÔn cña con ng­êi b»ng c¸c ph­¬ng ph¸p, ph­¬ng tiÖn, c«ng cô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¸ng t¹o cña ý thøc kh«ng cã nghÜa ý thøc sinh ra vËt chÊt, mµ lµ s¸ng t¹o trong khu«n khæ ph¶n ¸nh, kÕt qu¶ lµ nh÷ng kh¸ch thÓ tinh th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.VnTim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t cÊu cña ý thø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heo chiÒu ngang: ý thøc bao gåm tri thøc, t×nh c¶m, niÒm tin, ý chÝ, lý chÝ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ri thøc: KÕt qu¶ cña qu¸ tr×nh nhËn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×nh c¶m: C¶m ®éng cña con ng­êi trong quan hÖ víi thÕ giíi kh¸ch quan vµ víi chÝnh b¶n th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iÒm tin: Sù kÕt hîp cña tri thøc víi t×nh c¶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heo chiÒu däc: tù ý thøc, tiÒm thøc, v«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ù ý thøc: ý thøc vÒ b¶n th©n trong mèi quan hÖ víi thÕ giíi bªn ngoµ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TiÒm thøc: tri thøc ®¹t ®­îc tõ tr­íc trë thµnh b¶n n¨ng, kü n¨ng lµ ý thøc ë d¹ng tiÒm n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V« thøc: Tr¹ng th¸i t©m lý ®iÒu chØnh suy nghÜ, hµnh vi, øng xö cña con ng­êi ch­a cã sù kiÓm so¸t lý ch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3. Mèi quan hÖ gi÷a vËt chÊt vµ ý thø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Vai trß cña vËt chÊt ®èi víi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sinh ra ý thøc, ý thøc chØ lµ s¶n phÈm cña mét d¹ng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quyÕt ®Þnh néi dung cña ý thøc, néi dung cña ý thøc chØ lµ sù ph¶n ¸nh thÕ gií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quyÕt ®Þnh sù biÕn ®æi cña ý thøc, sù biÕn ®æi cña ý thøc ph¶n ¸nh sù biÕn ®æi cña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quyÕt ®Þnh kh¶ n¨ng ph¶n ¸nh s¸ng t¹o cña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 lµ nh©n tè quyÕt ®Þnh ph¸t huy tÝnh n¨ng ®éng s¸ng t¹o cña ý thøc trong ho¹t ®é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Vai trß cña ý thøc ®èi víi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høc cã kh¶ n¨ng ph¶n ¸nh thÕ giíi mét c¸ch n¨ng ®éng s¸ng t¹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ai trß cña ý thøc lµ vai trß cña con ng­êi, v× ý thøc lµ ý thøc cña con ng­êi, th«ng qua ho¹t ®éng thùc tiÔn cña con ng­êi ý thøc cã t¸c dông c¶i biÕn s¸ng t¹o thÕ giíi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¸c ®éng cña ý thøc ®Õn hiÖn thùc kh¸ch quan theo hai khuynh h­íng: nÕu ph¶n ¸nh ®óng quy luËt kh¸ch quan sÏ lµm ho¹t ®éng thùc tiÔn cña con ng­êi võa ®¸p øng ®­îc nhu cÇu cña m×nh võa lµm giµu thÕ giíi kh¸ch quan. Ng­îc l¹i, võa kh«ng ®¸p øng nhu cÇu võa tµn ph¸ thÕ giíi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yªn t¾c kh¸ch quan: Ph¶i t«n träng vµ hµnh ®éng theo quy luËt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¸t huy tÝnh n¨ng ®éng chñ quan: ph¸t huy tÝnh n¨ng ®éng s¸ng t¹o cña quÇn chóng nh©n d©n, ph¸t huy vai trß cña tri thøc khoa häc vµ t×nh c¶m c¸ch m¹ng trong ho¹t ®é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thèng nhÊt biÖn chøng gi÷a t«n träng kh¸ch quan vµ ph¸t huy tÝnh n¨ng ®éng chñ quan trong ho¹t ®éng thùc tiÔn, kh¾c phôc bÖnh chñ quan, nãng véi, ®ång thêi kh¾c phôc bÖnh b¶o thñ tr× trÖ, thô ®éng, û l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h­¬ng II:</a:t>
            </a:r>
            <a:r>
              <a:rPr b="1" lang="en-US" sz="3200" spc="-1" strike="noStrike">
                <a:solidFill>
                  <a:srgbClr val="000000"/>
                </a:solidFill>
                <a:latin typeface=".VnTimeH"/>
              </a:rPr>
              <a:t>PhÐp biÖn chøng duy vË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. PhÐp biÖn chøng vµ phÐp biÖn chøng duy vËt</a:t>
            </a:r>
            <a:r>
              <a:rPr b="1" lang="en-US" sz="3200" spc="-1" strike="noStrike">
                <a:solidFill>
                  <a:srgbClr val="000000"/>
                </a:solidFill>
                <a:latin typeface=".VnTimeH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1. PhÐp biÖn chøng vµ c¸c h×nh thøc c¬ b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a, PhÐp biÖn chø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®èi lËp gi÷a hai quan ®iÓm biÖn chøng vµ siªu h×nh trong nhËn thøc vµ c¶i t¹o thÕ gií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phÐp biÖn chø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siªu h×nh trong nhËn thøc vµ c¶i t¹o thÕ gi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thÕ giíi trong sù c« lËp, t¸ch rêi, gi÷a c¸c sù vËt, hiÖn t­îng cã ranh giíi tuyÖt ®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sù vËt, hiÖn t­îng trong tr¹ng th¸i kh«ng vËn ®éng, kh«ng biÕn ®æi, nÕu cã th× chØ lµ vËn ®éng c¬ häc do nguyªn nh©n bªn ngoµi g©y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sù vËt, hiÖn t­îng kh«ng ph¸t triÓn, kh«ng biÕn ®æi “ThÕ giíi nhÊt thµnh bÊt biÕ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­ duy siªu h×nh lµ t­ duy cøng nh¾c, chÕt cøng “chØ thÊy c©y kh«ng thÊy rõng”, sù vËt “chØ lµ”…”chØ lµ”.. mµ kh«ng thÊy sù vËt cßn “võa lµ”… “võa lµ”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®iÓm biÖn chø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thÕ giíi trong sù vËn ®éng biÕn ®æi kh«ng ngõng, trong mèi liªn hÖ g¾n bã chÆt chÏ, c¸i nµy lÊy c¸i kia lµm ®iÒu kiÖn tån t¹i cña m×n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sv, ht trong qu¸ tr×nh vËn ®éng kh«ng ngõng, nguyªn nh©n cña sù vËn ®éng n»m trong chÝnh b¶n th©n kÕt cÊu vËt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Xem xÐt sv,ht trong qu¸ tr×nh ph¸t triÓn, chuyÓn ho¸ lÉn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­ duy biÖn chøng lµ t­ duy linh ho¹t mÒm dÎo “kh«ng chØ thÊy c©y, mµ cßn thÊy c¶ rõng” sv, ht kh«ng “chØ lµ”… “chØ lµ’… mµ cßn lµ “võa lµ” … “võa lµ”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phÐp biÖn chø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­¬ng ph¸p: HÖ thèng c¸c nguyªn t¾c, c¸ch thøc ®­îc rót ra tõ tri thøc vÒ c¸c quy luËt kh¸ch quan ®Ó ®iÒu chØnh ho¹t ®éng nhËn thøc vµ ho¹t ®éng thùc tiÔn cña con ng­êi nh»m thùc hiÖn môc tiªu nhÊt ®Þ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Ðp biÖn chøng… lµ m«n khoa häc vÒ nh÷ng quy luËt phæ biÕn cña sù vËn ®éng vµ ph¸t triÓn cña tù nhiªn, x· héi loµi ng­êi vµ cña t­ duy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(¡ngghen “BiÖn chøng cña tù nhiªn” t.20, tr.2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, C¸c h×nh thøc c¬ b¶n cña PB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Ðp biÖn chøng chÊt ph¸c thêi cæ ®¹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hÕ giíi lµ mét chØnh thÓ thèng nhÊt, c¸c bé phËn cã mèi liªn hÖ t¸c ®éng qua l¹i, th©m nhËp vµo nhau, kh«ng ngõng vËn ®éng, ph¸t tr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¹n chÕ: mang tÝnh trùc quan, ng©y th¬. chÊt ph¸c, ch­a lµm râ c¸c mèi liªn hÖ, quy luËt néi t¹i cña sù vËn ®éng vµ ph¸t tr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×nh thøc: biÓu hiÖn b»ng c¸c c©u c¸ch ng«n: “kh«ng ai t¾m hai lÇn trªn mét dßng s«ng”… ch­a h×nh thµnh c¸c kh¸i niÖm, ph¹m trï, quy lu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Kh¸i l­îc qu¸ tr×nh h×nh thµnh vµ ph¸t triÓn chñ nghÜa M¸c-Lªnin</a:t>
            </a:r>
            <a:r>
              <a:rPr b="0" lang="en-US" sz="2800" spc="-1" strike="noStrike">
                <a:solidFill>
                  <a:srgbClr val="333399"/>
                </a:solidFill>
                <a:latin typeface=".VnTime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Nh÷ng ®iÒu kiÖn tiÒn ®Ò cña sù ra ®êi chñ nghÜa M¸c</a:t>
            </a:r>
            <a:r>
              <a:rPr b="0" lang="en-US" sz="2800" spc="-1" strike="noStrike">
                <a:solidFill>
                  <a:srgbClr val="333399"/>
                </a:solidFill>
                <a:latin typeface=".VnTime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iÒu kiÖn kinh tÕ – x· hé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Sù cñng cè vµ ph¸t triÓn cña ph­¬ng thøc s¶n xuÊt t­ b¶n chñ nghÜa trong ®iÒu kiÖn c¸ch m¹ng c«ng nghiÖ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Sù xuÊt hiÖn cña giai cÊp v« s¶n trªn vò ®µi lÞch sö víi tÝnh c¸ch mét lùc l­îng chÝnh trÞ – x· héi ®éc lË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hùc tiÔn c¸ch m¹ng cña giai cÊp v« s¶n lµ c¬ së chñ yÕu nhÊt cho sù ra ®êi cña chñ nghÜa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Ðp biÖn chøng duy t©m cæ ®iÓn §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ªn lËp tr­êng duy t©m, theo Hªghen tù nhiªn vµ x· héi loµi ng­êi chØ lµ tån t¹i kh¸c cña “ý niÖm tuyÖt ®èi”. Tù nhiªn, lÞch sö vµ t­ duy lµ mét qu¸ tr×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«ng lao cña Hªgnhen ®· ®­a ra mét hÖ thèng c¸c kh¸i niÖm, ph¹m trï, quy luËt c¬ b¶n cña phÐp biÖn chø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¹n chÕ: M¸c ®¸nh gi¸ ®©y lµ phÐp biÖn chøng bÞ lén ng­îc ®Çu xuèng d­íi ®Êt, Lªnin: Hªghen ®o¸n ra mét c¸ch tµi t×nh biÖn chøng cña tù nhiªn th«ng qua biÖn chøng cña kh¸i niÖm, chØ ®o¸n ra chø kh«ng h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PhÐp biÖn chøng duy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 lµ hÖ thèng ph¹m trï, nguyªn lý, quy luËt ®­îc kh¸i qu¸t tõ hiÖn thùc cã kh¶ n¨ng ph¶n ¸nh ®óng sù vËn ®éng, ph¸t triÓn cña tù nhiªn, x· héi vµ t­ d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©n biÖt: biÖn chøng kh¸ch quan vµ biÖn chøng chñ qu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iÖn chøng kh¸ch quan lµ biÖn chøng cña b¶n th©n sù vËt, tån tai ®éc lËp bªn ngoµi ý thøc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iÖn chøng chñ quan lµ ph¹m trï ®Ó chØ t­ duy biÖn chøng vµ biÖn chøng cña qu¸ tr×nh ph¶n ¸nh hiÖn thùc khc¸h quan vµo ®Çu ãc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I. C¸c nguyªn lý c¬ b¶n cña phÐp biÖn chøng duy vË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Nguyªn lý vÒ mèi liªn hÖ phæ biÕ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siªu h×nh vÒ mèi liªn hÖ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Phñ nhËn mèi liªn hÖ gi÷a c¸c sv, 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 NÕu thõa nhËn th× chØ lµ bªn ngoµi, kh«ng quan träng, ngÉu nhiª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 Phñ nhËn sù chuyÓn ho¸ lÉn nhau gi÷a c¸c sv, 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duy t©m vÒ mèi liªn h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B¶n chÊt cña c¸c mèi liªn hÖ ®ã ë bªn ngoµi sv, 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DVBC vÒ mèi liªn hÖ: Ph¹m trï triÕt häc dïng ®Ó chØ sù quy ®Þnh, sù t¸c ®éng qua l¹i, sù chuyÓn ho¸ lÉn nhau gi÷a c¸c sù vËt, hiÖn t­îng hay gi÷a c¸c mÆt cña mét sù vËt, cña mét hiÖn t­îng trong thÕ gií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Mèi liªn hÖ phæ biÕn: Mèi liªn hÖ chi phèi mäi sv, 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÷ng tÝnh chÊt cña mèi liªn h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kh¸ch quan: c¸c mèi liªn hÖ vèn cã cña sù vËt, hiÖn t­îng, kh«ng phô thuéc ý thøc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phæ biÕn: cã ë bÊt kú sù vËt hiÖn t­îng nµo, cã ë ngay trong b¶n th©n sù vËt,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®a d¹ng, phong ph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Sù vËt kh¸c nhau cã mèi liªn hÖ kh¸c nhau, trong mçi sù vËt c¸c bé phËn kh¸c nhau cã mèi liªn hÖ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rong mçi giai ®o¹n ph¸t triÓn cña sù vËt cã mèi liªn hÖ kh¸c nhau ®Õn c¸c sù vËt kh¸c, còng nh­ c¸c bé phËn cña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rong c¸c ®iÒu kiÖn, hoµn c¶nh lÞch sö kh¸c nhau sù vËt cã mèi liªn hÖ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ph©n chia mèi liªn hÖ theo quan hÖ cña ch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cã quan ®iÓm toµn diÖn trong ho¹t ®éng nhËn thøc vµ ho¹t ®éng thùc tiÔ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nhËn thøc ph¶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hËn thøc sù vËt trong mèi liªn hÖ t¸c ®éng qua l¹i gi÷a c¸c sv, ht c¶ mèi liªn hÖ trùc tiÕp vµ gi¸n tiÕ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biÕt ph©n tÝch vÞ trÝ vai trß cña c¸c mèi liªn hÖ, tËp trung vµo c¸c mèi liªn hÖ b¶n chÊt, tÊt nhiªn, c¬ b¶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g¾n quan ®iÓm toµn diÖn víi quan ®iÓm lÞch sö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chèng l¹i quan ®iÓm phiÕn diÖn, quan ®iÓm chiÕt trung, quan ®iÓm nguþ b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ho¹t ®éng thùc tiÔn quan ®iÓm toµn diÖn ®ßi há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i t¸c ®éng vµo sù vËt hiÖn t­îng chóng ta kh«ng chØ chó ý tíi c¸c mèi liªn hÖ néi t¹i cña nã, mµ cßn ph¶i chó ý ®Õn mèi liªn hÖ cña nã víi sù vËt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cã nhiÒu kÕ ho¹ch, biÖn ph¸p, ph­¬ng tiÖn ®ång bé dù phßng nhiÒu t×nh huèng x¶y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cã kÕ ho¹ch tæng thÓ vµ ph¶i chØ ra träng t©m, träng ®iÓm ®Ó tËp trung th¸o gì, gi¶i quyÕ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¶i t«n träng quan ®iÓm lÞch sö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Nguyªn lý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a, Kh¸i niÖm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siªu h×nh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ñ nhËn sù ph¸t triÓn cña c¸c sù vËt,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Õu cã sù ph¸t triÓn th× chØ t¨ng gi¶m vÒ l­îng mµ kh«ng cã sù biÕn ®æi vÒ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¸t triÓn chØ lµ sù lÆp l¹i sù vËt c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huynh h­íng cña sù ph¸t triÓn lµ tiÕn lªn liªn tôc, ®¬n gi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ña CNDT vÒ sù ph¸t tr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guån gèc cña sù ph¸t triÓn ë bªn ngoµi sù vËt hiÖn t­îng, do mét lùc l­îng siªu tù nhiªn t¹o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CNDVBC vÒ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§èi lËp víi quan ®iÓm siªu h×nh vÒ sù ph¸t triÓn vµ quan ®iÓm cña CNDT vÒ nguån gèc cña sù ph¸t triÓn, CNDVBC cho r»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Mäi sv, ht ®Òu n»m trong qu¸ tr×nh ph¸t triÓn, sù ph¸t triÓn kh«ng chØ t¨ng vÒ l­îng mµ cßn biÕn ®æi vÒ chÊt, qu¸ tr×nh ph¸t triÓn diÔn ra kh«ng ®¬n gi¶n mµ rÊt phøc t¹p, nguån gèc cña sù ph¸t triÓn n»m ngay trong b¶n th©n sv, 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h¸t triÓn lµ mét ph¹m trï triÕt häc dïng ®Ó chØ qu¸ tr×nh vËn ®éng tiÕn lªn tõ thÊp ®Õn cao, tõ ®¬n gi¶n ®Õn phøc t¹p tõ ch­a hoµn thiÖn ®Õn hoµn thiÖn h¬n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TÝnh chÊt cña sù ph¸t tr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Ýnh kh¸ch quan: lµ cña b¶n th©n sv, ht, lµ kÕt qu¶ cña sù tÝch luü ®ñ vÒ l­îng dÉn ®Õn biÕn ®æi vÒ chÊt, ®Êu tranh cña c¸c mÆt ®èi lË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Ýnh phæ biÕn: diÔn ra trong mäi sv, ht thuéc c¸c lÜnh vùc: tù nhiªn, x· héi, t­ d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Ýnh ®a d¹ng, phong ph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vËt kh¸c nhau cã qu¸ tr×nh ph¸t triÓn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c¸c giai ®o¹n kh¸c nhau sù vËt cã ph­¬ng thøc, c¸ch thøc ph¸t triÓn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c¸c ®iÒu kiÖn kh¸c nhau sù vËt cã sù ph¸t triÓn kh¸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c, 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guyªn lý ph¸t triÓn ®ßi hái con ng­êi ph¶i cã quan ®iÓm ph¸t triÓn trong ho¹t ®éng nhËn thøc vµ ho¹t ®éng thùc tiÔ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o¹t ®éng nhËn thøc ®ßi há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hiªn cøu sv, ht kh«ng chØ thÊy sv,ht ®ang hiÖn cã, mµ ph¶I thÊy ®­îc xu h­íng ph¸t triÓn cña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biÕt ph©n chia qu¸ tr×nh ph¸t triÓn cña sù vËt thµnh c¸c giai ®o¹n víi c¸c ®Æc tr­ng cña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g¾n kÕt quan ®iÓm ph¸t triÓn víi quan ®iÓm lÞch sö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cñng cè vµ ph¸t triÓn cña PTSX TBCN trong ®iÒu kiÖn c¸ch m¹ng c«ng nghiÖ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µo nh÷ng n¨m 40 cña thÕ kû XIX, c¸c n­íc ph­¬ng T©y ®· vµ ®ang hoµn thµnh cuéc c¸ch m¹ng c«ng nghiÖp: Anh, Ph¸p, §ø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ùc l­îng s¶n xuÊt ë c¸c n­íc nµy ph¸t triÓn m¹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iai cÊp v« s¶n con ®Î cña nÒn ®¹i c«ng nghiÖp xuÊt h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ho¹t ®éng thùc tiÔ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÷ng tin vµo sù ph¸t triÓn tÊt yÕu cña sù vËt, cã tinh thÇn l¹c quan khoa häc tr­íc khã kh¨n thÊt b¹i t¹m thêi v× ph¸t triÓn diÔn ra quanh co phøc t¹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ph¸t triÓn lµ cña b¶n th©n sv, ht , cã nhiÒu giai ®o¹n mçi giai ®o¹n cã ph­¬ng thøc ph¸t triÓn riªng, v× vËy muèn t¹o ra sù ph¸t triÓn ph¶i chuÈn bÞ s½n lùc l­îng vËt chÊt, t¸c ®éng vµo khuynh h­íng biÕn ®æi chÝnh cña sv, ht ®óng quy luËt nh»m t¹o ra c¸c kÕt qu¶ nh­ mong ®î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¸nh n«n nãng, chñ quan ®ång thêi tr¸nh b¶o thñ tr× trÖ, t­ t­ëng û l¹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t«n träng quan ®iÓm lÞch sö cô thÓ khi c¶i t¹o hiÖn th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.VnTime"/>
              </a:rPr>
              <a:t>III. C¸c cÆp ph¹m trï c¬ b¶n cña phÐp biÖn chøng duy vË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¸i chung vµ c¸i riª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guyªn nh©n vµ kÕt qu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Êt nhiªn vµ ngÉu nhi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éi dung vµ h×nh th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¶n chÊt vµ hiÖn t­î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¶ n¨ng vµ hiÖn thù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II. C¸c cÆp ph¹m trï c¬ b¶n cña phÐp biÖn chøng duy vË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C¸i chung vµ c¸i riª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Ph¸i duy thùc c¸i riªng kh«ng tån t¹i, chØ cã c¸i chung míi tån t¹i vÜnh viÔn, sinh ra c¸i ri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Ph¸i duy danh cho r»ng c¸i chung lµ trèng rçng, chØ cã c¸i riªng míi tån t¹i thùc s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 c¸i riªng, c¸i chung, c¸i ®¬n n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¸i riªng lµ ph¹m trï triÕt häc dïng ®Ó chØ mét sù vËt, mét hiÖn t­îng, mét qu¸ tr×nh nhÊt ®Þ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¸i chung lµ ph¹m trï triÕt häc dïng ®Ó chØ nh÷ng mÆt, nh÷ng thuéc tÝnh kh«ng nh÷ng cã ë mét kÕt cÊu vËt chÊt nhÊt ®Þnh, mµ cßn ®­îc lÆp l¹i ë nhiÒu kÕt cÊu vËt chÊt kh¸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¸i ®¬n nhÊt lµ ph¹m trï chØ nh÷ng mÆt nh÷ng thuéc tÝnh chØ cã trong mét kÕt cÊu vËt chÊt nhÊt ®Þnh mµ kh«ng ®­îc lÆp l¹i ë bÊt kú mét kÕt cÊu vËt chÊt nµo kh¸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Quan hÖ biÖn chøng gi÷a c¸i riªng, c¸i chung, c¸i ®¬n n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riªng, c¸i chung, c¸i ®¬n nhÊt ®Òu tån t¹i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chung chØ tån t¹i trong c¸i riªng, th«ng qua c¸i riªng, kh«ng cã c¸i chung tån t¹i bªn ngoµi, bªn c¹nh c¸i riª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riªng chØ tån t¹i trong mèi liªn hÖ víi c¸i 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riªng lµ c¸i toµn bé, phong phó h¬n c¸i chung, c¸i chung lµ c¸i bé phËn nh­ng s©u s¾c h¬n c¸i riª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nh÷ng ®iÒu kiÖn nhÊt ®Þnh C¸i chung vµ c¸i ®¬n nhÊt cã thÓ chuyÓn ho¸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c, 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chung, c¸i riªng, c¸i ®¬n nhÊt ®Òu tån t¹i kh¸ch quan v× vËy ph¶I c¨n cø vµo hiÖn thùc kh¸ch quan ®Ó t×m hiÓu ch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chung chØ tån t¹i trong c¸i riªng v× vËy ph¶I t×m c¸i chung qua nhiÒu c¸i riª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chung lµ c¸i s©u s¾c h¬n c¸i riªng v× vËy ph¶i dùa vµo c¸i chung ®Ó c¶i t¹o c¸i riªng nh­ng khi ¸p dông chóng vµo c¸i riªng cô thÓ ph¶i c¸ biÖt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nh÷ng ®iÒu kiÖn nhÊt ®Þnh, c¸i ®¬n nhÊt cã thÓ trë thµnh c¸i chung vµ ng­îc l¹i, v× vËy cÇn t¹o ra nh÷ng ®iÒu kiÖn ®Ó thùc hiÖn, hoÆc ng¨n c¶n sù chuyÓn ho¸ nµ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Nguyªn nh©n vµ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rong lÞch sö t­ t­ëng vÒ nh©n – qu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Ön t­îng A t¸c ®éng g©y nªn hiÖn t­îng B th× A lµ nguyªn nh©n B lµ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duy t©m cho r»ng nguyªn nh©n cña mäi sù biÕn thuéc vÒ lùc l­îng tinh thÇn nµo ®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yªn nh©n lµ sù t­¬ng t¸c gi÷a c¸c mÆt, c¸c yÕu tè trong mét sv, ht  hoÆc gi÷a c¸c sv, ht víi nhau, g©y ra nh÷ng biÕn ®æi nhÊt ®Þ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t qu¶ lµ nh÷ng biÕn ®æi xuÊt hiÖn do sù t­¬ng t¸c tr­íc ®ã g©y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nguyªn nh©n vµ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guyªn nh©n sinh ra kÕt qu¶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guyªn nh©n lu«n cã tr­íc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Nguyªn nh©n sinh ra kÕt qu¶ rÊt phøc t¹p cÇn cã hÖ thèng ®iÒu kiÖn vµ hoµn c¶nh cô th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Mét nguyªn nh©n cã thÓ g©y ra nhiÒu kÕt qu¶ vµ ng­îc l¹i, mét kÕt qu¶ do nhiÒu nguyªn nh©n g©y ra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cÇn ph©n lo¹i nguyªn nh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t¸c ®éng trë l¹i cña kÕt qu¶ ®èi víi nguyªn nh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thay ®æi vÞ trÝ gi÷a nguyªn nh©n vµ kÕt qu¶: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Ön t­îng nµy lµ nguyªn nh©n trong quan hÖ kh¸c th× l¹i lµ kÕt qu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t×m nguyªn nh©n cña mäi sv, ht trong b¶n th©n thÕ giíi c¸c hiÖn t­î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yªn nh©n cã tr­íc kÕt qu¶, t×m nguyªn nh©n ë c¸c mèi liªn hÖ cã tr­íc khi hiÖn t­îng ®ã xuÊt h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ph©n biÖt vÞ trÝ vai trß cña c¸c nguyªn nh©n trong viÖc t¹o ra kÕt qu¶, ph©n biÖt nã víi hÖ ®iÒu k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hÖ nh©n qu¶ lµ tÊt yÕu v× vËy ta cã thÓ dùa vµo nã ®Ó hµnh ®éng: muèn lo¹i bá cÇn lo¹i bá nguyªn nh©n, muèn nã xuÊt hiÖn th× ph¶i t¹o ®iÒu kiÖn cho nguyªn nh©n ph¸t sinh t¸c d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Õt qu¶ cã t¸c ®éng trë l¹i ®èi víi nguyªn nh©n, ta ph¶i biÕt khai th¸c kÕt qu¶ ®· ®¹t d­î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3. TÊt nhiªn vµ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rong lÞch sö t­ t­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T: tù nhiªn chØ cã ngÉu nhiªn kh«ng cã tÊt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V tr­íc M¸c thõa nhËn sù tån t¹i kh¸ch quan cña tÊt nhiªn, phñ nhËn sù tån t¹i cña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 lµ c¸i do nh÷ng nguyªn nh©n c¬ b¶n, bªn trong cña sù vËt, hiÖn t­îng quyÕt ®Þnh trong nh÷ng ®iÒu kiÖn nhÊt ®Þnh nã ph¶i x¶y ra kh«ng thÓ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Éu nhiªn lµ c¸i do nguyªn nh©n bªn ngoµi, do ngÉu hîp hoµn c¶nh quyÕt ®Þnh do ®ã nã cã thÓ xuÊt hiÖn, cã thÓ kh«ng xuÊt hiÖn, cã thÓ xuÊt hiÖn nh­ thÕ nµy, hoÆc cã thÓ xuÊt hiÖn nh­ thÕ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tÊt nhiªn vµ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 vµ ngÉu nhiªn ®Òu tån t¹i kh¸ch quan, ®éc lËp víi ý thøc cña con ng­êi vµ ®Òu cã vÞ trÝ nhÊt ®Þnh ®èi víi sù ph¸t triÓn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 vµ ngÉu nhiªn ®Òu tån t¹i, nh­ng chóng kh«ng tån t¹i biÖt lËp d­íi d¹ng thuÇn tuý. C¸i tÊt nhiªn bao giê còng thÓ hiÖn sù tån t¹i cña m×nh qua v« sè c¸i ngÉu nhiªn, c¸i ngÉu nhiªn lµ h×nh thøc biÓu hiÖn c¸i tÊt nhiªn, lµ c¸i bæ sung cho c¸i tÊt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 vµ ngÉu nhiªn cã thÓ chuyÓn ho¸ cho nhau:  chóng vËn ®éng biÕn ®æi theo sù vËn ®éng cña sù vËt, trong nh÷ng ®iÒu kiÖn nhÊt ®Þnh chóng chuyÓn ho¸ cho nhau: c¸i tÊt nhiªn thµnh c¸i nhÉu nhiªn vµ ng­îc l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xuÊt hiÖn cña giai cÊp v« s¶n trªn vò ®µi lÞch sö víi tÝnh c¸ch mét lùc l­îng chÝnh trÞ – x· héi ®éc lË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831-1834 khëi nghÜa liªn tiÕp næ ra ë Li-«ng Ph¸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1838-1842 ë Anh h×nh thµnh phong trµo “HiÕn ch­¬ng” phong trµo c«ng nh©n mang tÝnh cã tæ chøc vµ cã h×nh thøc chÝnh tr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¹i §øc khëi nghÜa ë Xilªdi ®Êu tranh cña giai cÊp v« s¶n míi h×nh thµnh nhanh chãng d­a ®Õn sù ra ®êi “§ång minh nh÷ng ng­êi c¸ch m¹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ho¹t ®éng nhËn thøc vµ ho¹t ®éng thùc tiÔn ph¶i dùa vµo c¸i tÊt nhiªn kh«ng thÓ dùa vµo c¸i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uèn nhËn thøc c¸i tÊt nhiªn ph¶i th«ng qua nhiÒu c¸i ngÉu nhiªn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×m c¸i chung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t×m c¸i chung tÊt yÕ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i tÊt nhiªn vµ c¸i ngÉu nhiªn cã thÓ chuyÓn ho¸ cho nhau, trong ho¹t ®éng nhËn thøc vµ ho¹t ®éng thùc tiÔn ta ph¶i vËn dông chóng mét c¸ch thÝch hîp, ®ång thêi kh«ng ®­îc bá qua c¸i ngÉu nhi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4. Néi dung vµ h×nh thø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rong lÞch sö t­ t­ë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uyÖt ®èi ho¸ néi dung phñ nhËn vai trß cña h×nh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oi h×nh thøc chØ lµ h×nh thøc bªn ngoµi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lµ ph¹m trï chØ tæng hîp tÊt c¶ nh÷ng mÆt, nh÷ng yÕu tè, nh÷ng qu¸ tr×nh t¹o nªn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×nh thøc lµ ph¹m trï chØ ph­¬ng thøc tån t¹i vµ ph¸t triÓn cña sù vËt, lµ hÖ thèng c¸c mèi liªn hÖ t­¬ng ®èi bÒn v÷ng gi÷a c¸c yÕu tè cña sù vËt ®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ND - 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hèng nhÊt gi÷a néi dung vµ h×nh thø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¨n cø ®Þnh nghÜa ND – HT thèng nhÊt chÆt ch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 cã néi dung, h×nh thøc “thuÇn tuý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Sù thèng nhÊt nµy cã ®é lÖ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gi÷ vai trß quyÕt ®Þnh ®èi víi h×nh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éi dung cã khuynh h­íng biÕn ®æi, h×nh thøc cã xu h­íng tÜnh h¬n. Khi néi dung biÕn ®æi ®Õn møc ®é nhÊt ®Þnh lµm h×nh thøc thay ®æi cho phï hîp víi néi dung mí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¸c ®éng trë l¹i cña h×nh thøc ®èi víi néi 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×nh thøc cã tÝnh ®éc lËp t­¬ng ®èi vµ t¸c ®éng trë l¹i ®èi víi néi dung theo hai khuynh h­íng: nÕu phï hîp víi néi dung sÏ thóc ®Èy néi dung ph¸t triÓn, ng­îc l¹i nÕu kh«ng phï hîp sÏ k×m h·m sù ph¸t triÓn cña néi dung. T¸c ®éng k×m h·m nµy chØ lµ t­¬ng ®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vµ h×nh thøc g¾n bã chÆt chÏ v× vËy trong ho¹t ®éng nhËn thøc vµ ho¹t ®éng thùc tiÔn ph¶I tr¸nh tuyÖt ®èi ho¸ mét trong hai mÆt nµ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cã thÓ cã nhiÒu h×nh thøc thÓ hiÖn v× vËy cã thÓ sö dông h×nh thøc cò nh­ng mang néi dung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Ó c¶i t¹o sù vËt ph¶i biÕn ®æi néi dung cña n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¶i theo dâi chÆt chÏ mèi quan hÖ ND – HT ®Ó biÕn ®æi h×nh thøc cho phï hîp víi néi dung míi, víi sù biÕn ®æi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5.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an niÖm trong lÞch sö t­ t­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NDT cho r»ng chØ cã b¶n chÊt míi tån t¹i vµ do lùc l­îng “siªu tù nhiªn” quy ®Þnh, DTCQ phñ nhËn sù tån t¹i cña b¶n chÊt cßn hiÖn t­îng chØ lµ phøc hîp cña c¶m gi¸c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¸i niÖ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lµ ph¹m trï chØ sù tæng hîp tÊt c¶ nh÷ng mÆt, nh÷ng mèi liªn hÖ tÊt nhiªn,t­¬ng ®èi æn ®Þnh bªn trong sù vËt, quy ®Þnh sù vËn ®éng vµ ph¸t triÓn cña sù vË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Ön t­îng lµ ph¹m trï chØ sù biÓu hiÖn ra “bªn ngoµi” cña b¶n chÊ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Mèi quan hÖ biÖn chøng gi÷a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hèng nhÊt gi÷a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nµo hiÖn t­îng Êy: b¶n chÊt béc lé th«ng qua hiÖn t­îng, lµ biÓu hiÖn cña b¶n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thay ®æi th× hiÖn t­îng còng biÕn ®æ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cò mÊt ®i b¶n chÊt míi h×nh thµnh th× hiÖn t­îng cò mÊt ®i hiÖn t­îng míi xuÊt hi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chÊt m©u thuÉn cña sù thèng nhÊt gi÷a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chÊt m©u thuÉn cña sù thèng nhÊt gi÷a b¶n chÊt vµ hiÖn t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lµ c¸i bªn trong æn ®Þnh cßn hiÖn t­îng lµ c¸i bªn ngoµi, c¸i th­êng xuyªn biÕn ®æ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lµ c¸i s©u s¾c quy ®Þnh sù vËn ®éng biÕn ®æi cña sù vËt, cïng bËc víi quy luËt, cßn hiÖn t­îng lµ c¸i phøc t¹p, ®a d¹ng , nhiÒu v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¶n chÊt béc lé th«ng qua v« sè hiÖn t­îng, cßn hiÖn t­îng chØ béc lé mét khÝa c¹nh cña b¶n chÊt , thËm chÝ béc lé tr¸i ng­îc b¶n ch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ho¹t ®éng nhËn thøc vµ hoat ®éng thùc tiÔn ta ph¶i t×m ra vµ c¨n cø vµo b¶n chÊt cña sù vË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Ó t×m ra b¶n chÊt cña sù vËt ph¶i kh¶o s¸t, th«ng qua nhiÒu hiÖn t­îng ®Ó t×m ra nh÷ng mèi liªn hÖ tÊt nhiªn, æn ®Þnh quy ®Þnh sù vËn ®éng vµ ph¸t triÓn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§Ó sù vËt biÕn ®æi ta ph¶i t¸c ®éng lµm thay ®æi b¶n chÊt cña sù vËt, chø kh«ng ph¶i chØ lµm biÕn ®æi nh÷ng hiÖn t­îng biÓu hiÖn ra bªn ngoµi cña sù vËt ®ã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6. Kh¶ n¨ng vµ hiÖn th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©n biÖt ph¹m trï “kh¶ n¨ng” “hiÖn thùc” víi c¸c ph¹m tr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Ët chÊt, ý th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Êt nhiªn, ngÉu nhiªn, x¸c su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iÖn thùc lµ c¸i hiÖn cã, hiÖn ®ang tån t¹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¶ n¨ng lµ c¸i ch­a hiÖn cã, ch­a tíi, nh­ng sÏ cã, sÏ tíi khi cã c¸c ®iÒu kiÖn t­¬ng ø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Quan hÖ biÖn chøng gi÷a kh¶ n¨ng vµ hiÖn th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¶ n¨ng vµ hiÖn thùc tån t¹i trong mèi quan hÖ chÆt chÏ víi nhau, kh«ng t¸ch rêi nhau, th­êng xuyªn chuyÓn ho¸ lÉn nhau trong qu¸ tr×nh ph¸t triÓn cña sù vË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rong nh÷ng ®iÒu kiÖn míi th× sù vËt sÏ xuÊt hiÖn nh÷ng kh¶ n¨ng míi, ®ång thêi b¶n th©n mçi kh¶ n¨ng cïng thay ®æi cña ®iÒu ki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§Ó kh¶ n¨ng trë thµnh hiÖn thùc, cÇn cã mét tËp hîp c¸c ®iÒu ki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h÷ng ®iÒu kiÖn tiÒn ®Ò cña sù ra ®êi chñ nghÜa M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guån gèc lý luË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TriÕt häc cæ ®iÓn §øc: ®¹i biÓu G. V. Hªghen (1770-1831) vµ L. Phoi¬b¨c (1804-18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Kinh tÕ chÝnh trÞ häc cæ ®iÓn Anh: ®¹i biÓu A®am Xmit (1723-1790) vµ §. Ric¸c®« (1772-18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ñ nghÜa x· héi kh«ng t­ëng Ph¸p: ®¹i biÓu Xanh Xim«ng (1760-1825) Phuriª (1772-18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V× hiÖn thùc lµ c¸i tån t¹i thùc sù nªn trong ho¹t ®éng nhËn thøc vµ ho¹t ®éng thùc tiÔn cÇn dùa vµo hiÖn thùc ®Ó ®Þnh ra chñ tr­¬ng, ®­êng lèi, ph­¬ng h­íng hµnh ®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h¶ n¨ng biÓu hiÖn khuynh h­íng ph¸t triÓn cña sù vËt, v× vËy ta ph¶I tÝnh ®Õn kh¶ n¨ng, ph©n biÖt c¸c lo¹i kh¶ n¨ng ®Ó biÕn kh¶ n¨ng thµnh hiÖn th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rong tù nhiªn, viÖc chuyÓn kh¶ n¨ng thµnh hiÖn thùc diÔn ra tù ®éng, cßn trong x· héi chóng ta ph¶i ph¸t huy tÝnh chñ ®éng, tÝch cùc cña con ng­ê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IV. C¸c quy luËt c¬ b¶n cña phÐp biÖn chøng duy vË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1. Quy luËt chuyÓn ho¸ tõ nh÷ng sù thay ®æi vÒ l­îng thµnh nh÷ng thay ®æi vÒ chÊt vµ ng­îc l¹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an niÖm trong lÞch sö t­ t­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 chÊt, l­î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Êt lµ ph¹m trï triÕt häc dïng ®Ó chØ tÝnh quy ®Þnh kh¸ch quan vèn cã cña sù vËt, lµ tæng hîp h÷u c¬ c¸c thuéc tÝnh lµm cho sù vËt lµ nã vµ kh¸c víi c¸i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­îng lµ ph¹m trï triÕt häc dïng ®Ó chØ tÝnh quy ®Þnh vèn cã cña sù vËt vÒ mÆt sè l­îng, quy m«, tr×nh ®é, nhÞp ®iÖu cña sù vËn ®éng vµ ph¸t triÓn còng nh­ c¸c thuéc tÝnh cña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Quan hÖ biÖn chøng gi÷a chÊt vµ l­î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vËt bao giê còng lµ thÓ thèng nhÊt gi÷a chÊt vµ l­îng. §©y lµ hai mÆt cña m©u thuÉn cña s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Qu¸ tr×nh chuyÓn ho¸ tõ nh÷ng sù thay ®æi vÒ l­îng dÉn ®Õn sù thay ®æi vÒ chÊ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­îng ®æi trong mét giíi h¹n nhÊt ®Þnh vÉn kh«ng lµm thay ®æi vÒ chÊt c¨n b¶n ®­îc gäi lµ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®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L­îng ®æi v­ît qu¸ giíi h¹n lµm chÊt c¨n b¶n thay ®æi, ®iÓm mµ biÕn ®æi cña l­îng lµm chÊt ®æi ®­îc gäi lµ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®iÓm nót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tÝch luü ®ñ vÒ l­îng t¹i ®iÓm nót sÏ t¹o ra b­íc nh¶y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B­íc nh¶y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lµ ph¹m trï triÕt häc dïng ®Ó chØ sù chuyÓn ho¸ vÕ chÊt cña sù vËt do nh÷ng biÕn ®æi vÒ l­îng cña sù vËt tr­íc ®ã g©y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.VnTim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Qu¸ tr×nh chuyÓn ho¸ tõ nh÷ng sù thay ®æi vÒ chÊt thµnh sù thay ®æi vÒ l­îng: ChÊt míi ra ®êi lµm thay ®æi vÒ quy m«, c¬ cÊu tr×nh ®é nhÞp ®iÖu cña sù vËn ®éng vµ ph¸t triÓn cña sù vË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Néi dung quy luËt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: Mäi sù vËt ®Òu lµ sù thèng nhÊt gi÷a chÊt vµ l­îng, sù thay ®æi dÇn dÇn vÒ l­îng sÏ dÉn ®Õn sù biÕn ®æi vÒ chÊt cña sù vËt th«ng qua b­íc nh¶y; chÊt míi ra ®êi t¸c ®éng trë l¹i sù thay ®æi cña l­îng míi t¹o ra sù biÕn ®æi míi, t¹o thµnh chÊt míi cao h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biÕt tÝch luü vÒ l­îng ®Ó lµm biÕn ®æi vÒ chÊ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rong x· héi khi ®· tÝch luü ®ñ vÒ l­îng ph¶i cã quyÕt t©m tiÕn hµnh b­íc nh¶y ®Ó cã sù thay ®æi vÒ chÊ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biÕt vËn dông linh ho¹t c¸c h×nh thøc cña b­íc nh¶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thay ®æi vÒ chÊt cßn do ph­¬ng thøc liªn kÕt c¸c yÕu tè cña sù vËt, v× vËy ph¶i biÕt thay ®æi c¸c yÕu tè t¹o ra sù ph¸t triÎn cña sù v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. Quy luËt thèng nhÊt vµ ®Êu tranh gi÷a c¸c mÆt ®èi lË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Æt ®èi lËp: lµ nh÷ng mÆt cã ®Æc ®iÓm, nh÷ng thuéc tÝnh, nh÷ng tÝnh quy ®Þnh cã khuynh h­íng biÕn ®æi tr¸i ng­îc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Hai mÆt ®èi lËp trong mét sù vËt hoÆc gi÷a c¸c sù vËt víi nhau t¹o thµnh mét m©u thuÉ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tÝnh chÊt cña m©u thu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©u thuÉn lµ kh¸ch quan, phæ biÕn trong tÊt c¶ mäi sù v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©u thuÉn hÕt søc phong phó vµ ®a d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¸c mÆt ®èi lËp võa thèng nhÊt víi nhau, võa ®Êu tranh víi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b, Qu¸ tr×nh vËn ®éng cña m©u thu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èng nhÊt cña c¸c mÆt ®èi lËp lµ sù n­¬ng tùa vµo nhau, kh«ng t¸ch rêi nhau, c¸i nµy lÊy c¸i kia lµm ®iÒu kiÖn lµm tiÒn ®Ò tån t¹i cña m×nh, gi÷a c¸c mÆt ®èi lË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ù ®Êu tranh gi÷a c¸c mÆt ®èi lËp lµ sù t¸c ®éng qua l¹i, sù bµi trõ g¹t bá nhau, sù cïng chuyÓn ho¸ thµnh c¸c mÆt ®èi lËp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©u thuÉn lµ nguån gèc cña sù vËn déng vµ sù ph¸t tr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éi dung quy luË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äi sù vËt ®Òu chøa ®ùng nh÷ng mÆt cã khuynh h­íng biÕn ®æi ng­îc chiÒu nhau gäi lµ nh÷ng mÆt ®èi lËp. Mèi liªn hÖ cña hai mÆt ®èi lËp t¹o nªn m©u thuÉn. C¸c mÆt ®èi lËp võa thèng nhÊt víi nhau vµ chuyÓn ho¸ lÉn nhau lµm mÉu thuÉn ®­îc gi¶i quyÕt, sù vËt biÕn ®æi  vµ ph¸t triÓn, c¸i míi ra ®êi thay thÕ c¸i cò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.VnTimeH"/>
              </a:rPr>
              <a:t>ý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ghÜa ph­¬ng ph¸p lu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nghiªn cøu ph¸t hiÖn ra  m©u thuÉn: xem xÐt sù vËt trong thÓ thèng nhÊt, t×m ra sù kh¸c biÖt, t×m mÆt ®èi lËp, vµ t×m ra m©u thu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ph©n lo¹i m©u thuÉn, theo dâi qu¸ tr×nh biÕn ®æi vµ ph¸t triÓn cña n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¶i gi¶i quyÕt m©u thuÉn, kh«ng ®iÒu hoµ m©u thuÉn. §Ó gi¶i quyÕt m©u thuÉn ph¶i chuÈn bÞ s½n lùc l­îng vËt chÊt, vµ ph¶i c¨n cø vµo dé chÝnh muåi cña m©u thu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3. Quy luËt phñ ®Þnh cña phñ ®Þ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h¸i niÖ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ñ ®Þnh lµ sù thay thÕ sù vËt nµy b»ng sù vËt kh¸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Phñ ®Þnh biÖn chøng: lµ ph¹m trï triÕt häc dïng ®Ó chØ sù phñ ®Þnh tù th©n, sù ph¸t triÓn tù th©n lµ m¾t kh©u trong qu¸ tr×nh ra ®êi sù vËt mí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§Æc tr­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kh¸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Ýnh kÕ thõ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40:51Z</dcterms:created>
  <dc:creator>Administrator</dc:creator>
  <dc:description/>
  <dc:language>en-US</dc:language>
  <cp:lastModifiedBy>Admin</cp:lastModifiedBy>
  <dcterms:modified xsi:type="dcterms:W3CDTF">2009-02-06T09:51:52Z</dcterms:modified>
  <cp:revision>41</cp:revision>
  <dc:subject/>
  <dc:title>NhËp m«n nh÷ng nguyªn lý c¬ b¶n cña chñ nghÜa M¸c-Lªnin</dc:title>
</cp:coreProperties>
</file>