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45C-AED8-4F29-ADB9-809867D9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46B-855D-4CDC-BAB6-A8A398B1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2EA-BF81-4B2A-AA8B-447A88AD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0A6-B792-4B2B-89D7-9FFF5DD1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18E-1025-463E-8FF5-88B31572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B47-CC7A-4C01-8070-25F817E6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713-DAC8-4D2E-988D-91D7AC6D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EBC-08C7-45E7-8509-C017B46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D9B-D420-4130-93A7-2DD014D0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16C-4ADA-4680-9F61-4F1EF34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211-C469-4C4B-A53B-7AEFAE6A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E7C-B08A-4473-A967-2C93D31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F81E-EED9-4DCA-B9C7-956122FDD56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9144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Rockwell"/>
              </a:rPr>
              <a:t>DE ZEVEN WERELDWOND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2280" y="278460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981080"/>
            <a:ext cx="6477120" cy="41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663300"/>
                </a:solidFill>
                <a:latin typeface="Times New Roman"/>
              </a:rPr>
              <a:t>Een leraar vraagt aan een groep leerling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663300"/>
                </a:solidFill>
                <a:latin typeface="Times New Roman"/>
              </a:rPr>
              <a:t>Maak mij een lijst van wat kan beschouwd worden als de zeven wereldwond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meerderheid van de klas antwoordt het volgen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vue" descr=""/>
          <p:cNvPicPr/>
          <p:nvPr/>
        </p:nvPicPr>
        <p:blipFill>
          <a:blip r:embed="rId1"/>
          <a:stretch/>
        </p:blipFill>
        <p:spPr>
          <a:xfrm>
            <a:off x="811080" y="380880"/>
            <a:ext cx="315144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sourire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4114800" cy="3579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3 :  Het g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4 :  De gliml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mour" descr=""/>
          <p:cNvPicPr/>
          <p:nvPr/>
        </p:nvPicPr>
        <p:blipFill>
          <a:blip r:embed="rId1"/>
          <a:stretch/>
        </p:blipFill>
        <p:spPr>
          <a:xfrm>
            <a:off x="714240" y="304920"/>
            <a:ext cx="367992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ouie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644640" cy="3570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65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5 :   De lief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70560" y="5680080"/>
            <a:ext cx="19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6 :   Het geh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483000" cy="5118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19720" y="457200"/>
            <a:ext cx="39621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stilte in de klas was zo groot dat men er een speld kon horen vallen</a:t>
            </a:r>
            <a:r>
              <a:rPr b="0" lang="fr-CA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Al die zaken die we niet meer opmerken omdat ze zo eenvoudig en gewoon zijn, zijn in feite wereldwond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nk eraan dat de belangrijkste zaken in het leven niet te koop zij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7.  De gevo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yramide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4240" y="457200"/>
            <a:ext cx="55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1 :  DE PYRAMIDES IN EGYP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8440" y="4572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 :  DE TAJ MA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tajmahal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03000" y="45720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3 :  D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randcanyon2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24320" y="45720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4 :  DE NIAGARAWATER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niagara" descr=""/>
          <p:cNvPicPr/>
          <p:nvPr/>
        </p:nvPicPr>
        <p:blipFill>
          <a:blip r:embed="rId1"/>
          <a:stretch/>
        </p:blipFill>
        <p:spPr>
          <a:xfrm>
            <a:off x="838080" y="1249200"/>
            <a:ext cx="74296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84720" y="4572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 :  DE CHINESE M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uraillechine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49400" y="45720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6 :  DE ST.-PIETERSBASILI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ome2" descr=""/>
          <p:cNvPicPr/>
          <p:nvPr/>
        </p:nvPicPr>
        <p:blipFill>
          <a:blip r:embed="rId1"/>
          <a:stretch/>
        </p:blipFill>
        <p:spPr>
          <a:xfrm>
            <a:off x="957240" y="1143000"/>
            <a:ext cx="71960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31920" y="45720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7 :  DE EMPIRE STATE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empire-usa" descr=""/>
          <p:cNvPicPr/>
          <p:nvPr/>
        </p:nvPicPr>
        <p:blipFill>
          <a:blip r:embed="rId1"/>
          <a:stretch/>
        </p:blipFill>
        <p:spPr>
          <a:xfrm>
            <a:off x="4807080" y="1143000"/>
            <a:ext cx="3994200" cy="541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1219320"/>
            <a:ext cx="39625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Als de leraar de antwoorden ophaalt, bemerkt hij dat een leerling nog niet gedaan he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Hij vraagt hem of hij zijn taak wil beëindigen en afgev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leerling antwoordt hem :     « Ja, maar ik kan niet precies beslissen welke ik moet antwoorden want er zijn er zo veel.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6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leraar antwoordt :   « Wel, laat eens zien wat je al geschreven hebt, misschien kan ik wat helpen …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De leerling aarzelt even maar begint dan toch te leze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« Ik denk dat de 7 wereldwonderen de volgende zij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oucher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908440" cy="2984400"/>
          </a:xfrm>
          <a:prstGeom prst="rect">
            <a:avLst/>
          </a:prstGeom>
          <a:ln w="0">
            <a:noFill/>
          </a:ln>
        </p:spPr>
      </p:pic>
      <p:pic>
        <p:nvPicPr>
          <p:cNvPr id="62" name="gouter" descr=""/>
          <p:cNvPicPr/>
          <p:nvPr/>
        </p:nvPicPr>
        <p:blipFill>
          <a:blip r:embed="rId2"/>
          <a:stretch/>
        </p:blipFill>
        <p:spPr>
          <a:xfrm>
            <a:off x="4648320" y="3200400"/>
            <a:ext cx="3543120" cy="271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6172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1 :   De aanr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663300"/>
                </a:solidFill>
                <a:latin typeface="Times New Roman"/>
              </a:rPr>
              <a:t>2 :   De sm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22:12:54Z</dcterms:created>
  <dc:creator>Monique </dc:creator>
  <dc:description/>
  <dc:language>en-US</dc:language>
  <cp:lastModifiedBy>Smets</cp:lastModifiedBy>
  <dcterms:modified xsi:type="dcterms:W3CDTF">2008-10-09T17:26:59Z</dcterms:modified>
  <cp:revision>8</cp:revision>
  <dc:subject/>
  <dc:title>Présentation PowerPoint</dc:title>
</cp:coreProperties>
</file>