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4E6-7377-4B43-A4EB-DF36D04A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199-1EDC-4801-A8DD-DB0A213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4A2-E43F-47D3-AB72-AE2265A6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7BD-74EE-428A-A2BF-61030786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BF8-D799-45D6-AB48-1BCB4FF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B29-17DF-4B9B-A58E-73CE5C73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AB0-062F-4F51-9960-573D3B0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CC1-F52E-447A-82FF-ECF0C1F3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F62-7213-4264-AE56-B69803D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18F-7FF2-4C5F-9B89-1CC929F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58C-122D-4FF2-8A2D-B786ED3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167-21AA-4FD7-9C75-7A442AE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BA7B-C0EE-4095-847F-C98996D6EA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16:39Z</dcterms:modified>
  <cp:revision>25</cp:revision>
  <dc:subject/>
  <dc:title>슬라이드 1</dc:title>
</cp:coreProperties>
</file>