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20D-D04D-4F4E-A6C2-70AAA019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848-30F8-4421-97CB-06F565C8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3C0-8E57-4503-AEB6-3E72E448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EAB-30D3-4E11-B49E-C3216F97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942-B0A7-414C-B30A-22D9876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134-8352-4BAE-8F28-D33A28C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CA7-A395-42C3-A590-DCC7D16D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383-20AF-4C92-B457-BBF2B29C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3E1-AB8C-47BE-A5C2-EA4152B2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72F-9732-445D-BD34-75B074F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ED5-ECF3-440A-BA36-6AEA2B1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DC3-3A6D-49A2-A288-3A283EF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967D-D9B7-451A-A303-E5F8519B71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16:39Z</dcterms:modified>
  <cp:revision>25</cp:revision>
  <dc:subject/>
  <dc:title>슬라이드 1</dc:title>
</cp:coreProperties>
</file>