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67B7-5C4A-48AF-B0D4-6588A6E1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F0E7-824E-4C68-8EAA-8AD465D25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B00D-CFBB-43B1-B6E2-0CA02CBB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896-9B29-442A-A0EE-515BC0A50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8B8C-A864-4CA2-8A5F-E9313EC4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0B25-BDAD-4E34-B898-2AB54A96A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DDC1-780C-4E3E-82F9-6B9B08DD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F31-A730-4C21-8ABF-EB1519E3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3642-25C5-4A5B-A999-7788EEDC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6D9-66A7-43C4-8524-0F89DBE7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64EF-2DD5-4E2E-86CC-8B41441D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F1B2-A5B6-4AEC-B3C4-7D9C63E2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51D85-4E06-4829-B8CE-82F1B14C270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D78814-A695-463C-96F4-FCF401CDAEAB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3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6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5:15:30Z</dcterms:created>
  <dc:creator>최봉수</dc:creator>
  <dc:description/>
  <dc:language>en-US</dc:language>
  <cp:lastModifiedBy>맛있다 군만두</cp:lastModifiedBy>
  <dcterms:modified xsi:type="dcterms:W3CDTF">2024-09-24T08:04:44Z</dcterms:modified>
  <cp:revision>3</cp:revision>
  <dc:subject/>
  <dc:title>슬라이드 1</dc:title>
</cp:coreProperties>
</file>