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75F4-4241-4CA4-B5DD-3B15589B4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F1D8-F04F-4FE0-B64A-3F59CC421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74B5-65C0-4E6C-8B36-8ED10A6F0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0250-F1D7-4877-BAC9-E15DF438A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A9A7-CBB0-4360-B8CF-4082474F1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AD2E-E600-4555-A62D-5238EA23E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4D18-6492-46AB-8F70-C47E69DC3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F361-5CCA-4D82-AF34-5161017BD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2EC2-5E2D-4C47-B778-B2A571B59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2C8E-3B0D-4BBF-9ED2-8DC813EF2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8924-3E0D-4513-9A14-A09ED6707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F636-31C4-41D7-B5AE-6E096F792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0A30-06CA-49A1-9D29-FBE1D75D0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CF0E-CB86-40F7-B3C3-35B002E84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63B8-445F-42B7-AFBC-88420E8EE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BF0C-DD77-4A91-B7D6-3C71A4F6E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8009-D38E-4EDD-A504-D3A9E6712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541E-711C-48F1-B041-C6DDF6328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804D-59E7-4D1E-8FE9-86F8D35F7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A4E3-F404-444B-9F18-4D519F048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97E0-1122-4E24-A6B0-FFEBF2821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C981-9139-4592-8339-C969C6D34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F5F8-6882-4209-BA8A-613ECB275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12C7-CA1E-43D7-B450-A06802637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DFCA-065E-4473-A3C4-FB0309C7B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35E3-D509-44B2-9D78-BCFC2D557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5C16-57A7-4279-8261-36D4FF1B9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58F3-FB0B-4717-AB65-23E9E22C0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1231-9A8E-475C-A8A3-0B582DF6A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4590D-BE63-4677-93FE-1B9721D48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24B5-18D3-424E-BF94-ED008405C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8C2C1-04BC-4443-9D90-DEFA34509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5362-AFBF-449E-833F-C7A276E0C6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EF154-CF27-4ED1-BB67-A30EA82E41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FDDE-86C3-444D-BE74-457EFCEA4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D89A-6A5F-44AC-B107-99A65521B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DF6F-24C0-41B3-9500-704B94C59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E7A0-3351-431B-BCE0-62F1A5503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C9FB-9C7F-4B89-B24F-A9E0D0003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A1313-5CFF-4B39-954B-CAD2235A5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8E9D-7FA7-441C-808C-B2AE0CC8E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F843-7E68-4E1C-BEBF-E29E58D714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153280" cy="238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VNI-Helve"/>
              </a:rPr>
              <a:t>VIEÂM NOÄI TAÂM MAÏC NHIEÃM TRUØNG</a:t>
            </a:r>
            <a:r>
              <a:rPr b="1" lang="en-US" sz="5400" spc="-1" strike="noStrike">
                <a:solidFill>
                  <a:srgbClr val="ffff00"/>
                </a:solidFill>
                <a:latin typeface="VNI-Helve"/>
              </a:rPr>
              <a:t>	</a:t>
            </a:r>
            <a:r>
              <a:rPr b="1" lang="en-US" sz="5400" spc="-1" strike="noStrike">
                <a:solidFill>
                  <a:srgbClr val="ffff00"/>
                </a:solidFill>
                <a:latin typeface="VNI-Helve"/>
              </a:rPr>
              <a:t>	</a:t>
            </a:r>
            <a:endParaRPr b="1" lang="en-US" sz="54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32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PGS.TS. PHAÏM NGUYEÃN VINH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ÑAÏI HOÏC Y KHOA PHAÏM NGOÏC THAÏCH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BEÄNH VIEÄN TIM TAÂM ÑÖÙC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IEÄN TIM TP. HOÀ CHÍ MINH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D18E-BD52-4032-9F68-B2C4DBB8E8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VNTM caáy aâm nghieäm : nguyeân nhaân (1)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B/n ñaõ söû duïng khaùng sinh. TD : uoáng ampicillin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9480" indent="-3394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i truøng thuoäc loaïi moïc chaäm. TD : nhoùm HACEK, vaøi loaïi Streptococci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9480" indent="-3394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Moät soá vi truøng caàn moâi tröôøng caáy ñaëc bieät. TD : C. burnetti (soát Q), Chlamydia,Mycoplasma, Bartonella, Legionella, vaøi loaïi Streptococci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9480" indent="-3394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i truøng kî khí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5E5A-7EBF-4B20-8A3B-8608EB61DA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VNTM caáy aâm nghieäm : nguyeân nhaân (2)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Aspergillus hoaëc naám khaùc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i truøng khoâng caáy ñöôïc, chaån ñoaùn baèng PCR treân moâ cô tim khi phaãu thuaät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Beänh gioáng VNTMNT. TD : Thaáp tim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Beänh VNTM huyeát khoái khoâng coù vi truøng/bn lao hoaëc ung thö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NTM Libman-Sacks/Lupus ban ñoû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9E5E-3592-4D20-ADCA-7589BA771C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Sinh beänh hoïc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Caùc ñieàu kieän :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Tình traïng noäi maïc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Söï löu thoâng cuûa maùu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Söï hieän dieän cuûa vi truøng trong maùu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Hieäu quaû Venturi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Maûnh suøi voâ truøng =&gt; maûnh suøi VNTMNT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Caáu taïo maûnh suøi VNTMNT :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Vi truøng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Fibrin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Hoàng caàu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Baïch caàu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8EEF-D000-4327-A0BC-445DA13A40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aùc bieán coá chính trong sinh beänh hoïc VNTMNT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43240" y="518112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ff33"/>
                </a:solidFill>
                <a:latin typeface="VNI-Helve"/>
              </a:rPr>
              <a:t>TL : Hurst’s The Heart, Mc Graw-Hill 10</a:t>
            </a:r>
            <a:r>
              <a:rPr b="0" i="1" lang="en-US" sz="1600" spc="-1" strike="noStrike" baseline="30000">
                <a:solidFill>
                  <a:srgbClr val="66ff33"/>
                </a:solidFill>
                <a:latin typeface="VNI-Helve"/>
              </a:rPr>
              <a:t>th</a:t>
            </a:r>
            <a:r>
              <a:rPr b="0" i="1" lang="en-US" sz="1600" spc="-1" strike="noStrike">
                <a:solidFill>
                  <a:srgbClr val="66ff33"/>
                </a:solidFill>
                <a:latin typeface="VNI-Helve"/>
              </a:rPr>
              <a:t> ed 2001, 2096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f73-2b"/>
          <p:cNvPicPr/>
          <p:nvPr/>
        </p:nvPicPr>
        <p:blipFill>
          <a:blip r:embed="rId1"/>
          <a:stretch/>
        </p:blipFill>
        <p:spPr>
          <a:xfrm>
            <a:off x="0" y="1525680"/>
            <a:ext cx="6019920" cy="4994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218A-37B7-44BD-A3AE-DABA224999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Vò trí maûnh suøi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treân bn hôû van ÑMC vaø Hôû 2 laù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05520" y="5181120"/>
            <a:ext cx="403848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ff33"/>
                </a:solidFill>
                <a:latin typeface="VNI-Helve"/>
              </a:rPr>
              <a:t>TL : Circulation 1963 ; 27 : 8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110" name="Picture 4" descr="f73-4"/>
          <p:cNvPicPr/>
          <p:nvPr/>
        </p:nvPicPr>
        <p:blipFill>
          <a:blip r:embed="rId1"/>
          <a:stretch/>
        </p:blipFill>
        <p:spPr>
          <a:xfrm>
            <a:off x="609480" y="1752480"/>
            <a:ext cx="3581640" cy="4525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041A-4F75-42F9-8B85-B5952172AD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Trieäu chöùng cô naêng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rong voøng 2 tuaàn sau nhieãm beänh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Meät moûi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Soát nheï hay soát cao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höùc khôùp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ieâm khôùp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83C9-746C-4CB1-9AB4-844467A673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Trieäu chöùng thöïc theå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Aâm thoåi ôû tim : môùi xuaát hieän hay bieán ñoåi moät aâm thoåi cuõ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Ñoâi khi : khoâng aâm thoåi 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Laùch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Laám taám xuaát huyeát döôùi da (peùteùchia)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Maûnh vuïn xuaát huyeát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Veát Roth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Noát Osler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Thöông toån Janeway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Ngoùn tay duøi troáng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Daáu thuyeân taéc : phoåi, naõo, chi döôùi, thaän, buïng 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Bieåu hieän thaàn kinh : do thuyeân taéc hay aùp xe naõo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marL="325800" indent="-325800">
              <a:spcBef>
                <a:spcPts val="550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Suy tim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C509-6112-43F6-A8D2-65BA355046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Taàn suaát xuaát hieän caùc bieåu hieän laâm saøng ôû beänh nhaân VNTMNT 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Bieåu hieän laâm saøng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Taàn suaát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Soát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&gt; 95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Nhöùc khôùp vaø/hoaëc nhöùc cô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25-45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Aâm thoåi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&gt; 85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Laùch lôùn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25-6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Ban xuaát huyeát (Petechia)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20-4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Maûnh vuïn xuaát huyeát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10-3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(Splinter hemorrhages)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Veát Roth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&lt; 5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Noát Osler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10-25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Toån thöông Janeway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&lt; 5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Ngoùn tay duøi troáng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10-2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Thuyeân taéc coù bieåu hieän laâm saøng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25-45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Trieäu chöùng thaàn kinh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20-4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76320" y="205740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76320" y="632448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F507-3C95-433E-AE10-2BF95112D8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Taàn suaát xuaát hieän caùc bieåu hieän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aän laâm saøng ôû beänh nhaân VNTMNT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Caän laâm saøng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taàn suaát (%)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Thieáu maùu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70-9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Gia taêng baïch caàu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20-3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Ñaïm nieäu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50-65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Tieåu maùu vi löôïng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30-5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Creatinine maùu taêng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10-2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Ñoä laéng maùu taêng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&gt; 9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Yeáu toá thaáp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Phöùc hôïp mieãn dòch löu haønh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65-10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Giaûm boå theå huyeát thanh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5-40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434B-0034-46CA-B65F-65B5F03707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9-1"/>
          <p:cNvPicPr/>
          <p:nvPr/>
        </p:nvPicPr>
        <p:blipFill>
          <a:blip r:embed="rId1"/>
          <a:stretch/>
        </p:blipFill>
        <p:spPr>
          <a:xfrm>
            <a:off x="685800" y="533520"/>
            <a:ext cx="2830680" cy="2595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6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685800" y="335268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Daáu Janeway ôû ngoùn caùi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        Ban xuaát huyeát nieâm maïc maë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609480" y="636912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Veát Roth ôû ñaùy maét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         Maûnh vuïn xuaát huyeát döôùi moùng t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c3"/>
          <p:cNvPicPr/>
          <p:nvPr/>
        </p:nvPicPr>
        <p:blipFill>
          <a:blip r:embed="rId2"/>
          <a:stretch/>
        </p:blipFill>
        <p:spPr>
          <a:xfrm>
            <a:off x="5105520" y="533520"/>
            <a:ext cx="2743200" cy="2501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4" descr="c1"/>
          <p:cNvPicPr/>
          <p:nvPr/>
        </p:nvPicPr>
        <p:blipFill>
          <a:blip r:embed="rId3"/>
          <a:stretch/>
        </p:blipFill>
        <p:spPr>
          <a:xfrm>
            <a:off x="5105520" y="3938760"/>
            <a:ext cx="2773080" cy="2187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6" descr="c2"/>
          <p:cNvPicPr/>
          <p:nvPr/>
        </p:nvPicPr>
        <p:blipFill>
          <a:blip r:embed="rId4"/>
          <a:stretch/>
        </p:blipFill>
        <p:spPr>
          <a:xfrm>
            <a:off x="762120" y="3938760"/>
            <a:ext cx="2789280" cy="2187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377E-A8C4-4315-B149-0A56B3B6D1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Taàn suaát môùi maéc (Incidence)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1,6-6/100.000 ngöôøi moãi naêm =&gt;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Myõ : 4000-15000 ca môùi/1 naêm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N : 1400-5000 ca môùi/1 naêm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reân ngöôøi tieâm ma tuùy : 11.6/100 000 ngöôøi moãi naêm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66ff33"/>
                </a:solidFill>
                <a:latin typeface="VNI-Helve"/>
              </a:rPr>
              <a:t>TL : Hurst’s The Heart, Mc Graw-Hill 10</a:t>
            </a:r>
            <a:r>
              <a:rPr b="0" i="1" lang="en-US" sz="1600" spc="-1" strike="noStrike" baseline="30000">
                <a:solidFill>
                  <a:srgbClr val="66ff33"/>
                </a:solidFill>
                <a:latin typeface="VNI-Helve"/>
              </a:rPr>
              <a:t>th</a:t>
            </a:r>
            <a:r>
              <a:rPr b="0" i="1" lang="en-US" sz="1600" spc="-1" strike="noStrike">
                <a:solidFill>
                  <a:srgbClr val="66ff33"/>
                </a:solidFill>
                <a:latin typeface="VNI-Helve"/>
              </a:rPr>
              <a:t> ed 2001, 2088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0CA5-2C91-4FC2-9960-54C0DDCC84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10-2"/>
          <p:cNvPicPr/>
          <p:nvPr/>
        </p:nvPicPr>
        <p:blipFill>
          <a:blip r:embed="rId1"/>
          <a:stretch/>
        </p:blipFill>
        <p:spPr>
          <a:xfrm>
            <a:off x="5791320" y="380880"/>
            <a:ext cx="2292120" cy="2795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10-3"/>
          <p:cNvPicPr/>
          <p:nvPr/>
        </p:nvPicPr>
        <p:blipFill>
          <a:blip r:embed="rId2"/>
          <a:stretch/>
        </p:blipFill>
        <p:spPr>
          <a:xfrm>
            <a:off x="5502240" y="3733920"/>
            <a:ext cx="2727360" cy="25621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5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914400" y="55627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Maûnh suøi lôùn ôû van 2 la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5257800" y="327672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uùi phình Mycotic ôû ÑMC ngöï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346720" y="6413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uùi phình (muõi teân) ôû ÑM naõ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c4"/>
          <p:cNvPicPr/>
          <p:nvPr/>
        </p:nvPicPr>
        <p:blipFill>
          <a:blip r:embed="rId3"/>
          <a:stretch/>
        </p:blipFill>
        <p:spPr>
          <a:xfrm>
            <a:off x="304920" y="2286000"/>
            <a:ext cx="4724280" cy="2886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D0F4-7A8F-479D-BB77-9D84E73DE4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NI-Times"/>
              </a:rPr>
              <a:t>Maûnh suøi lôùn treân van töï nhieân do Candida albicaus (A) vaø maûnh suøi do naám Aspergillis treân van nhaân taïo Starr- Edwards</a:t>
            </a:r>
            <a:endParaRPr b="1" lang="en-US" sz="28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6171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L: Karchmer AW. Infective Endocarditis In Braunwald’s Heart Disease, ed by Libby, Bonow, Mann, Zipes. Saunders Elsevier 2008, 8th ed, p 1713-1733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153" name="Picture 4" descr="63FF1A"/>
          <p:cNvPicPr/>
          <p:nvPr/>
        </p:nvPicPr>
        <p:blipFill>
          <a:blip r:embed="rId1"/>
          <a:srcRect l="14000" t="10975" r="14999" b="16109"/>
          <a:stretch/>
        </p:blipFill>
        <p:spPr>
          <a:xfrm>
            <a:off x="457200" y="160020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63FF1B"/>
          <p:cNvPicPr/>
          <p:nvPr/>
        </p:nvPicPr>
        <p:blipFill>
          <a:blip r:embed="rId2"/>
          <a:srcRect l="14000" t="7896" r="14000" b="10975"/>
          <a:stretch/>
        </p:blipFill>
        <p:spPr>
          <a:xfrm>
            <a:off x="4800600" y="1600200"/>
            <a:ext cx="3819600" cy="4191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9754-F7D7-4B77-ABE2-AF7172334C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Times"/>
              </a:rPr>
              <a:t>Nhoài maùu ngoùn chaân do VNTMNT bôûi Staphylococcus aureus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61416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L: Karchmer AW. Infective Endocarditis In Braunwald’s Heart Disease, ed by Libby, Bonow, Mann, Zipes. Saunders Elsevier 2008, 8th ed, p 1713-1733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159" name="Picture 4" descr="63FF3"/>
          <p:cNvPicPr/>
          <p:nvPr/>
        </p:nvPicPr>
        <p:blipFill>
          <a:blip r:embed="rId1"/>
          <a:srcRect l="0" t="4590" r="9000" b="4590"/>
          <a:stretch/>
        </p:blipFill>
        <p:spPr>
          <a:xfrm>
            <a:off x="1447920" y="1371600"/>
            <a:ext cx="6324480" cy="4726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8D2D-E119-4B4E-A0FE-FCD6424039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aän laâm saøng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hieáu maùu ñaúng saéc nheï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Baïch caàu coù theå bình thöôøng hay taêng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S taêng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Caáy maùu :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Tröôùc khaùng sinh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3 laàn, laàn 1,2 caùch 60 phuùt – laàn 3 caùch 12 giôø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kî khí vaø aùi khí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Phim loàng ngöïc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Ñieän taâm ñoà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Sieâu aâm tim qua thaønh ngöïc : nhaäy caûm 50-80%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Sieâu aâm tim qua ñöôøng thöïc quaûn : nhaäy caûm 90%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F182-29A2-4DFA-B51E-0DFFABA933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haån ñoaùn 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Soát treân 1 tuaàn + aâm thoåi + khoâng tìm thaáy nguyeân nhaân soát : nghi ngôø VNTMNT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ieâm ma tuùy + soát keùo daøi khoâng roõ nguyeân nhaân : VNTMNT ?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236E-9732-43DE-BEA3-E7FF723984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haån ñoaùn beänh VNTMNT (1)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VNI-Helve"/>
              </a:rPr>
              <a:t>Chaån ñoaùn xaùc ñònh :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Hai tieâu chuaån chính hoaëc moät tieâu chuaån chính keøm 3 tieâu chuaån phuï, hoaëc 5 tieâu chuaån phuï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2200" spc="-1" strike="noStrike">
                <a:solidFill>
                  <a:srgbClr val="66ffff"/>
                </a:solidFill>
                <a:latin typeface="VNI-Helve"/>
              </a:rPr>
              <a:t>Tieâu chuaån chính :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1. Phaân laäp ñöôïc Streptococcus viridans, S. bovis, nhoùm HACEK, 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hoaëc (khi khoâng thaáy oå nhieãm truøng) phaân laäp ñöôïc S. aureus, 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Enterococcus trong 2 maãu maùu rieâng bieät hoaëc phaân laäp ñöôïc 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vi truøng phuø hôïp vôùi VNTM ôû 2 maãu maùu caùch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VNI-Helve"/>
              </a:rPr>
              <a:t>&gt;</a:t>
            </a: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 12 giôø hoaëc 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caû 3 hay treân 3 maãu maùu, maãu ñaàu vaø maãu cuoái caùch ít nhaát 1 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giôø.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2. Sieâu aâm tim thaáy maûnh suøi luùc laéc (di ñoäng) hoaëc aùp xe, hoaëc 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VNI-Helve"/>
              </a:rPr>
              <a:t>môùi hôû moät phaàn van nhaân taïo hoaëc hôû van töï nhieân môùi coù.</a:t>
            </a:r>
            <a:endParaRPr b="0" lang="en-US" sz="22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2267-8900-4F1F-BCD3-93B6941245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haån ñoaùn beänh VNTMNT (2)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NI-Helve"/>
              </a:rPr>
              <a:t>Chaån ñoaùn xaùc ñònh :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VNI-Helve"/>
              </a:rPr>
              <a:t> </a:t>
            </a:r>
            <a:r>
              <a:rPr b="1" lang="en-US" sz="2000" spc="-1" strike="noStrike">
                <a:solidFill>
                  <a:srgbClr val="66ffff"/>
                </a:solidFill>
                <a:latin typeface="VNI-Helve"/>
              </a:rPr>
              <a:t>	</a:t>
            </a:r>
            <a:r>
              <a:rPr b="1" lang="en-US" sz="2000" spc="-1" strike="noStrike">
                <a:solidFill>
                  <a:srgbClr val="66ffff"/>
                </a:solidFill>
                <a:latin typeface="VNI-Helve"/>
              </a:rPr>
              <a:t>Tieâu chuaån phuï :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1.  Coù toån thöông deã gaây VNTMNT hoaëc ngöôøi nghieän ma tuùy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2.  Soá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NI-Helve"/>
              </a:rPr>
              <a:t>&gt;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3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NI-Helve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3.  Thuyeân taéc ñoäng maïch lôùn, nhoài maùu phoåi nhieãm truøng, tuùi phình 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mycotic, xuaát huyeát noäi soï, xuaát huyeát nieâm maïc maét, toån thöông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Janeway.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4.  Vieâm vi caàu thaän, noát Osler, noát Roth, yeáu toá thaáp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5.  Caáy maùu döông nghieäm nhöng khoâng ñaït tieâu chuaån chính (loaïi tröø  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caáy maùu döông nghieäm chæ moät laàn caùc vi khuaån khoâng ñaëc hieäu 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cuûa VNTMNT) hoaëc phaûn öùng huyeát thanh döông cuûa nhieãm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truøng ñang xaûy ra vôùi vi khuaån thöôøng gaây VNTMNT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49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6.  Sieâu aâm phuø hôïp vôùi VNTMNT nhöng khoâng ñaït tieâu chuaån chính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F104-A9CE-4BEF-8DED-20FA39836F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haån ñoaùn beänh VNTMNT (3)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NI-Helve"/>
              </a:rPr>
              <a:t>Coù theå VNTMNT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Khoâng ñuû tieâu chuaån xaùc ñònh, nhöng cuõng khoâng thuoäc vaøo nhoùm loaïi tröø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NI-Helve"/>
              </a:rPr>
              <a:t>Loaïi tröø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>
              <a:spcBef>
                <a:spcPts val="60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Coù chaån ñoaùn khaùc hoaëc trieäu chöùng bieán maát hoaëc khoâng coù chöùng côù cuûa VNTMNT khi moå hoaëc phaãu nghieäm töû thi, vôùi chæ döôùi hay baèng 4 ngaøy khaùng sinh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851F-1C40-4B35-BD97-F3613DF5E8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haån ñoaùn phaân bieät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hieãm truøng huyeát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ieâm phoåi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ieâm maøng naõo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AÙp xe naõo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Soát reùt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MNT caáp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ieâm maïch maùu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haáp tim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Lao phoåi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U nhaày nhó traùi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F4B3-FF71-48C9-81EF-F5D39FDBD2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Caùc bieán chöùng cuûa VNTMNT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866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Suy tim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huyeân taéc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Roái loaïn daãn truyeàn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Bieåu hieän thaàn kinh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uùi phình mycotic (mycotic aneurysm)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E830-1A7E-45E2-B8BE-6C5413DC8F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Phaân loaïi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heo cô ñòa ngöôøi beänh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VNTMNT treân van töï nhieân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VNTMNT treân van nhaân taïo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VNTMNT treân ngöôøi tieâm ma tuùy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heo tieán trieån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VNTMNT caáp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VNTMNT baùn caáp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heo taùc nhaân gaây beänh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D : VNTMNT do staphylococcus aureus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CD91-C661-4023-8753-DBE169F8BC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Ñieàu trò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guyeân taéc ñieàu trò :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Khaùng sinh dieät khuaån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Lieàu cao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Daøi ngaøy (4-6 tuaàn)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Löïa choïn khaùng sinh theo :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Loaïi vi truøng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Cô ñòa ngöôøi beänh (coù tieâm ma tuyù? Van nhaân taïo?)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Caáp hay baùn caáp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6F8E-8119-4584-B8F9-6ED083F4CA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NI-Times"/>
              </a:rPr>
              <a:t>Ñieàu trò VNTMNT do Streptococcus viridans nhaäy caûm Penicillin hoaëc Streptococcus bovi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NI-Times"/>
              </a:rPr>
              <a:t> ( M IC&lt; 0,1 Mg/ml)</a:t>
            </a:r>
            <a:endParaRPr b="1" lang="en-US" sz="28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48160" y="1676160"/>
            <a:ext cx="2895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L: Karchmer AW. Infective Endocarditis In Braunwald’s Heart Disease, ed by Libby, Bonow, Mann, Zipes. Saunders Elsevier 2008, 8th ed, p 1713-17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 I C: </a:t>
            </a: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Noàng ñoä öùc cheá toái thieå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g = mic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63FT6"/>
          <p:cNvPicPr/>
          <p:nvPr/>
        </p:nvPicPr>
        <p:blipFill>
          <a:blip r:embed="rId1"/>
          <a:srcRect l="0" t="13374" r="5638" b="38434"/>
          <a:stretch/>
        </p:blipFill>
        <p:spPr>
          <a:xfrm>
            <a:off x="380880" y="1752480"/>
            <a:ext cx="6172200" cy="48355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E606-18B2-4DDA-9191-46DBB849DD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NI-Times"/>
              </a:rPr>
              <a:t>Ñieàu trò VNTMNT do Streptococcus Viridans vaø streptococcus bovis khaùng vôùi Penicillin (MIC &gt; 0,1 Mg/ml vaø &lt; 0,5 Mg/ml</a:t>
            </a:r>
            <a:endParaRPr b="1" lang="en-US" sz="28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5943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L: Karchmer AW. Infective Endocarditis In Braunwald’s Heart Disease, ed by Libby, Bonow, Mann, Zipes. Saunders Elsevier 2008, 8th ed, p 1713-1733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Mg= microgram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201" name="Picture 4" descr="63FT7"/>
          <p:cNvPicPr/>
          <p:nvPr/>
        </p:nvPicPr>
        <p:blipFill>
          <a:blip r:embed="rId1"/>
          <a:srcRect l="0" t="25384" r="5000" b="19232"/>
          <a:stretch/>
        </p:blipFill>
        <p:spPr>
          <a:xfrm>
            <a:off x="609480" y="1600200"/>
            <a:ext cx="7772400" cy="42670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9946-0CB7-4B55-834D-3A0BA053B3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Times"/>
              </a:rPr>
              <a:t>Ñieàu trò VNTMNT do Staphylococcus treân beänh nhaân van töï nhieân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6324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"/>
              </a:rPr>
              <a:t>TL: Karchmer AW. Infective Endocarditis In Braunwald’s Heart Disease, ed by Libby, Bonow, Mann, Zipes. Saunders Elsevier 2008, 8th ed, p 1713-1733</a:t>
            </a:r>
            <a:endParaRPr b="0" lang="en-US" sz="14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206" name="Picture 4" descr="63FT10"/>
          <p:cNvPicPr/>
          <p:nvPr/>
        </p:nvPicPr>
        <p:blipFill>
          <a:blip r:embed="rId1"/>
          <a:srcRect l="0" t="10481" r="3938" b="29760"/>
          <a:stretch/>
        </p:blipFill>
        <p:spPr>
          <a:xfrm>
            <a:off x="1371600" y="1295280"/>
            <a:ext cx="6400800" cy="5007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B464-F513-46F8-865A-39FEE19DD8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Times"/>
              </a:rPr>
              <a:t>Ñieàu trò VNTMNT do Staphylococcus treân van nhaân taïo hoaëc vaät duïng nhaân taïo trong tim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61416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L: Karchmer AW. Infective Endocarditis In Braunwald’s Heart Disease, ed by Libby, Bonow, Mann, Zipes. Saunders Elsevier 2008, 8th ed, p 1713-1733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211" name="Picture 4" descr="63FT11"/>
          <p:cNvPicPr/>
          <p:nvPr/>
        </p:nvPicPr>
        <p:blipFill>
          <a:blip r:embed="rId1"/>
          <a:srcRect l="0" t="12411" r="0" b="33616"/>
          <a:stretch/>
        </p:blipFill>
        <p:spPr>
          <a:xfrm>
            <a:off x="990720" y="1676520"/>
            <a:ext cx="7143480" cy="4267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7CBE-7747-4CF4-B2D4-BD6EA5CADA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Times"/>
              </a:rPr>
              <a:t>Ñieàu trò VNTMNT do nhoùm HACEK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5989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L: Karchmer AW. Infective Endocarditis In Braunwald’s Heart Disease, ed by Libby, Bonow, Mann, Zipes. Saunders Elsevier 2008, 8th ed, p 1713-1733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216" name="Picture 4" descr="63FT12"/>
          <p:cNvPicPr/>
          <p:nvPr/>
        </p:nvPicPr>
        <p:blipFill>
          <a:blip r:embed="rId1"/>
          <a:srcRect l="0" t="14316" r="4000" b="52137"/>
          <a:stretch/>
        </p:blipFill>
        <p:spPr>
          <a:xfrm>
            <a:off x="609480" y="1905120"/>
            <a:ext cx="7620120" cy="28954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7ADF-CD6D-429A-A865-95D4DED0AE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Ñieàu trò chöa coù keát quaû vi truøng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NTMNT caáp :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Nafcillin (2g TM x 6) + Ampicillin (2g TM x6) + Gentamicin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(1,5 mg/kg TM x 3)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Vancomycin (1g TM x 2) + Ampicillin + Gentamicin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NTMNT baùn caáp :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Ampicillin (2g TMC x 4) + Gentamicin (1,5 mg/kg/TM x 3)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434C-7224-42B9-B830-1ACB109B6F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Times"/>
              </a:rPr>
              <a:t>CHÆ ÑÒNH PHAÃU THUAÄT TIM/ VNTMNT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62481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"/>
              </a:rPr>
              <a:t>TL: Karchmer AW. Infective Endocarditis In Braunwald’s Heart Disease, ed by Libby, Bonow, Mann, Zipes. Saunders Elsevier 2008, 8th ed, p 1713-1733</a:t>
            </a:r>
            <a:endParaRPr b="0" lang="en-US" sz="14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225" name="Picture 4" descr="63FT13"/>
          <p:cNvPicPr/>
          <p:nvPr/>
        </p:nvPicPr>
        <p:blipFill>
          <a:blip r:embed="rId1"/>
          <a:srcRect l="0" t="10570" r="7002" b="14721"/>
          <a:stretch/>
        </p:blipFill>
        <p:spPr>
          <a:xfrm>
            <a:off x="1066680" y="1143000"/>
            <a:ext cx="6629400" cy="51325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BC1E-5114-431F-AC4A-C1BAE45522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NI-Times"/>
              </a:rPr>
              <a:t>Cheá ñoä phoøng ngöøa VNTMNT treân beänh nhaân coù laøm thuû thuaät ôû raêng, mieäng vaø ñöôøng hoâ haáp treân</a:t>
            </a:r>
            <a:endParaRPr b="1" lang="en-US" sz="30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6294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ffff"/>
              </a:buClr>
              <a:buFont typeface="VNI-Helve-Condens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Wilson W et al. Recommendations of the American Heart Association 2007</a:t>
            </a:r>
            <a:endParaRPr b="0" lang="en-US" sz="14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230" name="Picture 4" descr="63FT15"/>
          <p:cNvPicPr/>
          <p:nvPr/>
        </p:nvPicPr>
        <p:blipFill>
          <a:blip r:embed="rId1"/>
          <a:srcRect l="0" t="10615" r="0" b="20462"/>
          <a:stretch/>
        </p:blipFill>
        <p:spPr>
          <a:xfrm>
            <a:off x="762120" y="1676520"/>
            <a:ext cx="8001000" cy="42670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EF56-634D-466F-8A63-597BFE93B1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VNI-Times"/>
              </a:rPr>
              <a:t>Caùc tröôøng hôïp beänh coù nguy cô cao VNTMNT caàn phoøng ngöøa beänh khi laøm thuû thuaät veà raêng</a:t>
            </a:r>
            <a:endParaRPr b="1" lang="en-US" sz="30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6294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Wilson W et al. Recommendatenis of the American Heart Association 2007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235" name="Picture 4" descr="63FT14"/>
          <p:cNvPicPr/>
          <p:nvPr/>
        </p:nvPicPr>
        <p:blipFill>
          <a:blip r:embed="rId1"/>
          <a:srcRect l="0" t="18149" r="0" b="24194"/>
          <a:stretch/>
        </p:blipFill>
        <p:spPr>
          <a:xfrm>
            <a:off x="762120" y="1828800"/>
            <a:ext cx="7619760" cy="35053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6C20-7444-47AD-8030-77DF67EFC2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Taàn suaát VNTMNT theo beänh tim chính ôû Myõ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Toån thöông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Treû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Treû 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Ngöôøi lôùn    Ngöôøi lôùn    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Ngöôøi lôùn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&lt; 2t 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 2-5t 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15-50t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      &gt; 50t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tieâm ma tuyù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%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%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%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      %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VNI-Helve"/>
              </a:rPr>
              <a:t>    %</a:t>
            </a: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Khoâng beänh tim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50-7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-15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-2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      1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50-60</a:t>
            </a: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BTBS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30-5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70-8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25-35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      15-25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Thaáp tim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hieám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-15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      10-15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Beänh tim thoaùi hoùa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hieám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      10-2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hieám</a:t>
            </a: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Tieàn söû phaãu thuaät tim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-15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-2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      10-2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-20</a:t>
            </a: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Tieàn söû VNTMNT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hieám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5-1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      5-10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10-20</a:t>
            </a: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BTBS : beänh tim baåm sinh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VNTMNT : Vieâm noäi taâm maïc nhieãm truøng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ff33"/>
                </a:solidFill>
                <a:latin typeface="VNI-Helve"/>
              </a:rPr>
              <a:t>TL : Hurst’s The Heart, Mc Graw-Hill 10</a:t>
            </a:r>
            <a:r>
              <a:rPr b="0" i="1" lang="en-US" sz="1800" spc="-1" strike="noStrike" baseline="30000">
                <a:solidFill>
                  <a:srgbClr val="66ff33"/>
                </a:solidFill>
                <a:latin typeface="VNI-Helve"/>
              </a:rPr>
              <a:t>th</a:t>
            </a:r>
            <a:r>
              <a:rPr b="0" i="1" lang="en-US" sz="1800" spc="-1" strike="noStrike">
                <a:solidFill>
                  <a:srgbClr val="66ff33"/>
                </a:solidFill>
                <a:latin typeface="VNI-Helve"/>
              </a:rPr>
              <a:t> ed 2001, 2089</a:t>
            </a:r>
            <a:endParaRPr b="0" lang="en-US" sz="18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0" y="1447920"/>
            <a:ext cx="9144000" cy="7596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0" y="243828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9AB1-F352-4E01-A3B5-D7A9990E04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Times"/>
              </a:rPr>
              <a:t>Sieâu aâm tim trong chaån ñoaùn vaø theo doõi ñieàu trò VNTMNT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228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Beänh nhaân nguy cô cao(high risk patients):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Coù van nhaân taïo 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BTBS phöùc taïp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Tieàn söû VNTMNT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Times"/>
              </a:rPr>
              <a:t>Thoåi hoaëc suy tim môùi xuaát hieän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L: Bayer AS et al. Circulation 1998; 98: 2936- 2948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240" name="Picture 4" descr="63FF4"/>
          <p:cNvPicPr/>
          <p:nvPr/>
        </p:nvPicPr>
        <p:blipFill>
          <a:blip r:embed="rId1"/>
          <a:srcRect l="999" t="477" r="3001" b="5557"/>
          <a:stretch/>
        </p:blipFill>
        <p:spPr>
          <a:xfrm>
            <a:off x="2362320" y="1371600"/>
            <a:ext cx="6781680" cy="52275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564E-2882-4026-AD60-CDD8167E8D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Tieân löôïng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Yeáu toá tieân löôïng xaáu :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*  Taùc nhaân gaây beänh khoâng phaûi laø Streptococci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*  Xuaát hieän suy tim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*  Toån thöông van ÑMC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*  Van nhaân taïo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*  Tuoåi giaø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*  Coù aùp xe cô tim hay voøng van 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-335880">
              <a:spcBef>
                <a:spcPts val="4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VNTMNT do Staphylococcus aureus treân ngöôøi khoâng nghieän ma tuùy # 40% töû vong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-335880">
              <a:spcBef>
                <a:spcPts val="4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Maûnh suøi lôùn : tieân löôïng xaáu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-335880">
              <a:spcBef>
                <a:spcPts val="4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VNTMNT sôùm/van nhaân taïo xaáu hôn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  <a:p>
            <a:pPr marL="335880" indent="-335880">
              <a:spcBef>
                <a:spcPts val="4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VNTMNT chaäm/van nhaân taïo</a:t>
            </a:r>
            <a:endParaRPr b="0" lang="en-US" sz="20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1D3E-A608-430E-BE4D-EB9391B6C3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Times"/>
              </a:rPr>
              <a:t>Ñaëc ñieåm veà chaån ñoaùn vaø ñieàu trò VNTMNT/ ngöôøi cao tuoåi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Trieäu chöùng cô naêng vaø thöïc theå khoâng raàm roä, khoù phaùt hieän do coù beänh noäi khoa keøm theo( TD: Pheá khí thuõng, beänh phoåi maïn taéc ngheõn…)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Caáy maùu sôùm vaø sieâu aâm tim qua thaønh ngöïc, nhaát laø SATQTQ raát caàn thieát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Traéc nghieäm PCR treân DNA cuûa vi truøng caàn thieát/ moät soá tröôøng hôïp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Söû duïng thuoác theo phaùc ñoà khoâng khaùc ngöôøi treû: chænh lieàu theo ñoä loïc caàu thaän vaø chöùc naêng gan.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Theo doõi saùt caùc bieán chöùng baèng laâm saøng vaø sieâu aâm tim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AAFC-6E9C-420C-850E-0068F4DAD9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Nguy cô töông ñoái VNTMNT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thay ñoåi theo loaïi toån thöông tim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NI-Helve"/>
              </a:rPr>
              <a:t>Nguy cô cao</a:t>
            </a:r>
            <a:r>
              <a:rPr b="1" lang="en-US" sz="16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VNI-Helve"/>
              </a:rPr>
              <a:t>Nguy cô trung bình</a:t>
            </a:r>
            <a:r>
              <a:rPr b="1" lang="en-US" sz="16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VNI-Helve"/>
              </a:rPr>
              <a:t>Nguy cô raát thaáp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1" lang="en-US" sz="1600" spc="-1" strike="noStrike">
                <a:solidFill>
                  <a:srgbClr val="ff3300"/>
                </a:solidFill>
                <a:latin typeface="VNI-Helve"/>
              </a:rPr>
              <a:t>(khoâng ñaùng keå)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Van nhaân taïo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Sa van hai laù coù hôû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Sa 2 laù khoâng hôû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ieàn söû VNTMNT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Heïp 2 laù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Hôû van 3 laù nheï phaùt hieän 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baèng sieâu aâm tim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BTBS tím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Beänh van 3 laù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hoâng lieân nhó loã thöù 2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Beänh van ÑMC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Beänh van ÑMP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Maûng xô vöõa ÑM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Hôû van 2 laù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Phì ñaïi vaùch thaát khoâng ñoái xöùng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Beänh ÑMV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Hôû heïp 2 laù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Ñöôøng truyeàn ñeán nhó phaûi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Vieâm ÑMC giang mai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Coøn oáng ñoäng maïch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Caáy vaät nhaân taïo trong tim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Maùy taïo nhòp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Heïp eo ÑMC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(khoâng laø van)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hoâng lieân thaát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Beänh van thoaùi hoaù ngöôøi cao tuoåi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oån thöông tim ñaõ moå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(khoâng caáy vaät nhaân taïo, 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reân 6 thaùng sau moå)</a:t>
            </a:r>
            <a:endParaRPr b="0" lang="en-US" sz="1600" spc="-1" strike="noStrike">
              <a:solidFill>
                <a:srgbClr val="ffffff"/>
              </a:solidFill>
              <a:latin typeface="VNI-Helve"/>
            </a:endParaRPr>
          </a:p>
          <a:p>
            <a:pPr lvl="4" marL="2036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ff33"/>
                </a:solidFill>
                <a:latin typeface="Arial"/>
              </a:rPr>
              <a:t>TL : Hurst’s The Heart, Mc Graw-Hill 10</a:t>
            </a:r>
            <a:r>
              <a:rPr b="0" i="1" lang="en-US" sz="1200" spc="-1" strike="noStrike" baseline="30000">
                <a:solidFill>
                  <a:srgbClr val="66ff33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66ff33"/>
                </a:solidFill>
                <a:latin typeface="Arial"/>
              </a:rPr>
              <a:t> ed 2001, 20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NI-Helv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67" name="Line 9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0AB0-2647-4A38-AF8D-16B8645350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NI-Times"/>
              </a:rPr>
              <a:t>ÑIEÀU KIEÄN KHÔÛI BEÄNH VAØ VI TRUØNG THÖÔØNG GAËP TREÂN VNTMNT VAN TÖÏ NHIEÂN</a:t>
            </a:r>
            <a:endParaRPr b="1" lang="en-US" sz="28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6294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"/>
              </a:rPr>
              <a:t>TL: Karchmer AW. Infective Endocarditis In Braunwald’s Heart Disease, ed by Libby, Bonow, Mann, Zipes. Saunders Elsevier 2008, 8th ed, p 1713-1733</a:t>
            </a:r>
            <a:endParaRPr b="0" lang="en-US" sz="1400" spc="-1" strike="noStrike">
              <a:solidFill>
                <a:srgbClr val="ffffff"/>
              </a:solidFill>
              <a:latin typeface="VNI-Helve"/>
            </a:endParaRPr>
          </a:p>
        </p:txBody>
      </p:sp>
      <p:pic>
        <p:nvPicPr>
          <p:cNvPr id="73" name="Picture 4" descr="63FT1"/>
          <p:cNvPicPr/>
          <p:nvPr/>
        </p:nvPicPr>
        <p:blipFill>
          <a:blip r:embed="rId1"/>
          <a:srcRect l="0" t="6831" r="3848" b="29515"/>
          <a:stretch/>
        </p:blipFill>
        <p:spPr>
          <a:xfrm>
            <a:off x="380880" y="1219320"/>
            <a:ext cx="5715000" cy="4971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324480" y="1676520"/>
            <a:ext cx="2819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RHD: Rheumatic Heart   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CHD: Congenital Heart 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MVP: Mitral Valve 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Prolap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DHD: Degenerative 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Heart  Dis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9A3A-A61C-4743-8617-66C94211E7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Times"/>
              </a:rPr>
              <a:t>VI TRUØNG GAÂY BEÄNH/ VNTMNT ÔÛ NGÖÔØI TIEÂM MA TUYÙ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3244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"/>
              </a:rPr>
              <a:t>TL: </a:t>
            </a: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Karchmer AW. Infective Endocarditis In Braunwald’s Heart Disease, ed by Libby, Bonow, Mann, Zipes. Saunders Elsevier 2008, 8</a:t>
            </a:r>
            <a:r>
              <a:rPr b="0" lang="en-US" sz="1400" spc="-1" strike="noStrike" baseline="30000">
                <a:solidFill>
                  <a:srgbClr val="ffffff"/>
                </a:solidFill>
                <a:latin typeface="VNI-Helve-Condense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 ed, p 1713-1733</a:t>
            </a:r>
            <a:endParaRPr b="0" lang="en-US" sz="1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0" y="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63FT2"/>
          <p:cNvPicPr/>
          <p:nvPr/>
        </p:nvPicPr>
        <p:blipFill>
          <a:blip r:embed="rId1"/>
          <a:srcRect l="0" t="8286" r="2002" b="25467"/>
          <a:stretch/>
        </p:blipFill>
        <p:spPr>
          <a:xfrm>
            <a:off x="533520" y="1676520"/>
            <a:ext cx="838188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E7A3-A3DA-4D6E-8D16-6C6C5B26C8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Times"/>
              </a:rPr>
              <a:t>VI TRUØNG GAÂY BEÄNH TREÂN VNTMNT VAN NHAÂN TAÏO 1970 – 2003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57200" y="6294600"/>
            <a:ext cx="78487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"/>
              </a:rPr>
              <a:t>TL: </a:t>
            </a: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Karchmer AW. Infective Endocarditis In Braunwald’s Heart Disease, ed by Libby, Bonow, Mann, Zipes. Saunders Elsevier 2008, 8</a:t>
            </a:r>
            <a:r>
              <a:rPr b="0" lang="en-US" sz="1400" spc="-1" strike="noStrike" baseline="30000">
                <a:solidFill>
                  <a:srgbClr val="ffffff"/>
                </a:solidFill>
                <a:latin typeface="VNI-Helve-Condense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 ed, p 1713-17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63FT3"/>
          <p:cNvPicPr/>
          <p:nvPr/>
        </p:nvPicPr>
        <p:blipFill>
          <a:blip r:embed="rId1"/>
          <a:srcRect l="0" t="7620" r="4421" b="25715"/>
          <a:stretch/>
        </p:blipFill>
        <p:spPr>
          <a:xfrm>
            <a:off x="1371600" y="1447920"/>
            <a:ext cx="6172200" cy="47498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0" y="7632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Vieâm noäi taâm maïc nhieãm truø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A629-58B6-454C-8E1E-E713ACD55A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NI-Helve"/>
              </a:rPr>
              <a:t>VNTM do nhieãm truøng beänh vieän</a:t>
            </a:r>
            <a:endParaRPr b="1" lang="en-US" sz="3200" spc="-1" strike="noStrike">
              <a:solidFill>
                <a:srgbClr val="ffff00"/>
              </a:solidFill>
              <a:latin typeface="VNI-Helv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Ñöôøng vaøo cuûa vi truøng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75% do caùc ñöôøng maïch maùu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*  Caùc ñöôøng khaùc : veát thöông, choã ñaët maùy taïo 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hòp, oáng noäi khí quaûn, oáng thoâng tieåu …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5880" indent="-3358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2/3 b/n khoâng coù beänh tim tröôùc ñoù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  <a:p>
            <a:pPr marL="335880" indent="-3358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Vi truøng thöôøng gaëp : staphylococcus ; Gram(-) ; enterococci ; candida</a:t>
            </a:r>
            <a:endParaRPr b="0" lang="en-US" sz="2400" spc="-1" strike="noStrike">
              <a:solidFill>
                <a:srgbClr val="ffffff"/>
              </a:solidFill>
              <a:latin typeface="VNI-Helve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0" y="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VNI-Helve"/>
              </a:rPr>
              <a:t>VIEÂM NOÄI TAÂM MAÏC NHIEÃM TRUØ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02:43:28Z</dcterms:created>
  <dc:creator>huh</dc:creator>
  <dc:description/>
  <dc:language>en-US</dc:language>
  <cp:lastModifiedBy>Bao Thu</cp:lastModifiedBy>
  <dcterms:modified xsi:type="dcterms:W3CDTF">2013-09-16T02:35:32Z</dcterms:modified>
  <cp:revision>89</cp:revision>
  <dc:subject/>
  <dc:title>VIEÂM NOÄI TAÂM MAÏC NHIEÃM TRUØNG (Infective Endocarditis)</dc:title>
</cp:coreProperties>
</file>