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EF53-60C2-486F-B581-1DAEB5C44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9304-FFCF-48D5-8FD9-61A3D8935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8551-6ADC-479A-8A56-318BF15D2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6835-17DA-4B0C-B0A8-0DB8396D8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67DF-5E09-49CE-9578-B517C69B7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4C65-CF47-47B6-A10D-DB3DDF144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255E-805A-4323-B741-8F384CA61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88AB-9F8A-48EB-B2B1-18D61E429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0B65-02DC-4EB6-8902-94F1360CA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042C-CEA1-47E7-A1A2-9BCC7D30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5988-1532-4F26-B3D2-47D44D2C4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10A4-96AA-49FD-BC57-0AF10E0D8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6C10-0C88-41F8-BF3B-8D7B1CC31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8C45-DE65-4E1B-A788-B0D51326F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5DF1-E038-4DFC-AF57-E2062F594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D05B-A973-44B7-8B02-6BAEE8E5B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5837-3DB7-4F3B-8EF0-61354F802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5511-D4DF-4B3C-8381-C4A48D842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A124-276D-40DF-90CD-27AB4A2FD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0C12-B54C-4852-83C3-390B2427D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D087-B4AD-4F77-BECA-80D3EC011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3337-42C1-4392-931B-B18A93CEC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EBE1-D7DE-44DF-899C-C07F517B7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BB1C-DD29-4230-B46C-7A4233FF9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5C0E-BFA1-42DB-AC54-85BF4661E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9BD9-2104-4057-B400-FDDBCC510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7445-7062-4B92-A390-CB8513700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CDD1-F87B-4D8B-A0FA-01084209A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F208-A734-4505-A1A2-E965126B9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C9BD-C7D5-40CA-AFC3-B589A6AAD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76C8-91DD-4866-A71A-9471412B7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993B-0F44-4497-94C5-E29FA49B9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9EB3-D569-4D9E-85EC-8AF72CB8BB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7F33-0CF8-4577-89AA-085BDB3687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F176-9463-41CF-A9B4-2310889CA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DA83-045F-451A-BFBA-E7EE45D32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1E22-8B29-49CF-80E9-FD32190DC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BB1A-B828-4F4D-87F2-5915D6033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C3F9-F38E-4038-9B3A-E625858E1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C830-C2BD-4AC3-B462-108A363AD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1CEA-1388-4C9B-B0F6-8372D5BA4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A9E0-9092-4750-B687-D53706E59B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153280" cy="23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VNI-Helve"/>
              </a:rPr>
              <a:t>VIEÂM NOÄI TAÂM MAÏC NHIEÃM TRUØNG</a:t>
            </a:r>
            <a:r>
              <a:rPr b="1" lang="en-US" sz="5400" spc="-1" strike="noStrike">
                <a:solidFill>
                  <a:srgbClr val="ffff00"/>
                </a:solidFill>
                <a:latin typeface="VNI-Helve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VNI-Helve"/>
              </a:rPr>
              <a:t>	</a:t>
            </a:r>
            <a:endParaRPr b="1" lang="en-US" sz="54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32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PGS.TS. PHAÏM NGUYEÃN VINH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ÑAÏI HOÏC Y KHOA PHAÏM NGOÏC THAÏCH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BEÄNH VIEÄN TIM TAÂM ÑÖÙC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EÄN TIM TP. HOÀ CHÍ MINH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2422-80A0-418B-A480-505CD91587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VNTM caáy aâm nghieäm : nguyeân nhaân (1)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B/n ñaõ söû duïng khaùng sinh. TD : uoáng ampicillin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9480" indent="-3394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 truøng thuoäc loaïi moïc chaäm. TD : nhoùm HACEK, vaøi loaïi Streptococci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9480" indent="-3394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Moät soá vi truøng caàn moâi tröôøng caáy ñaëc bieät. TD : C. burnetti (soát Q), Chlamydia,Mycoplasma, Bartonella, Legionella, vaøi loaïi Streptococci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9480" indent="-3394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 truøng kî khí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19A1-EC71-4572-A249-4B9BF8BE59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VNTM caáy aâm nghieäm : nguyeân nhaân (2)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Aspergillus hoaëc naám khaùc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 truøng khoâng caáy ñöôïc, chaån ñoaùn baèng PCR treân moâ cô tim khi phaãu thuaät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Beänh gioáng VNTMNT. TD : Thaáp tim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Beänh VNTM huyeát khoái khoâng coù vi truøng/bn lao hoaëc ung thö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NTM Libman-Sacks/Lupus ban ñoû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2AE2-C17B-41BA-AC8E-9FAA05AE39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Sinh beänh hoïc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Caùc ñieàu kieän :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Tình traïng noäi maïc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Söï löu thoâng cuûa maùu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Söï hieän dieän cuûa vi truøng trong maùu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Hieäu quaû Venturi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Maûnh suøi voâ truøng =&gt; maûnh suøi VNTMNT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Caáu taïo maûnh suøi VNTMNT :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Vi truøng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Fibrin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Hoàng caàu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Baïch caàu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4E0A-BEBE-4715-875C-4C81D75869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aùc bieán coá chính trong sinh beänh hoïc VNTMNT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43240" y="5181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ff33"/>
                </a:solidFill>
                <a:latin typeface="VNI-Helve"/>
              </a:rPr>
              <a:t>TL : Hurst’s The Heart, Mc Graw-Hill 10</a:t>
            </a:r>
            <a:r>
              <a:rPr b="0" i="1" lang="en-US" sz="1600" spc="-1" strike="noStrike" baseline="30000">
                <a:solidFill>
                  <a:srgbClr val="66ff33"/>
                </a:solidFill>
                <a:latin typeface="VNI-Helve"/>
              </a:rPr>
              <a:t>th</a:t>
            </a:r>
            <a:r>
              <a:rPr b="0" i="1" lang="en-US" sz="1600" spc="-1" strike="noStrike">
                <a:solidFill>
                  <a:srgbClr val="66ff33"/>
                </a:solidFill>
                <a:latin typeface="VNI-Helve"/>
              </a:rPr>
              <a:t> ed 2001, 2096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f73-2b"/>
          <p:cNvPicPr/>
          <p:nvPr/>
        </p:nvPicPr>
        <p:blipFill>
          <a:blip r:embed="rId1"/>
          <a:stretch/>
        </p:blipFill>
        <p:spPr>
          <a:xfrm>
            <a:off x="0" y="1525680"/>
            <a:ext cx="6019920" cy="4994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965E-096D-451B-A9B7-5FB5974811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Vò trí maûnh suøi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reân bn hôû van ÑMC vaø Hôû 2 laù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05520" y="5181120"/>
            <a:ext cx="4038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ff33"/>
                </a:solidFill>
                <a:latin typeface="VNI-Helve"/>
              </a:rPr>
              <a:t>TL : Circulation 1963 ; 27 : 8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110" name="Picture 4" descr="f73-4"/>
          <p:cNvPicPr/>
          <p:nvPr/>
        </p:nvPicPr>
        <p:blipFill>
          <a:blip r:embed="rId1"/>
          <a:stretch/>
        </p:blipFill>
        <p:spPr>
          <a:xfrm>
            <a:off x="609480" y="1752480"/>
            <a:ext cx="358164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7503-0C10-4DD6-B1A5-17D5E23CC0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rieäu chöùng cô naêng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rong voøng 2 tuaàn sau nhieãm beänh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Meät moûi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oát nheï hay soát cao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höùc khôùp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eâm khôùp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3353-F16D-426A-859E-01C94A067D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rieäu chöùng thöïc theå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Aâm thoåi ôû tim : môùi xuaát hieän hay bieán ñoåi moät aâm thoåi cuõ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Ñoâi khi : khoâng aâm thoåi 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Laùch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Laám taám xuaát huyeát döôùi da (peùteùchia)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Maûnh vuïn xuaát huyeát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Veát Roth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Noát Osler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Thöông toån Janeway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Ngoùn tay duøi troáng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Daáu thuyeân taéc : phoåi, naõo, chi döôùi, thaän, buïng 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Bieåu hieän thaàn kinh : do thuyeân taéc hay aùp xe naõo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Suy tim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6891-C36C-436E-8EC6-32E8895500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aàn suaát xuaát hieän caùc bieåu hieän laâm saøng ôû beänh nhaân VNTMNT 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Bieåu hieän laâm saøng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Taàn suaát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Soát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&gt; 95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Nhöùc khôùp vaø/hoaëc nhöùc cô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25-45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Aâm thoåi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&gt; 85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Laùch lôùn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25-6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Ban xuaát huyeát (Petechia)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20-4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Maûnh vuïn xuaát huyeát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10-3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(Splinter hemorrhages)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Veát Roth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&lt; 5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Noát Osler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10-25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Toån thöông Janeway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&lt; 5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Ngoùn tay duøi troáng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10-2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Thuyeân taéc coù bieåu hieän laâm saøng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25-45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Trieäu chöùng thaàn kinh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20-4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76320" y="205740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76320" y="63244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1A39-6A88-4AC4-80FA-CD4AB89548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aàn suaát xuaát hieän caùc bieåu hieän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aän laâm saøng ôû beänh nhaân VNTMNT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Caän laâm saøng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taàn suaát (%)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Thieáu maùu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70-9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Gia taêng baïch caàu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20-3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Ñaïm nieäu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50-65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Tieåu maùu vi löôïng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30-5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Creatinine maùu taêng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10-2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Ñoä laéng maùu taêng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&gt; 9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Yeáu toá thaáp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Phöùc hôïp mieãn dòch löu haønh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65-10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Giaûm boå theå huyeát thanh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5-4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0E33-F9CE-42D6-A313-4CCCC99253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9-1"/>
          <p:cNvPicPr/>
          <p:nvPr/>
        </p:nvPicPr>
        <p:blipFill>
          <a:blip r:embed="rId1"/>
          <a:stretch/>
        </p:blipFill>
        <p:spPr>
          <a:xfrm>
            <a:off x="685800" y="533520"/>
            <a:ext cx="2830680" cy="2595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6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85800" y="335268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Daáu Janeway ôû ngoùn caùi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        Ban xuaát huyeát nieâm maïc maë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609480" y="63691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Veát Roth ôû ñaùy maét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         Maûnh vuïn xuaát huyeát döôùi moùng t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c3"/>
          <p:cNvPicPr/>
          <p:nvPr/>
        </p:nvPicPr>
        <p:blipFill>
          <a:blip r:embed="rId2"/>
          <a:stretch/>
        </p:blipFill>
        <p:spPr>
          <a:xfrm>
            <a:off x="5105520" y="533520"/>
            <a:ext cx="2743200" cy="2501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4" descr="c1"/>
          <p:cNvPicPr/>
          <p:nvPr/>
        </p:nvPicPr>
        <p:blipFill>
          <a:blip r:embed="rId3"/>
          <a:stretch/>
        </p:blipFill>
        <p:spPr>
          <a:xfrm>
            <a:off x="5105520" y="3938760"/>
            <a:ext cx="2773080" cy="2187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6" descr="c2"/>
          <p:cNvPicPr/>
          <p:nvPr/>
        </p:nvPicPr>
        <p:blipFill>
          <a:blip r:embed="rId4"/>
          <a:stretch/>
        </p:blipFill>
        <p:spPr>
          <a:xfrm>
            <a:off x="762120" y="3938760"/>
            <a:ext cx="2789280" cy="218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48C6-A419-4D73-ABBB-1AECE2B0DC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aàn suaát môùi maéc (Incidence)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1,6-6/100.000 ngöôøi moãi naêm =&gt;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Myõ : 4000-15000 ca môùi/1 naêm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N : 1400-5000 ca môùi/1 naêm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reân ngöôøi tieâm ma tuùy : 11.6/100 000 ngöôøi moãi naêm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ff33"/>
                </a:solidFill>
                <a:latin typeface="VNI-Helve"/>
              </a:rPr>
              <a:t>TL : Hurst’s The Heart, Mc Graw-Hill 10</a:t>
            </a:r>
            <a:r>
              <a:rPr b="0" i="1" lang="en-US" sz="1600" spc="-1" strike="noStrike" baseline="30000">
                <a:solidFill>
                  <a:srgbClr val="66ff33"/>
                </a:solidFill>
                <a:latin typeface="VNI-Helve"/>
              </a:rPr>
              <a:t>th</a:t>
            </a:r>
            <a:r>
              <a:rPr b="0" i="1" lang="en-US" sz="1600" spc="-1" strike="noStrike">
                <a:solidFill>
                  <a:srgbClr val="66ff33"/>
                </a:solidFill>
                <a:latin typeface="VNI-Helve"/>
              </a:rPr>
              <a:t> ed 2001, 2088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B980-EFF6-4BE8-AF99-6F266BE53C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10-2"/>
          <p:cNvPicPr/>
          <p:nvPr/>
        </p:nvPicPr>
        <p:blipFill>
          <a:blip r:embed="rId1"/>
          <a:stretch/>
        </p:blipFill>
        <p:spPr>
          <a:xfrm>
            <a:off x="5791320" y="380880"/>
            <a:ext cx="2292120" cy="279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10-3"/>
          <p:cNvPicPr/>
          <p:nvPr/>
        </p:nvPicPr>
        <p:blipFill>
          <a:blip r:embed="rId2"/>
          <a:stretch/>
        </p:blipFill>
        <p:spPr>
          <a:xfrm>
            <a:off x="5502240" y="3733920"/>
            <a:ext cx="2727360" cy="25621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5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914400" y="55627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Maûnh suøi lôùn ôû van 2 la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5257800" y="327672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uùi phình Mycotic ôû ÑMC ngöï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346720" y="6413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uùi phình (muõi teân) ôû ÑM naõ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c4"/>
          <p:cNvPicPr/>
          <p:nvPr/>
        </p:nvPicPr>
        <p:blipFill>
          <a:blip r:embed="rId3"/>
          <a:stretch/>
        </p:blipFill>
        <p:spPr>
          <a:xfrm>
            <a:off x="304920" y="2286000"/>
            <a:ext cx="4724280" cy="288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5B5F-C426-42E2-A92C-F0D743B60C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NI-Times"/>
              </a:rPr>
              <a:t>Maûnh suøi lôùn treân van töï nhieân do Candida albicaus (A) vaø maûnh suøi do naám Aspergillis treân van nhaân taïo Starr- Edwards</a:t>
            </a:r>
            <a:endParaRPr b="1" lang="en-US" sz="28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6171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L: Karchmer AW. Infective Endocarditis In Braunwald’s Heart Disease, ed by Libby, Bonow, Mann, Zipes. Saunders Elsevier 2008, 8th ed, p 1713-1733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153" name="Picture 4" descr="63FF1A"/>
          <p:cNvPicPr/>
          <p:nvPr/>
        </p:nvPicPr>
        <p:blipFill>
          <a:blip r:embed="rId1"/>
          <a:srcRect l="14000" t="10975" r="14999" b="16109"/>
          <a:stretch/>
        </p:blipFill>
        <p:spPr>
          <a:xfrm>
            <a:off x="457200" y="160020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63FF1B"/>
          <p:cNvPicPr/>
          <p:nvPr/>
        </p:nvPicPr>
        <p:blipFill>
          <a:blip r:embed="rId2"/>
          <a:srcRect l="14000" t="7896" r="14000" b="10975"/>
          <a:stretch/>
        </p:blipFill>
        <p:spPr>
          <a:xfrm>
            <a:off x="4800600" y="1600200"/>
            <a:ext cx="3819600" cy="4191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05F3-2275-40FD-A463-CDC2A03141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Nhoài maùu ngoùn chaân do VNTMNT bôûi Staphylococcus aureus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6141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L: Karchmer AW. Infective Endocarditis In Braunwald’s Heart Disease, ed by Libby, Bonow, Mann, Zipes. Saunders Elsevier 2008, 8th ed, p 1713-1733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159" name="Picture 4" descr="63FF3"/>
          <p:cNvPicPr/>
          <p:nvPr/>
        </p:nvPicPr>
        <p:blipFill>
          <a:blip r:embed="rId1"/>
          <a:srcRect l="0" t="4590" r="9000" b="4590"/>
          <a:stretch/>
        </p:blipFill>
        <p:spPr>
          <a:xfrm>
            <a:off x="1447920" y="1371600"/>
            <a:ext cx="6324480" cy="4726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414B-80C2-4E44-984B-D69F485FE2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aän laâm saøng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hieáu maùu ñaúng saéc nheï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Baïch caàu coù theå bình thöôøng hay taêng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S taêng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Caáy maùu :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Tröôùc khaùng sinh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3 laàn, laàn 1,2 caùch 60 phuùt – laàn 3 caùch 12 giôø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kî khí vaø aùi khí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Phim loàng ngöïc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Ñieän taâm ñoà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ieâu aâm tim qua thaønh ngöïc : nhaäy caûm 50-80%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ieâu aâm tim qua ñöôøng thöïc quaûn : nhaäy caûm 90%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E046-39F5-4AEF-A9DF-BE267E26DC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haån ñoaùn 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oát treân 1 tuaàn + aâm thoåi + khoâng tìm thaáy nguyeân nhaân soát : nghi ngôø VNTMNT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ieâm ma tuùy + soát keùo daøi khoâng roõ nguyeân nhaân : VNTMNT ?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8498-8953-4650-858B-29C1014119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haån ñoaùn beänh VNTMNT (1)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VNI-Helve"/>
              </a:rPr>
              <a:t>Chaån ñoaùn xaùc ñònh :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Hai tieâu chuaån chính hoaëc moät tieâu chuaån chính keøm 3 tieâu chuaån phuï, hoaëc 5 tieâu chuaån phuï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2200" spc="-1" strike="noStrike">
                <a:solidFill>
                  <a:srgbClr val="66ffff"/>
                </a:solidFill>
                <a:latin typeface="VNI-Helve"/>
              </a:rPr>
              <a:t>Tieâu chuaån chính :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1. Phaân laäp ñöôïc Streptococcus viridans, S. bovis, nhoùm HACEK, 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hoaëc (khi khoâng thaáy oå nhieãm truøng) phaân laäp ñöôïc S. aureus, 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Enterococcus trong 2 maãu maùu rieâng bieät hoaëc phaân laäp ñöôïc 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vi truøng phuø hôïp vôùi VNTM ôû 2 maãu maùu caùch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VNI-Helve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 12 giôø hoaëc 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caû 3 hay treân 3 maãu maùu, maãu ñaàu vaø maãu cuoái caùch ít nhaát 1 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giôø.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2. Sieâu aâm tim thaáy maûnh suøi luùc laéc (di ñoäng) hoaëc aùp xe, hoaëc 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môùi hôû moät phaàn van nhaân taïo hoaëc hôû van töï nhieân môùi coù.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0DAD-9164-4FF4-BA95-905A7994B0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haån ñoaùn beänh VNTMNT (2)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Chaån ñoaùn xaùc ñònh :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VNI-Helve"/>
              </a:rPr>
              <a:t> </a:t>
            </a:r>
            <a:r>
              <a:rPr b="1" lang="en-US" sz="2000" spc="-1" strike="noStrike">
                <a:solidFill>
                  <a:srgbClr val="66ffff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66ffff"/>
                </a:solidFill>
                <a:latin typeface="VNI-Helve"/>
              </a:rPr>
              <a:t>Tieâu chuaån phuï :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1.  Coù toån thöông deã gaây VNTMNT hoaëc ngöôøi nghieän ma tuùy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2.  Soá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NI-Helve"/>
              </a:rPr>
              <a:t>&gt;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3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NI-Helve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3.  Thuyeân taéc ñoäng maïch lôùn, nhoài maùu phoåi nhieãm truøng, tuùi phình 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mycotic, xuaát huyeát noäi soï, xuaát huyeát nieâm maïc maét, toån thöông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Janeway.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4.  Vieâm vi caàu thaän, noát Osler, noát Roth, yeáu toá thaáp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5.  Caáy maùu döông nghieäm nhöng khoâng ñaït tieâu chuaån chính (loaïi tröø  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caáy maùu döông nghieäm chæ moät laàn caùc vi khuaån khoâng ñaëc hieäu 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cuûa VNTMNT) hoaëc phaûn öùng huyeát thanh döông cuûa nhieãm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truøng ñang xaûy ra vôùi vi khuaån thöôøng gaây VNTMNT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6.  Sieâu aâm phuø hôïp vôùi VNTMNT nhöng khoâng ñaït tieâu chuaån chính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FD65-6FBF-4777-AE9F-F9176AA5A6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haån ñoaùn beänh VNTMNT (3)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NI-Helve"/>
              </a:rPr>
              <a:t>Coù theå VNTMNT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Khoâng ñuû tieâu chuaån xaùc ñònh, nhöng cuõng khoâng thuoäc vaøo nhoùm loaïi tröø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NI-Helve"/>
              </a:rPr>
              <a:t>Loaïi tröø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Coù chaån ñoaùn khaùc hoaëc trieäu chöùng bieán maát hoaëc khoâng coù chöùng côù cuûa VNTMNT khi moå hoaëc phaãu nghieäm töû thi, vôùi chæ döôùi hay baèng 4 ngaøy khaùng sinh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9C58-F0D3-4E1B-9256-6ACDDD962B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haån ñoaùn phaân bieät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hieãm truøng huyeát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eâm phoåi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eâm maøng naõo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AÙp xe naõo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oát reùt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MNT caáp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eâm maïch maùu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haáp tim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Lao phoåi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U nhaày nhó traùi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C67F-C55F-470A-A781-FC9F3C45B4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aùc bieán chöùng cuûa VNTMNT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86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uy tim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huyeân taéc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Roái loaïn daãn truyeàn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Bieåu hieän thaàn kinh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uùi phình mycotic (mycotic aneurysm)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EB94-76E2-4781-966B-5377BB9432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Phaân loaïi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heo cô ñòa ngöôøi beänh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VNTMNT treân van töï nhieân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VNTMNT treân van nhaân taïo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VNTMNT treân ngöôøi tieâm ma tuùy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heo tieán trieån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VNTMNT caáp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VNTMNT baùn caáp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heo taùc nhaân gaây beänh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D : VNTMNT do staphylococcus aureus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B8D4-5CE6-45DD-9E61-A6CD219A40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Ñieàu trò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guyeân taéc ñieàu trò :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Khaùng sinh dieät khuaån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Lieàu cao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Daøi ngaøy (4-6 tuaàn)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Löïa choïn khaùng sinh theo :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Loaïi vi truøng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Cô ñòa ngöôøi beänh (coù tieâm ma tuyù? Van nhaân taïo?)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Caáp hay baùn caáp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3AF3-3EFE-453F-B3BA-BC02C75148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NI-Times"/>
              </a:rPr>
              <a:t>Ñieàu trò VNTMNT do Streptococcus viridans nhaäy caûm Penicillin hoaëc Streptococcus bovi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NI-Times"/>
              </a:rPr>
              <a:t> ( M IC&lt; 0,1 Mg/ml)</a:t>
            </a:r>
            <a:endParaRPr b="1" lang="en-US" sz="28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48160" y="1676160"/>
            <a:ext cx="2895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L: Karchmer AW. Infective Endocarditis In Braunwald’s Heart Disease, ed by Libby, Bonow, Mann, Zipes. Saunders Elsevier 2008, 8th ed, p 1713-17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I C: </a:t>
            </a: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Noàng ñoä öùc cheá toái thieå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g = mic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63FT6"/>
          <p:cNvPicPr/>
          <p:nvPr/>
        </p:nvPicPr>
        <p:blipFill>
          <a:blip r:embed="rId1"/>
          <a:srcRect l="0" t="13374" r="5638" b="38434"/>
          <a:stretch/>
        </p:blipFill>
        <p:spPr>
          <a:xfrm>
            <a:off x="380880" y="1752480"/>
            <a:ext cx="6172200" cy="48355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782B-2BCE-407C-9514-D01E5DB67E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NI-Times"/>
              </a:rPr>
              <a:t>Ñieàu trò VNTMNT do Streptococcus Viridans vaø streptococcus bovis khaùng vôùi Penicillin (MIC &gt; 0,1 Mg/ml vaø &lt; 0,5 Mg/ml</a:t>
            </a:r>
            <a:endParaRPr b="1" lang="en-US" sz="28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5943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L: Karchmer AW. Infective Endocarditis In Braunwald’s Heart Disease, ed by Libby, Bonow, Mann, Zipes. Saunders Elsevier 2008, 8th ed, p 1713-1733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Mg= microgram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201" name="Picture 4" descr="63FT7"/>
          <p:cNvPicPr/>
          <p:nvPr/>
        </p:nvPicPr>
        <p:blipFill>
          <a:blip r:embed="rId1"/>
          <a:srcRect l="0" t="25384" r="5000" b="19232"/>
          <a:stretch/>
        </p:blipFill>
        <p:spPr>
          <a:xfrm>
            <a:off x="609480" y="1600200"/>
            <a:ext cx="7772400" cy="42670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3510-B2A8-41F6-A774-A50B1EC899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Ñieàu trò VNTMNT do Staphylococcus treân beänh nhaân van töï nhieân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6324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"/>
              </a:rPr>
              <a:t>TL: Karchmer AW. Infective Endocarditis In Braunwald’s Heart Disease, ed by Libby, Bonow, Mann, Zipes. Saunders Elsevier 2008, 8th ed, p 1713-1733</a:t>
            </a:r>
            <a:endParaRPr b="0" lang="en-US" sz="14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206" name="Picture 4" descr="63FT10"/>
          <p:cNvPicPr/>
          <p:nvPr/>
        </p:nvPicPr>
        <p:blipFill>
          <a:blip r:embed="rId1"/>
          <a:srcRect l="0" t="10481" r="3938" b="29760"/>
          <a:stretch/>
        </p:blipFill>
        <p:spPr>
          <a:xfrm>
            <a:off x="1371600" y="1295280"/>
            <a:ext cx="6400800" cy="5007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6689-2C71-4BFD-9B66-570F8EA6A4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Ñieàu trò VNTMNT do Staphylococcus treân van nhaân taïo hoaëc vaät duïng nhaân taïo trong tim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6141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L: Karchmer AW. Infective Endocarditis In Braunwald’s Heart Disease, ed by Libby, Bonow, Mann, Zipes. Saunders Elsevier 2008, 8th ed, p 1713-1733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211" name="Picture 4" descr="63FT11"/>
          <p:cNvPicPr/>
          <p:nvPr/>
        </p:nvPicPr>
        <p:blipFill>
          <a:blip r:embed="rId1"/>
          <a:srcRect l="0" t="12411" r="0" b="33616"/>
          <a:stretch/>
        </p:blipFill>
        <p:spPr>
          <a:xfrm>
            <a:off x="990720" y="1676520"/>
            <a:ext cx="7143480" cy="4267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9A63-8AE9-4819-9B21-ADBDE27D46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Ñieàu trò VNTMNT do nhoùm HACEK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5989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L: Karchmer AW. Infective Endocarditis In Braunwald’s Heart Disease, ed by Libby, Bonow, Mann, Zipes. Saunders Elsevier 2008, 8th ed, p 1713-1733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216" name="Picture 4" descr="63FT12"/>
          <p:cNvPicPr/>
          <p:nvPr/>
        </p:nvPicPr>
        <p:blipFill>
          <a:blip r:embed="rId1"/>
          <a:srcRect l="0" t="14316" r="4000" b="52137"/>
          <a:stretch/>
        </p:blipFill>
        <p:spPr>
          <a:xfrm>
            <a:off x="609480" y="1905120"/>
            <a:ext cx="7620120" cy="28954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B453-1B70-41CB-934D-AE933C5A67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Ñieàu trò chöa coù keát quaû vi truøng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NTMNT caáp :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Nafcillin (2g TM x 6) + Ampicillin (2g TM x6) + Gentamicin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(1,5 mg/kg TM x 3)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Vancomycin (1g TM x 2) + Ampicillin + Gentamicin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NTMNT baùn caáp :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Ampicillin (2g TMC x 4) + Gentamicin (1,5 mg/kg/TM x 3)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C022-854D-452F-9056-97559DA6E4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CHÆ ÑÒNH PHAÃU THUAÄT TIM/ VNTMNT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62481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"/>
              </a:rPr>
              <a:t>TL: Karchmer AW. Infective Endocarditis In Braunwald’s Heart Disease, ed by Libby, Bonow, Mann, Zipes. Saunders Elsevier 2008, 8th ed, p 1713-1733</a:t>
            </a:r>
            <a:endParaRPr b="0" lang="en-US" sz="14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225" name="Picture 4" descr="63FT13"/>
          <p:cNvPicPr/>
          <p:nvPr/>
        </p:nvPicPr>
        <p:blipFill>
          <a:blip r:embed="rId1"/>
          <a:srcRect l="0" t="10570" r="7002" b="14721"/>
          <a:stretch/>
        </p:blipFill>
        <p:spPr>
          <a:xfrm>
            <a:off x="1066680" y="1143000"/>
            <a:ext cx="6629400" cy="51325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D8F4-C678-4555-820D-65A7F2B735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NI-Times"/>
              </a:rPr>
              <a:t>Cheá ñoä phoøng ngöøa VNTMNT treân beänh nhaân coù laøm thuû thuaät ôû raêng, mieäng vaø ñöôøng hoâ haáp treân</a:t>
            </a:r>
            <a:endParaRPr b="1" lang="en-US" sz="30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ffff"/>
              </a:buClr>
              <a:buFont typeface="VNI-Helve-Condens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Wilson W et al. Recommendations of the American Heart Association 2007</a:t>
            </a:r>
            <a:endParaRPr b="0" lang="en-US" sz="14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230" name="Picture 4" descr="63FT15"/>
          <p:cNvPicPr/>
          <p:nvPr/>
        </p:nvPicPr>
        <p:blipFill>
          <a:blip r:embed="rId1"/>
          <a:srcRect l="0" t="10615" r="0" b="20462"/>
          <a:stretch/>
        </p:blipFill>
        <p:spPr>
          <a:xfrm>
            <a:off x="762120" y="1676520"/>
            <a:ext cx="8001000" cy="42670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67E4-A004-4BD4-8BEF-34BB518AEB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NI-Times"/>
              </a:rPr>
              <a:t>Caùc tröôøng hôïp beänh coù nguy cô cao VNTMNT caàn phoøng ngöøa beänh khi laøm thuû thuaät veà raêng</a:t>
            </a:r>
            <a:endParaRPr b="1" lang="en-US" sz="30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Wilson W et al. Recommendatenis of the American Heart Association 2007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235" name="Picture 4" descr="63FT14"/>
          <p:cNvPicPr/>
          <p:nvPr/>
        </p:nvPicPr>
        <p:blipFill>
          <a:blip r:embed="rId1"/>
          <a:srcRect l="0" t="18149" r="0" b="24194"/>
          <a:stretch/>
        </p:blipFill>
        <p:spPr>
          <a:xfrm>
            <a:off x="762120" y="1828800"/>
            <a:ext cx="7619760" cy="35053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0872-1AD8-47A5-8112-1FC596DA73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aàn suaát VNTMNT theo beänh tim chính ôû Myõ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Toån thöông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Treû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Treû 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Ngöôøi lôùn    Ngöôøi lôùn    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Ngöôøi lôùn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&lt; 2t 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 2-5t 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15-50t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      &gt; 50t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tieâm ma tuyù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%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%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%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      %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    %</a:t>
            </a: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Khoâng beänh tim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50-7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-15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-2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      1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50-60</a:t>
            </a: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BTBS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30-5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70-8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25-35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      15-25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Thaáp tim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hieám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-15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      10-15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Beänh tim thoaùi hoùa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hieám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      10-2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hieám</a:t>
            </a: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Tieàn söû phaãu thuaät tim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-15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-2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      10-2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-20</a:t>
            </a: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Tieàn söû VNTMNT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hieám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5-1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      5-1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-20</a:t>
            </a: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BTBS : beänh tim baåm sinh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VNTMNT : Vieâm noäi taâm maïc nhieãm truøng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ff33"/>
                </a:solidFill>
                <a:latin typeface="VNI-Helve"/>
              </a:rPr>
              <a:t>TL : Hurst’s The Heart, Mc Graw-Hill 10</a:t>
            </a:r>
            <a:r>
              <a:rPr b="0" i="1" lang="en-US" sz="1800" spc="-1" strike="noStrike" baseline="30000">
                <a:solidFill>
                  <a:srgbClr val="66ff33"/>
                </a:solidFill>
                <a:latin typeface="VNI-Helve"/>
              </a:rPr>
              <a:t>th</a:t>
            </a:r>
            <a:r>
              <a:rPr b="0" i="1" lang="en-US" sz="1800" spc="-1" strike="noStrike">
                <a:solidFill>
                  <a:srgbClr val="66ff33"/>
                </a:solidFill>
                <a:latin typeface="VNI-Helve"/>
              </a:rPr>
              <a:t> ed 2001, 2089</a:t>
            </a: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0" y="1447920"/>
            <a:ext cx="9144000" cy="7596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30A3-AB77-4F05-A60A-764E222EB6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Sieâu aâm tim trong chaån ñoaùn vaø theo doõi ñieàu trò VNTMNT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228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Beänh nhaân nguy cô cao(high risk patients):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Coù van nhaân taïo 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BTBS phöùc taïp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Tieàn söû VNTMNT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Thoåi hoaëc suy tim môùi xuaát hieän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L: Bayer AS et al. Circulation 1998; 98: 2936- 2948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240" name="Picture 4" descr="63FF4"/>
          <p:cNvPicPr/>
          <p:nvPr/>
        </p:nvPicPr>
        <p:blipFill>
          <a:blip r:embed="rId1"/>
          <a:srcRect l="999" t="477" r="3001" b="5557"/>
          <a:stretch/>
        </p:blipFill>
        <p:spPr>
          <a:xfrm>
            <a:off x="2362320" y="1371600"/>
            <a:ext cx="6781680" cy="52275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FA17-A829-4472-94CE-6E85B6CFE3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ieân löôïng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Yeáu toá tieân löôïng xaáu :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*  Taùc nhaân gaây beänh khoâng phaûi laø Streptococci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*  Xuaát hieän suy tim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*  Toån thöông van ÑMC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*  Van nhaân taïo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*  Tuoåi giaø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*  Coù aùp xe cô tim hay voøng van 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-335880">
              <a:spcBef>
                <a:spcPts val="4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VNTMNT do Staphylococcus aureus treân ngöôøi khoâng nghieän ma tuùy # 40% töû vong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-335880">
              <a:spcBef>
                <a:spcPts val="4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Maûnh suøi lôùn : tieân löôïng xaáu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-335880">
              <a:spcBef>
                <a:spcPts val="4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VNTMNT sôùm/van nhaân taïo xaáu hôn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-335880">
              <a:spcBef>
                <a:spcPts val="4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VNTMNT chaäm/van nhaân taïo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4F45-CC68-42A8-A8E6-8C51E645CB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Ñaëc ñieåm veà chaån ñoaùn vaø ñieàu trò VNTMNT/ ngöôøi cao tuoåi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Trieäu chöùng cô naêng vaø thöïc theå khoâng raàm roä, khoù phaùt hieän do coù beänh noäi khoa keøm theo( TD: Pheá khí thuõng, beänh phoåi maïn taéc ngheõn…)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Caáy maùu sôùm vaø sieâu aâm tim qua thaønh ngöïc, nhaát laø SATQTQ raát caàn thieát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Traéc nghieäm PCR treân DNA cuûa vi truøng caàn thieát/ moät soá tröôøng hôïp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Söû duïng thuoác theo phaùc ñoà khoâng khaùc ngöôøi treû: chænh lieàu theo ñoä loïc caàu thaän vaø chöùc naêng gan.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Theo doõi saùt caùc bieán chöùng baèng laâm saøng vaø sieâu aâm tim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FDEF-839C-4E25-8158-7FB61A8BA5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Nguy cô töông ñoái VNTMNT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hay ñoåi theo loaïi toån thöông tim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NI-Helve"/>
              </a:rPr>
              <a:t>Nguy cô cao</a:t>
            </a:r>
            <a:r>
              <a:rPr b="1" lang="en-US" sz="16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VNI-Helve"/>
              </a:rPr>
              <a:t>Nguy cô trung bình</a:t>
            </a:r>
            <a:r>
              <a:rPr b="1" lang="en-US" sz="16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VNI-Helve"/>
              </a:rPr>
              <a:t>Nguy cô raát thaáp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VNI-Helve"/>
              </a:rPr>
              <a:t>(khoâng ñaùng keå)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Van nhaân taïo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Sa van hai laù coù hôû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Sa 2 laù khoâng hôû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ieàn söû VNTMNT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Heïp 2 laù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Hôû van 3 laù nheï phaùt hieän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baèng sieâu aâm tim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BTBS tím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Beänh van 3 laù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hoâng lieân nhó loã thöù 2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Beänh van ÑMC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Beänh van ÑMP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Maûng xô vöõa ÑM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Hôû van 2 laù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Phì ñaïi vaùch thaát khoâng ñoái xöùng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Beänh ÑMV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Hôû heïp 2 laù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Ñöôøng truyeàn ñeán nhó phaûi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Vieâm ÑMC giang mai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Coøn oáng ñoäng maïch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Caáy vaät nhaân taïo trong tim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Maùy taïo nhòp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Heïp eo ÑMC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(khoâng laø van)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hoâng lieân thaát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Beänh van thoaùi hoaù ngöôøi cao tuoåi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oån thöông tim ñaõ moå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(khoâng caáy vaät nhaân taïo,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reân 6 thaùng sau moå)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lvl="4" marL="203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33"/>
                </a:solidFill>
                <a:latin typeface="Arial"/>
              </a:rPr>
              <a:t>TL : Hurst’s The Heart, Mc Graw-Hill 10</a:t>
            </a:r>
            <a:r>
              <a:rPr b="0" i="1" lang="en-US" sz="1200" spc="-1" strike="noStrike" baseline="30000">
                <a:solidFill>
                  <a:srgbClr val="66ff33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66ff33"/>
                </a:solidFill>
                <a:latin typeface="Arial"/>
              </a:rPr>
              <a:t> ed 2001, 20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67" name="Line 9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DD58-64A5-455B-9D3E-B28F7BDA85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NI-Times"/>
              </a:rPr>
              <a:t>ÑIEÀU KIEÄN KHÔÛI BEÄNH VAØ VI TRUØNG THÖÔØNG GAËP TREÂN VNTMNT VAN TÖÏ NHIEÂN</a:t>
            </a:r>
            <a:endParaRPr b="1" lang="en-US" sz="28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"/>
              </a:rPr>
              <a:t>TL: Karchmer AW. Infective Endocarditis In Braunwald’s Heart Disease, ed by Libby, Bonow, Mann, Zipes. Saunders Elsevier 2008, 8th ed, p 1713-1733</a:t>
            </a:r>
            <a:endParaRPr b="0" lang="en-US" sz="14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73" name="Picture 4" descr="63FT1"/>
          <p:cNvPicPr/>
          <p:nvPr/>
        </p:nvPicPr>
        <p:blipFill>
          <a:blip r:embed="rId1"/>
          <a:srcRect l="0" t="6831" r="3848" b="29515"/>
          <a:stretch/>
        </p:blipFill>
        <p:spPr>
          <a:xfrm>
            <a:off x="380880" y="1219320"/>
            <a:ext cx="5715000" cy="4971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324480" y="1676520"/>
            <a:ext cx="2819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RHD: Rheumatic Heart  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CHD: Congenital Heart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MVP: Mitral Valve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Prolap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DHD: Degenerative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Heart 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2E9F-5DE2-4A56-9D29-2D5CF6B2D2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VI TRUØNG GAÂY BEÄNH/ VNTMNT ÔÛ NGÖÔØI TIEÂM MA TUYÙ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3244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"/>
              </a:rPr>
              <a:t>TL: </a:t>
            </a: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Karchmer AW. Infective Endocarditis In Braunwald’s Heart Disease, ed by Libby, Bonow, Mann, Zipes. Saunders Elsevier 2008, 8</a:t>
            </a:r>
            <a:r>
              <a:rPr b="0" lang="en-US" sz="1400" spc="-1" strike="noStrike" baseline="30000">
                <a:solidFill>
                  <a:srgbClr val="ffffff"/>
                </a:solidFill>
                <a:latin typeface="VNI-Helve-Condense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 ed, p 1713-1733</a:t>
            </a:r>
            <a:endParaRPr b="0" lang="en-US" sz="1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63FT2"/>
          <p:cNvPicPr/>
          <p:nvPr/>
        </p:nvPicPr>
        <p:blipFill>
          <a:blip r:embed="rId1"/>
          <a:srcRect l="0" t="8286" r="2002" b="25467"/>
          <a:stretch/>
        </p:blipFill>
        <p:spPr>
          <a:xfrm>
            <a:off x="533520" y="1676520"/>
            <a:ext cx="838188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53BE-7E0C-434F-AF29-E6E6449377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VI TRUØNG GAÂY BEÄNH TREÂN VNTMNT VAN NHAÂN TAÏO 1970 – 2003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6294600"/>
            <a:ext cx="78487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"/>
              </a:rPr>
              <a:t>TL: </a:t>
            </a: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Karchmer AW. Infective Endocarditis In Braunwald’s Heart Disease, ed by Libby, Bonow, Mann, Zipes. Saunders Elsevier 2008, 8</a:t>
            </a:r>
            <a:r>
              <a:rPr b="0" lang="en-US" sz="1400" spc="-1" strike="noStrike" baseline="30000">
                <a:solidFill>
                  <a:srgbClr val="ffffff"/>
                </a:solidFill>
                <a:latin typeface="VNI-Helve-Condense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 ed, p 1713-17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63FT3"/>
          <p:cNvPicPr/>
          <p:nvPr/>
        </p:nvPicPr>
        <p:blipFill>
          <a:blip r:embed="rId1"/>
          <a:srcRect l="0" t="7620" r="4421" b="25715"/>
          <a:stretch/>
        </p:blipFill>
        <p:spPr>
          <a:xfrm>
            <a:off x="1371600" y="1447920"/>
            <a:ext cx="6172200" cy="4749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0" y="7632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1ECE-9DB7-42EE-951D-B8C7571D60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VNTM do nhieãm truøng beänh vieän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Ñöôøng vaøo cuûa vi truøng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75% do caùc ñöôøng maïch maùu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Caùc ñöôøng khaùc : veát thöông, choã ñaët maùy taïo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hòp, oáng noäi khí quaûn, oáng thoâng tieåu …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5880" indent="-3358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2/3 b/n khoâng coù beänh tim tröôùc ñoù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5880" indent="-3358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 truøng thöôøng gaëp : staphylococcus ; Gram(-) ; enterococci ; candida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2:43:28Z</dcterms:created>
  <dc:creator>huh</dc:creator>
  <dc:description/>
  <dc:language>en-US</dc:language>
  <cp:lastModifiedBy>Bao Thu</cp:lastModifiedBy>
  <dcterms:modified xsi:type="dcterms:W3CDTF">2013-09-16T02:35:32Z</dcterms:modified>
  <cp:revision>89</cp:revision>
  <dc:subject/>
  <dc:title>VIEÂM NOÄI TAÂM MAÏC NHIEÃM TRUØNG (Infective Endocarditis)</dc:title>
</cp:coreProperties>
</file>