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607C-9278-4941-AA3D-5E156945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4B14-2D95-4B16-AFCF-EDEED9A0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0636-94E0-4258-9D29-6EA5EBBF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89097-8448-4D3A-B40A-057F4A17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72E3-2131-46BD-BCB8-BFFF14B0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B5A8-FD60-4E78-8856-7ADA2A78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A4C7-E97D-4481-B185-DB931659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006F-A44F-486C-89CC-4169CEA8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3DB9-E808-4B77-9F91-A338C46A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1986-B513-4352-9265-95276271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A655-5F57-4B03-BD4C-D4978F47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4C8B6-5D44-46AD-B4CE-84709E5F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 algn="r" rtl="1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 algn="r" rtl="1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 algn="r" rtl="1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 algn="r" rtl="1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C24F-801F-40BE-A8F4-3070F95A5B23}" type="slidenum"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29600" cy="588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ar-EG" sz="5400" spc="-1" strike="noStrike">
                <a:solidFill>
                  <a:srgbClr val="675e47"/>
                </a:solidFill>
                <a:latin typeface="Cambria"/>
              </a:rPr>
              <a:t>* أسئلة امتحانات الأطفال *</a:t>
            </a:r>
            <a:br>
              <a:rPr sz="5400"/>
            </a:br>
            <a:br>
              <a:rPr sz="5400"/>
            </a:br>
            <a:r>
              <a:rPr b="0" lang="ar-EG" sz="5400" spc="-1" strike="noStrike">
                <a:solidFill>
                  <a:srgbClr val="675e47"/>
                </a:solidFill>
                <a:latin typeface="Cambria"/>
              </a:rPr>
              <a:t> في السنوات السابقة</a:t>
            </a:r>
            <a:br>
              <a:rPr sz="5400"/>
            </a:br>
            <a:br>
              <a:rPr sz="5400"/>
            </a:br>
            <a:r>
              <a:rPr b="0" lang="ar-EG" sz="5400" spc="-1" strike="noStrike">
                <a:solidFill>
                  <a:srgbClr val="675e47"/>
                </a:solidFill>
                <a:latin typeface="Cambria"/>
              </a:rPr>
              <a:t>من </a:t>
            </a:r>
            <a:r>
              <a:rPr b="0" lang="ar-EG" sz="5400" spc="-1" strike="noStrike">
                <a:solidFill>
                  <a:srgbClr val="675e47"/>
                </a:solidFill>
                <a:latin typeface="Cambria"/>
              </a:rPr>
              <a:t>2000</a:t>
            </a:r>
            <a:r>
              <a:rPr b="0" lang="ar-EG" sz="5400" spc="-1" strike="noStrike">
                <a:solidFill>
                  <a:srgbClr val="675e47"/>
                </a:solidFill>
                <a:latin typeface="Cambria"/>
              </a:rPr>
              <a:t> – </a:t>
            </a:r>
            <a:r>
              <a:rPr b="0" lang="ar-EG" sz="5400" spc="-1" strike="noStrike">
                <a:solidFill>
                  <a:srgbClr val="675e47"/>
                </a:solidFill>
                <a:latin typeface="Cambria"/>
              </a:rPr>
              <a:t>2008</a:t>
            </a:r>
            <a:r>
              <a:rPr b="0" lang="ar-EG" sz="5400" spc="-1" strike="noStrike">
                <a:solidFill>
                  <a:srgbClr val="675e47"/>
                </a:solidFill>
                <a:latin typeface="Cambria"/>
              </a:rPr>
              <a:t> م</a:t>
            </a:r>
            <a:endParaRPr b="0" lang="en-US" sz="54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 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Respiration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agnosis of bronchopnemoni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ute brmchoilit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D &amp; inv. of  chronic cough in 4 years chi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gns of consolidation &amp; pneumothorax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mpl. of pneumonia ( diag. &amp; ttt 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6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ulmonary TB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7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ag. of  B.A. &amp; ttt of acute attac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uses of wheezy ches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Blood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/p of G6PDD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B. transfusio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bioch. &amp; lab. finding in acute leukemia in childer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/p &amp; compl. &amp; ttt of sickle cell anaemi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D of pallor with splenomegall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6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D of acute pallor in infant &amp; childer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7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ab. &amp; radiological finding of B- thallassemia majo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8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auses of hypochromic microcytic anaemia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9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/p of ITP ( causes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/p &amp; inv. of acute lymphocytic leukemi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11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auses &amp; c/p of haemolytic anaemi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eart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D of apical mid diastolic murmur in infant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D of apical systolic murmur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ongestive H. F. in childern (4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auses , types , c/p of pericarditi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auses of  acyanotic  congenital H. diseases &amp; discuss of one of them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6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igns of pulm. hypertensio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7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inor manif. of RH. fever &amp; manif. of RH. chorea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8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inv. &amp; ttt of acute RH  carditis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 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Renal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D of gross haematuria in late childhoo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ephrotic $ (3)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ch. &amp; lab. finding in  A.R.F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mpl. of  APSGN ( manif. )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TI ( 3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6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v. of generalized oedema case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7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use of red coluored urine in child 4 years o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ndocrin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evention of  congenital hypothiodism ( c/p , ttt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ch. &amp; lab.  finding in diabetic com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 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NS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uses &amp; grades of  M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/p &amp; diag. of  CP ( 3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6775560" y="6527880"/>
            <a:ext cx="167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 CENA"/>
              </a:rPr>
              <a:t>WhiteKnightLove</a:t>
            </a:r>
            <a:endParaRPr b="0" lang="en-US" sz="16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236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6600" spc="-1" strike="noStrike">
                <a:solidFill>
                  <a:srgbClr val="675e47"/>
                </a:solidFill>
                <a:latin typeface="Cambria"/>
              </a:rPr>
              <a:t>تنبيهات هامة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-3672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* 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هذه تجميعه مبسطة لاسئلة امتحانات اخر العام من عام 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2000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م الى عام 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2007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م مع مراعاة الاتي</a:t>
            </a: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 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1</a:t>
            </a: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/</a:t>
            </a: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 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هذه تجميع</a:t>
            </a: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ة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 لجميع الاسئلة بالنظام القديم والجديد</a:t>
            </a: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 </a:t>
            </a: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2</a:t>
            </a: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/ </a:t>
            </a: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 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كل اسئلة برانش موجودة بصورة منفصلة</a:t>
            </a: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  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مع الاخذ في الاعتبار ان الاسئلة مترتبة من الجديد الى الاقدم</a:t>
            </a: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 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3</a:t>
            </a: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/</a:t>
            </a: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 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الاسئلة المكررة موجودة في قوسين بالصيغة المكررة للسؤال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4</a:t>
            </a: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/ 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لا توجد اسئلة في شابتر</a:t>
            </a: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behavior pediatric</a:t>
            </a: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 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بحكم انه اول مرة ينزل في كتاب القسم هذا العام</a:t>
            </a: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 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Growth &amp; developmen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rtificial milk formul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quirment &amp; importance of : ptn , iron , vit. A &amp; 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2f2b20"/>
                </a:solidFill>
                <a:latin typeface="Calibri"/>
              </a:rPr>
              <a:t>(مكرر)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uses of delayed walkin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hysical &amp; mental milestones during first year of lif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ormal mental development  in first year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 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Nutrition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ff. between KWO  &amp; marasamu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c/p , compl. , ttt of tetan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v. of active infantile rickets ( 3 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/p , ttt of vit. deficinicises in PEM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/P , manif. of infantile malnutri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6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nical manif. of marasamu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 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Genetic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ff. between dawns &amp; critins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/p of dow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 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Neonate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evention of kernicteru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D &amp; inv. of neonatal resp. dist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eon. resp. distres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$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/P of neun. septicaemi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esentation of prematurity ( causes 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6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urg. emerg. of neobor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 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Infection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yphoid fever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ch . &amp; lab. finding in acute meningitis (2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D of infectious lymphadenopath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ag. &amp; compl. of measl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evention of pertus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 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mergency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agnosis of obst. shoc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suscitation of infant &amp; childer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 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GIT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ag. of infant with acute diarrhea associ. with severe hypertonic dehydration (2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uses &amp; types &amp; c/p of acute hepatit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um. liver diseases in childer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4types &amp; causes &amp; manag. of GIT blee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uses &amp; diag. of abd. disten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6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mpl. of gastroentritis (2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7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uses &amp; compl. of acute infective diarrhe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/p of impaired hepatic func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20:56:55Z</dcterms:created>
  <dc:creator>ãÍãÏ æÌíå giga M 0107261188</dc:creator>
  <dc:description/>
  <dc:language>en-US</dc:language>
  <cp:lastModifiedBy>Bishoy</cp:lastModifiedBy>
  <dcterms:modified xsi:type="dcterms:W3CDTF">2012-11-12T16:50:43Z</dcterms:modified>
  <cp:revision>14</cp:revision>
  <dc:subject/>
  <dc:title>الشريحة 1</dc:title>
</cp:coreProperties>
</file>