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png" ContentType="image/pn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25D4-F2FE-4308-85A6-7B5979CB41A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A134-C814-429B-97A4-32E37E08EE8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C67B-213A-44E9-9409-16387009B3C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ECC2-A457-49C0-AB98-67081A50DE0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B7A1-C66E-4A7D-816C-7120A39BA1E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BF1A-EE9E-42EC-BEF4-370DC0E5833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AC94-D39D-4389-A342-DC3F18A85BD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6485-73DE-4506-9C2B-DE11E29DDCF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0D23-227E-4D7B-9CF4-E4F018221C8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3BFA-8D4A-426D-83DC-5AE65030F93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F1DA-8995-4C43-A39E-0E52D84C854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05EF-67FF-4AEC-A595-6AB077650B5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E646-F9E0-4B5E-92C2-8836C80BBA0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DCD-F9EC-400B-80A7-F1BCEAC3971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9D92-187F-4622-A768-83B2556E7E6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CDD6-A167-440B-9304-2685A918FE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73EA-9AA2-4504-8854-6345D6B7BBB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F20-3523-4D15-98D0-8BCD4FF4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C6C-73F0-4D6B-A144-F3D01E17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425-18AB-43A1-A39C-BAB9E776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09C-815B-499A-ADA3-D57D5BCA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D91-D9B6-4845-8B71-C3FC4C94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0CF-34EE-4F0A-A314-E8F277A6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A1F-EC6D-468A-9FC1-5F1929A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00D-2B98-4BA9-9966-3EF2EFE9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9E1-70C0-4CAE-B23C-36272958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F7B-BBA5-4D85-B539-0A2DE0B2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988-6D0A-46EC-8178-7C84FB4A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F34-CF5C-4E15-B39A-74E66C16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0AC5-870E-491D-B484-F16A91E48AC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" Target="slide4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terra_earth_a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4"/>
          <p:cNvSpPr/>
          <p:nvPr/>
        </p:nvSpPr>
        <p:spPr>
          <a:xfrm>
            <a:off x="395280" y="112536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MOTI DELLA T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7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moto di rivoluzione terrestre attorno al S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magine 6" descr="ppt_04_04_01.jpg"/>
          <p:cNvPicPr/>
          <p:nvPr/>
        </p:nvPicPr>
        <p:blipFill>
          <a:blip r:embed="rId1"/>
          <a:stretch/>
        </p:blipFill>
        <p:spPr>
          <a:xfrm>
            <a:off x="1258920" y="1557360"/>
            <a:ext cx="6661080" cy="4398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97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lternanza delle stag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magine 6" descr="ppt_04_05_01.jpg"/>
          <p:cNvPicPr/>
          <p:nvPr/>
        </p:nvPicPr>
        <p:blipFill>
          <a:blip r:embed="rId1"/>
          <a:stretch/>
        </p:blipFill>
        <p:spPr>
          <a:xfrm>
            <a:off x="900000" y="1268280"/>
            <a:ext cx="7272360" cy="44769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Geneva"/>
              </a:rPr>
              <a:t>Le stagioni nei due emisfer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2205000"/>
          <a:ext cx="7535880" cy="3151080"/>
        </p:xfrm>
        <a:graphic>
          <a:graphicData uri="http://schemas.openxmlformats.org/drawingml/2006/table">
            <a:tbl>
              <a:tblPr/>
              <a:tblGrid>
                <a:gridCol w="1884240"/>
                <a:gridCol w="1282680"/>
                <a:gridCol w="2484360"/>
                <a:gridCol w="1884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isfero bore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isfero aust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l/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r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ve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u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marzo - 21giu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 giorni  21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giugno - 23 sett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giorni  9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u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ve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settembre -22 dic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giorni cir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dicembre - 21mar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giorni cir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97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zone astronomich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magine 5" descr="ppt_04_05_02.jpg"/>
          <p:cNvPicPr/>
          <p:nvPr/>
        </p:nvPicPr>
        <p:blipFill>
          <a:blip r:embed="rId1"/>
          <a:stretch/>
        </p:blipFill>
        <p:spPr>
          <a:xfrm>
            <a:off x="414360" y="1247760"/>
            <a:ext cx="8253360" cy="38386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piè di pagin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upia Palmieri, Parotto, </a:t>
            </a:r>
            <a:r>
              <a:rPr b="0" i="1" lang="it-IT" sz="1200" spc="-1" strike="noStrike">
                <a:solidFill>
                  <a:srgbClr val="898989"/>
                </a:solidFill>
                <a:latin typeface="Calibri"/>
              </a:rPr>
              <a:t>Osservare e capire la Terra</a:t>
            </a: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  © Zanichelli edito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97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Il moto di rivoluzione terrestre attorno al S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87680" y="1184040"/>
            <a:ext cx="2236680" cy="17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inazione dei raggi solari nel corso dell’anno: solstizi ed equino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magine 5" descr="ppt_04_04_02.jpg"/>
          <p:cNvPicPr/>
          <p:nvPr/>
        </p:nvPicPr>
        <p:blipFill>
          <a:blip r:embed="rId1"/>
          <a:stretch/>
        </p:blipFill>
        <p:spPr>
          <a:xfrm>
            <a:off x="401760" y="1268280"/>
            <a:ext cx="5483160" cy="52038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egnaposto contenuto 5" descr="ppt_04_04_02.jpg"/>
          <p:cNvPicPr/>
          <p:nvPr/>
        </p:nvPicPr>
        <p:blipFill>
          <a:blip r:embed="rId1"/>
          <a:stretch/>
        </p:blipFill>
        <p:spPr>
          <a:xfrm>
            <a:off x="900000" y="189000"/>
            <a:ext cx="7775640" cy="6460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3" name="CasellaDiTesto 2"/>
          <p:cNvSpPr/>
          <p:nvPr/>
        </p:nvSpPr>
        <p:spPr>
          <a:xfrm>
            <a:off x="3348000" y="476280"/>
            <a:ext cx="19447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circolo di illuminazione passa tangente ai circoli pola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Sole è allo zenit ( quindi perpendicolare) sul Tropico del Cancro. Il dì raggiunge la massima durata dell’anno nell’emisfero nord e la minima durata nell’emisfero su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sellaDiTesto 3"/>
          <p:cNvSpPr/>
          <p:nvPr/>
        </p:nvSpPr>
        <p:spPr>
          <a:xfrm>
            <a:off x="6732720" y="1916280"/>
            <a:ext cx="19429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circolo di illuminazione passa per i P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Sole è allo zenit sull’Equato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dì e la notte hanno stessa durata in tutto il pian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4"/>
          <p:cNvSpPr/>
          <p:nvPr/>
        </p:nvSpPr>
        <p:spPr>
          <a:xfrm>
            <a:off x="1403280" y="4149720"/>
            <a:ext cx="194472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circolo di illuminazione passa per i P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Sole è allo zenit sull’Equa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dì e la notte hanno la stessa durata in tutto il piane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sellaDiTesto 5"/>
          <p:cNvSpPr/>
          <p:nvPr/>
        </p:nvSpPr>
        <p:spPr>
          <a:xfrm>
            <a:off x="7020000" y="5157720"/>
            <a:ext cx="1655640" cy="146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circolo di illuminazione passa tangente ai circoli polari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Sole è allo zenit sul Tropico del Capricorno. Il dì ha la minima durata di tutto l’anno nell’emisfero nord e la massima durata nell’emisfero su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tangolo 3"/>
          <p:cNvSpPr/>
          <p:nvPr/>
        </p:nvSpPr>
        <p:spPr>
          <a:xfrm>
            <a:off x="6300720" y="836640"/>
            <a:ext cx="241164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 seconda della posizione della Terra rispetto al Sole, cambia l’altezza del Sole sull’orizzonte (in estate raggiunge la massima altezza sull’orizzonte, in inverno la minima) e di conseguenza la quantità di energia che arriva sulla T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72000" cy="388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9" name="CasellaDiTesto 5"/>
          <p:cNvSpPr/>
          <p:nvPr/>
        </p:nvSpPr>
        <p:spPr>
          <a:xfrm>
            <a:off x="539640" y="522936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aggior energia in estate, quindi più calore perché i raggi sono meno inclinati, minor energia in inverno quindi meno calore. a causa dei raggi più obliq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oltr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è importante la diversa durata del dì e della nott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Infatti maggiore è il numero delle ore del dì, maggiore sarà l’energia solare ricevu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6"/>
          <p:cNvSpPr/>
          <p:nvPr/>
        </p:nvSpPr>
        <p:spPr>
          <a:xfrm>
            <a:off x="611280" y="260280"/>
            <a:ext cx="8137440" cy="1008720"/>
          </a:xfrm>
          <a:prstGeom prst="rect">
            <a:avLst/>
          </a:prstGeom>
          <a:solidFill>
            <a:srgbClr val="c6d9f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Il diverso riscaldamento dei vari luoghi della superficie terrestre dipende dall’inclinazione dei raggi del S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9764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otiterr"/>
          <p:cNvPicPr/>
          <p:nvPr/>
        </p:nvPicPr>
        <p:blipFill>
          <a:blip r:embed="rId1"/>
          <a:stretch/>
        </p:blipFill>
        <p:spPr>
          <a:xfrm>
            <a:off x="1979640" y="3789360"/>
            <a:ext cx="5688000" cy="2843280"/>
          </a:xfrm>
          <a:prstGeom prst="rect">
            <a:avLst/>
          </a:prstGeom>
          <a:ln w="0">
            <a:noFill/>
          </a:ln>
        </p:spPr>
      </p:pic>
      <p:sp>
        <p:nvSpPr>
          <p:cNvPr id="54" name="Oval 5"/>
          <p:cNvSpPr/>
          <p:nvPr/>
        </p:nvSpPr>
        <p:spPr>
          <a:xfrm>
            <a:off x="3995640" y="4365720"/>
            <a:ext cx="144792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s14"/>
          <p:cNvPicPr/>
          <p:nvPr/>
        </p:nvPicPr>
        <p:blipFill>
          <a:blip r:embed="rId2"/>
          <a:stretch/>
        </p:blipFill>
        <p:spPr>
          <a:xfrm>
            <a:off x="5562720" y="48006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0"/>
            <a:ext cx="85690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 Terra compie diversi moviment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più importanti sono:</a:t>
            </a:r>
            <a:br>
              <a:rPr sz="2800"/>
            </a:b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to di rotazione su se stessa (un giorno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to di rivoluzione intorno al sole (un anno) con orbita a forma di ellisse con il sole che occupa uno dei fuoc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terra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6720" y="333360"/>
            <a:ext cx="23032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755640" y="620640"/>
            <a:ext cx="727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TO DI ROTAZI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Picture 14" descr="Lo spostamento è avvenuto lungo la direzione dell'epicentro"/>
          <p:cNvPicPr/>
          <p:nvPr/>
        </p:nvPicPr>
        <p:blipFill>
          <a:blip r:embed="rId3"/>
          <a:stretch/>
        </p:blipFill>
        <p:spPr>
          <a:xfrm>
            <a:off x="395280" y="1916280"/>
            <a:ext cx="4897440" cy="3392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5651640" y="2276640"/>
            <a:ext cx="30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E’ quello che la terra comp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ruotando su se stessa in verso antiorario cioè da ovest verso est intorno all’</a:t>
            </a:r>
            <a:r>
              <a:rPr b="0" lang="it-IT" sz="2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asse terr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84320" y="0"/>
            <a:ext cx="8564400" cy="80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0253f"/>
                </a:solidFill>
                <a:latin typeface="Calibri"/>
              </a:rPr>
              <a:t>La terra compie una rotazione in tempi diver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0253f"/>
                </a:solidFill>
                <a:latin typeface="Calibri"/>
              </a:rPr>
              <a:t>GIORNO SIDEREO </a:t>
            </a:r>
            <a:r>
              <a:rPr b="0" lang="it-IT" sz="1800" spc="-1" strike="noStrike">
                <a:solidFill>
                  <a:srgbClr val="10253f"/>
                </a:solidFill>
                <a:latin typeface="Calibri"/>
              </a:rPr>
              <a:t>=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è la durata del periodo di ro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necessaria a far ritornare il pian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nella stessa posizione rispetto a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stella. Il tempo impiegato è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</a:t>
            </a:r>
            <a:r>
              <a:rPr b="1" lang="it-IT" sz="2000" spc="-1" strike="noStrike">
                <a:solidFill>
                  <a:srgbClr val="10253f"/>
                </a:solidFill>
                <a:latin typeface="Calibri"/>
              </a:rPr>
              <a:t>23h 56m 4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0253f"/>
                </a:solidFill>
                <a:latin typeface="Calibri"/>
              </a:rPr>
              <a:t>GIORNO SOLARE =</a:t>
            </a:r>
            <a:r>
              <a:rPr b="0" lang="it-IT" sz="1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è la durata del periodo di rot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necessaria a far ritornare il pian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nella stessa posizione rispetto al S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Il giorno solare è più lungo del gi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sidereo di 4’ perché nel corso de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giornata la terra si muove anche i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Sole per cui per tornare nella stes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posizione rispetto al Sole dovrà anc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percorrere un angolo. Il tempo impieg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è di </a:t>
            </a:r>
            <a:r>
              <a:rPr b="1" lang="it-IT" sz="2000" spc="-1" strike="noStrike">
                <a:solidFill>
                  <a:srgbClr val="10253f"/>
                </a:solidFill>
                <a:latin typeface="Calibri"/>
              </a:rPr>
              <a:t>24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tangolo 1"/>
          <p:cNvSpPr/>
          <p:nvPr/>
        </p:nvSpPr>
        <p:spPr>
          <a:xfrm>
            <a:off x="1042920" y="2492280"/>
            <a:ext cx="6624720" cy="38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Si chiama </a:t>
            </a:r>
            <a:r>
              <a:rPr b="0" lang="it-IT" sz="2800" spc="-1" strike="noStrike">
                <a:solidFill>
                  <a:srgbClr val="10253f"/>
                </a:solidFill>
                <a:latin typeface="Arial"/>
              </a:rPr>
              <a:t>GIORNO</a:t>
            </a: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  la durata del periodo di rotazione  necessaria a far ritornare il pianeta nella stessa posizione rispetto al S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In altre parole è l’intervallo tra due successive </a:t>
            </a:r>
            <a:r>
              <a:rPr b="1" lang="it-IT" sz="1800" spc="-1" strike="noStrike">
                <a:solidFill>
                  <a:srgbClr val="10253f"/>
                </a:solidFill>
                <a:latin typeface="Arial"/>
              </a:rPr>
              <a:t>culminazioni </a:t>
            </a: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del Sole sullo stesso meridi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Il sole culmina, cioè raggiunge la posizione più alta sull’orizzonte a </a:t>
            </a:r>
            <a:r>
              <a:rPr b="1" lang="it-IT" sz="1800" spc="-1" strike="noStrike">
                <a:solidFill>
                  <a:srgbClr val="10253f"/>
                </a:solidFill>
                <a:latin typeface="Arial"/>
              </a:rPr>
              <a:t>mezzogiorno</a:t>
            </a: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. Quindi il giorno è la durata tra due mezzogiorno successi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Il giorno è formato da un periodo di luce: </a:t>
            </a:r>
            <a:r>
              <a:rPr b="1" lang="it-IT" sz="1800" spc="-1" strike="noStrike">
                <a:solidFill>
                  <a:srgbClr val="10253f"/>
                </a:solidFill>
                <a:latin typeface="Arial"/>
              </a:rPr>
              <a:t>il d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e da un periodo di buio:</a:t>
            </a:r>
            <a:r>
              <a:rPr b="1" lang="it-IT" sz="1800" spc="-1" strike="noStrike">
                <a:solidFill>
                  <a:srgbClr val="10253f"/>
                </a:solidFill>
                <a:latin typeface="Arial"/>
              </a:rPr>
              <a:t> la n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2"/>
          <p:cNvSpPr/>
          <p:nvPr/>
        </p:nvSpPr>
        <p:spPr>
          <a:xfrm>
            <a:off x="611280" y="765000"/>
            <a:ext cx="77770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onseguenza principale del moto di ROTAZIONE è l’alternarsi de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ì e della n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zione dell’accelerazione di gravità  e della velocità lineare con la latitud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46680" y="1184040"/>
            <a:ext cx="3175200" cy="17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zione dell’accelerazione di gravità con la latitudin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’equatore la forza di attrazione è minore rispetto agli altri punti della Terra in quanto la distanza tra la superficie e il centro della Terra è massim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 polo la forza di attrazione è massima in quanto a causa dello schiacciamento il Polo è più vicino al centro della ter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magine 6" descr="ppt_04_03_02.jpg"/>
          <p:cNvPicPr/>
          <p:nvPr/>
        </p:nvPicPr>
        <p:blipFill>
          <a:blip r:embed="rId1"/>
          <a:stretch/>
        </p:blipFill>
        <p:spPr>
          <a:xfrm>
            <a:off x="395280" y="1341360"/>
            <a:ext cx="5348160" cy="4637160"/>
          </a:xfrm>
          <a:prstGeom prst="rect">
            <a:avLst/>
          </a:prstGeom>
          <a:ln w="0">
            <a:noFill/>
          </a:ln>
        </p:spPr>
      </p:pic>
      <p:sp>
        <p:nvSpPr>
          <p:cNvPr id="67" name="CasellaDiTesto 5"/>
          <p:cNvSpPr/>
          <p:nvPr/>
        </p:nvSpPr>
        <p:spPr>
          <a:xfrm>
            <a:off x="5867280" y="4149720"/>
            <a:ext cx="3168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ch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velocità line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ioè la distanza percorsa nell’unità di tempo, varia con la latitud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’ massima ai poli: 1668 km / h  perché la Terra nelle 24h  deve percorrere una circonferenza più ampia e diventa nulla ai poli, dove lo spazio percorso è nullo, essendo il Polo un pu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 causa della diversa velocità lineare di rotazione dei vari punti della superficie terrestre, un corpo che si muove sulla Terra viene deviato dalla sua direzione iniziale (freccia rossa) e sembra descrivere una traiettoria (freccia verde) spostat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erso </a:t>
            </a:r>
            <a:r>
              <a:rPr b="1" i="1" lang="it-IT" sz="1600" spc="-1" strike="noStrike">
                <a:solidFill>
                  <a:srgbClr val="000000"/>
                </a:solidFill>
                <a:latin typeface="Calibri"/>
              </a:rPr>
              <a:t>destra 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rispetto al suo percorso se si trova </a:t>
            </a:r>
            <a:r>
              <a:rPr b="1" i="1" lang="it-IT" sz="1600" spc="-1" strike="noStrike">
                <a:solidFill>
                  <a:srgbClr val="000000"/>
                </a:solidFill>
                <a:latin typeface="Calibri"/>
              </a:rPr>
              <a:t>nell’emisfero boreale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alibri"/>
              </a:rPr>
              <a:t>verso sinistra 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invece se è </a:t>
            </a:r>
            <a:r>
              <a:rPr b="1" i="1" lang="it-IT" sz="1600" spc="-1" strike="noStrike">
                <a:solidFill>
                  <a:srgbClr val="000000"/>
                </a:solidFill>
                <a:latin typeface="Calibri"/>
              </a:rPr>
              <a:t>nell’emisfero austra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magine 5" descr="ppt_04_03_03.jpg"/>
          <p:cNvPicPr/>
          <p:nvPr/>
        </p:nvPicPr>
        <p:blipFill>
          <a:blip r:embed="rId1"/>
          <a:stretch/>
        </p:blipFill>
        <p:spPr>
          <a:xfrm>
            <a:off x="468360" y="1809720"/>
            <a:ext cx="6048360" cy="49021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6720" y="2205000"/>
            <a:ext cx="223200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’intensità della deviazione aumenta dall’Equatore verso i Poli. La forza deviante, che è soltanto apparente, è denominata </a:t>
            </a:r>
            <a:r>
              <a:rPr b="1" i="1" lang="it-IT" sz="1800" spc="-1" strike="noStrike">
                <a:solidFill>
                  <a:srgbClr val="ff0000"/>
                </a:solidFill>
                <a:latin typeface="Calibri"/>
              </a:rPr>
              <a:t>Forza di Coriol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ttangolo 7"/>
          <p:cNvSpPr/>
          <p:nvPr/>
        </p:nvSpPr>
        <p:spPr>
          <a:xfrm>
            <a:off x="3348000" y="16812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Legge di Ferr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seguenze del moto di rotazione terres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magine 6" descr="ppt_04_03_01A.jpg"/>
          <p:cNvPicPr/>
          <p:nvPr/>
        </p:nvPicPr>
        <p:blipFill>
          <a:blip r:embed="rId1"/>
          <a:stretch/>
        </p:blipFill>
        <p:spPr>
          <a:xfrm>
            <a:off x="468360" y="1628640"/>
            <a:ext cx="8182080" cy="398484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5"/>
          <p:cNvSpPr/>
          <p:nvPr/>
        </p:nvSpPr>
        <p:spPr>
          <a:xfrm>
            <a:off x="4683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enomeno dell’alternarsi del dì e della notte costituisce la più evidente conseguenza del moto di rotazione terrestre, fornendo un ulteriore prova di tale movi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27"/>
          <p:cNvSpPr/>
          <p:nvPr/>
        </p:nvSpPr>
        <p:spPr>
          <a:xfrm>
            <a:off x="324000" y="5445000"/>
            <a:ext cx="8526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ircolo di illuminazione ( la linea rossa ) separa la parte della superficie terrestre che guarda verso il Sole da quella opposta. Esso - a causa dell’atmosfera - non è una linea, ma una fascia in cui si verificano i crepus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46836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 crepusco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magine 5" descr="ppt_04_03_01B.jpg"/>
          <p:cNvPicPr/>
          <p:nvPr/>
        </p:nvPicPr>
        <p:blipFill>
          <a:blip r:embed="rId1"/>
          <a:stretch/>
        </p:blipFill>
        <p:spPr>
          <a:xfrm>
            <a:off x="324000" y="1125360"/>
            <a:ext cx="5422680" cy="4502160"/>
          </a:xfrm>
          <a:prstGeom prst="rect">
            <a:avLst/>
          </a:prstGeom>
          <a:ln w="0">
            <a:noFill/>
          </a:ln>
        </p:spPr>
      </p:pic>
      <p:sp>
        <p:nvSpPr>
          <p:cNvPr id="79" name="Rettangolo 5"/>
          <p:cNvSpPr/>
          <p:nvPr/>
        </p:nvSpPr>
        <p:spPr>
          <a:xfrm>
            <a:off x="5788080" y="380880"/>
            <a:ext cx="281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ima che il sole sorga sull’orizzonte( all’alba) o dopo che il sole è sceso sotto l’orizzonte( tramonto) la luce viene riflessa dall’atmo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on si passa quindi  all’improvviso dal buio alla luce o viceversa, ma c’è un periodo chiamato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crepuscol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 cui, pur non essendo visibile il disco solare si vede la sua luce rifl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7:23:24Z</dcterms:created>
  <dc:creator>daniela</dc:creator>
  <dc:description/>
  <dc:language>en-US</dc:language>
  <cp:lastModifiedBy>daniela</cp:lastModifiedBy>
  <dcterms:modified xsi:type="dcterms:W3CDTF">2013-01-27T17:04:31Z</dcterms:modified>
  <cp:revision>18</cp:revision>
  <dc:subject/>
  <dc:title>Diapositiva 1</dc:title>
</cp:coreProperties>
</file>