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amera.wav" ContentType="audio/x-wav"/>
  <Override PartName="/ppt/media/image7.png" ContentType="image/pn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carbrake.wav" ContentType="audio/x-wav"/>
  <Override PartName="/ppt/media/image14.jpeg" ContentType="image/jpeg"/>
  <Override PartName="/ppt/media/image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3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drumroll.wav" ContentType="audio/x-wav"/>
  <Override PartName="/ppt/media/clap.wav" ContentType="audio/x-wav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6E9-7586-4F94-B348-B92019E3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EBA-0F77-4453-A497-6A13B01E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4DE-AF01-4F23-B09F-4577FD5D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5F4-97A0-4135-98BB-8182165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F0F-B265-438C-A10E-62363B6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143-3B82-4DD8-B9B2-0D27D3E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D67-5494-49CE-8264-6CA23366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498-B45F-422E-9DD9-7163AF8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F85-2587-4EF5-A308-D3E60F11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8D1-4AF1-4EF1-9F11-089D84A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A6F-9A44-4149-BB20-4B3CD07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060-F103-4B25-AC89-17D1C12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C7AE-FACF-424C-BB59-638853CDF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drumroll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57200" y="335268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 château de Versaill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762120" y="0"/>
            <a:ext cx="17240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lice.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019920" y="152280"/>
            <a:ext cx="2352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avière.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191120" y="228600"/>
            <a:ext cx="409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&amp;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200400" y="1752480"/>
            <a:ext cx="29052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ésenten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6095880" y="5943600"/>
            <a:ext cx="2743200" cy="4572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28600" y="5867280"/>
            <a:ext cx="299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 1/12/2009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4038480" y="5867280"/>
            <a:ext cx="12193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 D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"/>
          <p:cNvGrpSpPr/>
          <p:nvPr/>
        </p:nvGrpSpPr>
        <p:grpSpPr>
          <a:xfrm>
            <a:off x="609480" y="838080"/>
            <a:ext cx="8229240" cy="5486040"/>
            <a:chOff x="609480" y="838080"/>
            <a:chExt cx="8229240" cy="5486040"/>
          </a:xfrm>
        </p:grpSpPr>
        <p:grpSp>
          <p:nvGrpSpPr>
            <p:cNvPr id="127" name="Group 4"/>
            <p:cNvGrpSpPr/>
            <p:nvPr/>
          </p:nvGrpSpPr>
          <p:grpSpPr>
            <a:xfrm>
              <a:off x="619200" y="848880"/>
              <a:ext cx="8209800" cy="5463360"/>
              <a:chOff x="619200" y="848880"/>
              <a:chExt cx="8209800" cy="5463360"/>
            </a:xfrm>
          </p:grpSpPr>
          <p:sp>
            <p:nvSpPr>
              <p:cNvPr id="128" name="Rectangle 2"/>
              <p:cNvSpPr/>
              <p:nvPr/>
            </p:nvSpPr>
            <p:spPr>
              <a:xfrm>
                <a:off x="619200" y="848880"/>
                <a:ext cx="8209800" cy="546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Les consignes sont assez bien suivies : Vous avez ( enfin ) correctement organisé votre espace de travail et le Questionnaire a été fini dès le 1/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Le Diaporama est cette fois fini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, mais 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3300"/>
                    </a:solidFill>
                    <a:latin typeface="Times New Roman"/>
                  </a:rPr>
                  <a:t>- La consigne était de produire 5 pages</a:t>
                </a: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- la page 2 devient les pages 2 et 3 où : la prise de pouvoir de 1661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reste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maladroitement exposée ; le titre de la page 3 me semble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toujours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mal choisi : vous ne décrivez guère la vie à la cour. Par contre vous répondez bien aux questions sur le contexte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- La page 4 essaie bien de présenter ensemble les bâtiments, mais vos commentaires sur la Galerie de Glaces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restent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un peu maladroits.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Cette fois vous évoquez la chambre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 du Roi, qui est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au début de l'axe solaire ( que vous n'expliquez pas )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-Les pages 5 et 6 accumulent les images des jardins.... mais si votre remarque sur la symétrie est excellente, cela manque de commentaires pour les décri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- la page 9 aurait pu être placée avant ( en N°7 ? 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C'est tout de même un très bon travail, et je suis d'accord avec la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moyenne de vos 6 camarades =&gt; 18 + 18 = 36/40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3"/>
              <p:cNvSpPr/>
              <p:nvPr/>
            </p:nvSpPr>
            <p:spPr>
              <a:xfrm>
                <a:off x="619200" y="848880"/>
                <a:ext cx="8209800" cy="5463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5"/>
            <p:cNvSpPr/>
            <p:nvPr/>
          </p:nvSpPr>
          <p:spPr>
            <a:xfrm>
              <a:off x="609480" y="838080"/>
              <a:ext cx="8229240" cy="548604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219320" y="228600"/>
            <a:ext cx="6914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LOUIS XIV, Versailles et la Cour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12193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uis XIV appelé le Roi soleil, est né en 1638 et il est mort en 1715 .Son règne commença à la mort de Mazarin, son premier Ministre.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629400" y="1600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82376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867280" y="3657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3809880"/>
            <a:ext cx="51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’age de 5 ans , il devint le Roi de la France à la mort de son père. Il s’imposa en monarque absolu et ne partageait le pouvoir avec personne à la mort de Mazarin en 1661. Il organisa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vie à la c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676520" y="5715000"/>
            <a:ext cx="6858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Voir diapo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2448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535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3048120" y="30492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 vie à la cou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066680"/>
            <a:ext cx="373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n 1682 Louis XIV installa définitivement la Cour et le gouvernement à Versaille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âteau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vint alors à la fois le lieu de vie du roi et de la Cour, et le cœur administratif du royaume. En 1715, à la mort du roi Louis XIV, Versailles est abandonné par la cour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72428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rchitectes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1055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V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086600" y="2819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72200" y="2819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7200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ules HARDOUIN-MANS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8769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jardinier e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81480" y="4191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NÔ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87692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eintre e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267080" y="54100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876920" y="5638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B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6668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6" descr="http://pagesperso-orange.fr/sylvain.weisse/versailles/levau.jpg"/>
          <p:cNvPicPr/>
          <p:nvPr/>
        </p:nvPicPr>
        <p:blipFill>
          <a:blip r:embed="rId3"/>
          <a:stretch/>
        </p:blipFill>
        <p:spPr>
          <a:xfrm>
            <a:off x="7543800" y="1295280"/>
            <a:ext cx="96192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8"/>
          <p:cNvSpPr/>
          <p:nvPr/>
        </p:nvSpPr>
        <p:spPr>
          <a:xfrm>
            <a:off x="6095880" y="205740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297036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1" descr="http://pagesperso-orange.fr/sylvain.weisse/versailles/aln.jpg"/>
          <p:cNvPicPr/>
          <p:nvPr/>
        </p:nvPicPr>
        <p:blipFill>
          <a:blip r:embed="rId4"/>
          <a:stretch/>
        </p:blipFill>
        <p:spPr>
          <a:xfrm>
            <a:off x="7543800" y="3733920"/>
            <a:ext cx="1031760" cy="11714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2"/>
          <p:cNvSpPr/>
          <p:nvPr/>
        </p:nvSpPr>
        <p:spPr>
          <a:xfrm>
            <a:off x="6477120" y="4191120"/>
            <a:ext cx="990360" cy="380880"/>
          </a:xfrm>
          <a:custGeom>
            <a:avLst/>
            <a:gdLst>
              <a:gd name="textAreaLeft" fmla="*/ 154800 w 990360"/>
              <a:gd name="textAreaRight" fmla="*/ 866880 w 990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65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2986200" y="190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5" descr="http://pagesperso-orange.fr/sylvain.weisse/versailles/clb.jpg"/>
          <p:cNvPicPr/>
          <p:nvPr/>
        </p:nvPicPr>
        <p:blipFill>
          <a:blip r:embed="rId5"/>
          <a:stretch/>
        </p:blipFill>
        <p:spPr>
          <a:xfrm>
            <a:off x="7391520" y="5181480"/>
            <a:ext cx="1224000" cy="12733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6"/>
          <p:cNvSpPr/>
          <p:nvPr/>
        </p:nvSpPr>
        <p:spPr>
          <a:xfrm>
            <a:off x="6400800" y="57150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7" descr=""/>
          <p:cNvPicPr/>
          <p:nvPr/>
        </p:nvPicPr>
        <p:blipFill>
          <a:blip r:embed="rId6"/>
          <a:stretch/>
        </p:blipFill>
        <p:spPr>
          <a:xfrm>
            <a:off x="609480" y="3429000"/>
            <a:ext cx="3048120" cy="2585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8"/>
          <p:cNvSpPr/>
          <p:nvPr/>
        </p:nvSpPr>
        <p:spPr>
          <a:xfrm>
            <a:off x="76212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ur de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7848720" y="2743200"/>
            <a:ext cx="761760" cy="6094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 flipH="1">
            <a:off x="7848360" y="2743200"/>
            <a:ext cx="685800" cy="5335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-71604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-258840" y="121752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http://pagesperso-orange.fr/sylvain.weisse/versailles/orange.jpg"/>
          <p:cNvPicPr/>
          <p:nvPr/>
        </p:nvPicPr>
        <p:blipFill>
          <a:blip r:embed="rId2"/>
          <a:stretch/>
        </p:blipFill>
        <p:spPr>
          <a:xfrm>
            <a:off x="0" y="0"/>
            <a:ext cx="1857240" cy="1582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-138600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pagesperso-orange.fr/sylvain.weisse/versailles/faca.JPG"/>
          <p:cNvPicPr/>
          <p:nvPr/>
        </p:nvPicPr>
        <p:blipFill>
          <a:blip r:embed="rId3"/>
          <a:stretch/>
        </p:blipFill>
        <p:spPr>
          <a:xfrm>
            <a:off x="2133720" y="0"/>
            <a:ext cx="3630600" cy="1490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"/>
          <p:cNvSpPr/>
          <p:nvPr/>
        </p:nvSpPr>
        <p:spPr>
          <a:xfrm>
            <a:off x="-1604880" y="21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http://pagesperso-orange.fr/sylvain.weisse/versailles/cchf.jpg"/>
          <p:cNvPicPr/>
          <p:nvPr/>
        </p:nvPicPr>
        <p:blipFill>
          <a:blip r:embed="rId4"/>
          <a:stretch/>
        </p:blipFill>
        <p:spPr>
          <a:xfrm>
            <a:off x="5853240" y="533520"/>
            <a:ext cx="3290760" cy="1190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627200" y="12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" descr="http://pagesperso-orange.fr/sylvain.weisse/versailles/marbrev.jpg"/>
          <p:cNvPicPr/>
          <p:nvPr/>
        </p:nvPicPr>
        <p:blipFill>
          <a:blip r:embed="rId5"/>
          <a:stretch/>
        </p:blipFill>
        <p:spPr>
          <a:xfrm>
            <a:off x="2666880" y="3657600"/>
            <a:ext cx="2854440" cy="2149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0"/>
          <p:cNvSpPr/>
          <p:nvPr/>
        </p:nvSpPr>
        <p:spPr>
          <a:xfrm>
            <a:off x="3733920" y="2514600"/>
            <a:ext cx="259056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hambre du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 flipV="1">
            <a:off x="4419720" y="2285640"/>
            <a:ext cx="152280" cy="22860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5562720" y="1828800"/>
            <a:ext cx="243828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lerie des g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4723920" y="2057400"/>
            <a:ext cx="838440" cy="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715000" y="3352680"/>
            <a:ext cx="3429000" cy="25628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a galerie des Glaces permet de relier les deux ailes du château de Versailles. A l'origine cet espace était une terrasse permettant d'admirer les jardins. la Galerie des Glaces serva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Times New Roman"/>
              </a:rPr>
              <a:t>i</a:t>
            </a:r>
            <a:r>
              <a:rPr b="1" lang="fr-FR" sz="1800" spc="-1" strike="noStrike" u="sng">
                <a:solidFill>
                  <a:srgbClr val="ff3300"/>
                </a:solidFill>
                <a:uFillTx/>
                <a:latin typeface="Times New Roman"/>
              </a:rPr>
              <a:t>en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Times New Roman"/>
              </a:rPr>
              <a:t>t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aux réceptions les plus importantes, le trône y était alors installé. La Galerie servait aussi à de grands b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7238880" y="2286000"/>
            <a:ext cx="304920" cy="99072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152280" y="3505320"/>
            <a:ext cx="2362320" cy="1922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Times New Roman"/>
              </a:rPr>
              <a:t>La </a:t>
            </a:r>
            <a:r>
              <a:rPr b="0" lang="fr-FR" sz="2400" spc="-1" strike="noStrike">
                <a:solidFill>
                  <a:srgbClr val="660066"/>
                </a:solidFill>
                <a:latin typeface="Times New Roman"/>
              </a:rPr>
              <a:t>chambre</a:t>
            </a:r>
            <a:r>
              <a:rPr b="0" lang="fr-FR" sz="2400" spc="-1" strike="noStrike">
                <a:solidFill>
                  <a:srgbClr val="ffccff"/>
                </a:solidFill>
                <a:latin typeface="Times New Roman"/>
              </a:rPr>
              <a:t> du roi est située au milieu du château et </a:t>
            </a:r>
            <a:r>
              <a:rPr b="1" lang="fr-FR" sz="2400" spc="-1" strike="noStrike" u="sng">
                <a:solidFill>
                  <a:srgbClr val="ff3300"/>
                </a:solidFill>
                <a:uFillTx/>
                <a:latin typeface="Times New Roman"/>
              </a:rPr>
              <a:t>dans</a:t>
            </a:r>
            <a:r>
              <a:rPr b="0" lang="fr-FR" sz="2400" spc="-1" strike="noStrike">
                <a:solidFill>
                  <a:srgbClr val="ffccff"/>
                </a:solidFill>
                <a:latin typeface="Times New Roman"/>
              </a:rPr>
              <a:t> l’axe so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7"/>
          <p:cNvSpPr/>
          <p:nvPr/>
        </p:nvSpPr>
        <p:spPr>
          <a:xfrm flipV="1">
            <a:off x="2057400" y="3048120"/>
            <a:ext cx="2209680" cy="38088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8"/>
          <p:cNvSpPr/>
          <p:nvPr/>
        </p:nvSpPr>
        <p:spPr>
          <a:xfrm flipV="1">
            <a:off x="2590920" y="4571640"/>
            <a:ext cx="1447560" cy="15228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143000" y="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99ff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s jardins de Versailles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99ff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4648320" y="1218960"/>
            <a:ext cx="304560" cy="4647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505320" y="5867280"/>
            <a:ext cx="3124080" cy="4597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talement symétriqu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H="1" flipV="1">
            <a:off x="3733560" y="3809520"/>
            <a:ext cx="114300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4876920" y="3809520"/>
            <a:ext cx="114300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7467480" y="5867280"/>
            <a:ext cx="1524240" cy="4572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858000" y="5638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200400" y="6391440"/>
            <a:ext cx="3657600" cy="4597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rapport à l’axe du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5029200" y="6248520"/>
            <a:ext cx="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143840" cy="288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2971800" y="2862360"/>
            <a:ext cx="5334120" cy="39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2752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2438280" y="380880"/>
            <a:ext cx="4367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Nos lie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1676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://pagesperso-orange.fr/sylvain.weisse/versailles/accversp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733920" y="3352680"/>
            <a:ext cx="609480" cy="6098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33720" y="4952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oogle image pour les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457200" y="15228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e diaporama est fini merci de l'avoir regardé, à bientôt !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457200" y="3124080"/>
            <a:ext cx="8220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 diaporama est fini merci de l'avoir regardé, à bientôt 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-125280" y="5867280"/>
            <a:ext cx="926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e diaporama est fini merci de l'avoir regardé, à bientôt 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971800" y="1676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ce L        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048120" y="4495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avière F       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5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76520" y="1058760"/>
            <a:ext cx="6172200" cy="5799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 encore Versailles est utilisé pas les « grands » de ce pay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9:17Z</dcterms:created>
  <dc:creator>alanos</dc:creator>
  <dc:description/>
  <dc:language>en-US</dc:language>
  <cp:lastModifiedBy>AMINO</cp:lastModifiedBy>
  <dcterms:modified xsi:type="dcterms:W3CDTF">2011-11-25T09:26:00Z</dcterms:modified>
  <cp:revision>35</cp:revision>
  <dc:subject/>
  <dc:title>Présentation PowerPoint</dc:title>
</cp:coreProperties>
</file>