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A8C-F805-4C67-9FA7-FCB5D00D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670-B98C-4FC5-875A-4B3F76A9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EA0-B10B-41A6-AE75-B601C1D9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83F-A379-4944-9539-2F78DED1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174-EC2C-4F98-9084-9B42DA62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8DA-1423-4FCE-A3A2-46E77E48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670-8D36-4CA3-9735-F4D5140E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B9FD-6A28-42F5-9B5E-5E9E25BD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CFD-8778-4F0B-86E2-737FD869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D8C-F8C9-4B69-ACA0-5BCE31A0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374-8BEF-4EF8-B4B0-07F83E77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CA2-85C2-4BB1-8F7E-DD53E08D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EF720-25D9-45C5-816E-094846E20D1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F2711-A65B-4567-BEC5-E57041B61CD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02:59:59Z</dcterms:created>
  <dc:creator>최봉수</dc:creator>
  <dc:description/>
  <dc:language>en-US</dc:language>
  <cp:lastModifiedBy>맛있다 군만두</cp:lastModifiedBy>
  <dcterms:modified xsi:type="dcterms:W3CDTF">2023-07-13T07:22:38Z</dcterms:modified>
  <cp:revision>3</cp:revision>
  <dc:subject/>
  <dc:title>슬라이드 1</dc:title>
</cp:coreProperties>
</file>