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E59-47E5-4BC2-9410-CC3A48C9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9EB-BD1E-4BFB-8246-77957D1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1A6-9434-41D6-A987-6BAA6210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DCC-4EE7-4260-B343-9F5CE1B2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F95-1A06-4D17-9110-19864859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030-6D66-47EA-B563-20EB235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978-7340-4742-BF8C-5BF0E60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9A8-3919-49A7-9CD9-6000433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8BA-C2B8-4DFF-8DF6-DE9ED7E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AF1-F1A7-4967-9B47-B0E318D4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3FA-49B6-43A0-B0A8-D7F0186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A46-7DAC-4795-B76E-9EE7E5A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3124F-4A69-46B0-BDC4-2CAAC9BEDB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3BFD6-3376-499A-86FA-C4D2ECA67A6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59:59Z</dcterms:created>
  <dc:creator>최봉수</dc:creator>
  <dc:description/>
  <dc:language>en-US</dc:language>
  <cp:lastModifiedBy>맛있다 군만두</cp:lastModifiedBy>
  <dcterms:modified xsi:type="dcterms:W3CDTF">2023-07-13T07:22:38Z</dcterms:modified>
  <cp:revision>3</cp:revision>
  <dc:subject/>
  <dc:title>슬라이드 1</dc:title>
</cp:coreProperties>
</file>