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60FC-7E33-43D1-BEFB-DF4870265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C733-2416-45D0-A383-A681119C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8CA-3795-4699-A177-748394DCD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08FB-0764-4DF7-996A-ED9888248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D19-2EA5-44A4-B557-2D0477B0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0FCC-BD74-4809-A0D9-264BC6EE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CB4-60B4-4778-AFE8-6EEFA7A9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FAB-6E2F-4573-8C59-867E513F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0D1-F7CA-4D4E-949E-7F2B2E9F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0DAB-0DFF-4B27-A2FA-50E62BEAF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86BE-9238-448C-9635-169A3927E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3C5-CFF8-4792-A3B0-D4594A6E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FD437-4CBE-42E7-8F17-B272462E6B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403644-3F11-40A1-8661-77071E383DAF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slide" Target="slide3.xml"/><Relationship Id="rId7" Type="http://schemas.openxmlformats.org/officeDocument/2006/relationships/image" Target="../media/image3.png"/><Relationship Id="rId8" Type="http://schemas.openxmlformats.org/officeDocument/2006/relationships/slide" Target="slide4.xml"/><Relationship Id="rId9" Type="http://schemas.openxmlformats.org/officeDocument/2006/relationships/image" Target="../media/image3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5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5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6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6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7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8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9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0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4" name="Picture 6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7">
              <a:hlinkClick r:id="rId5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07" name="Picture 9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0">
              <a:hlinkClick r:id="rId8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10" name="Picture 12" descr=""/>
            <p:cNvPicPr/>
            <p:nvPr/>
          </p:nvPicPr>
          <p:blipFill>
            <a:blip r:embed="rId9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3">
              <a:hlinkClick r:id="rId10" action="ppaction://hlinksldjump"/>
            </p:cNvPr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1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2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4" name="Picture 6" descr=""/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7" name="Picture 9" descr=""/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11"/>
          <p:cNvGrpSpPr/>
          <p:nvPr/>
        </p:nvGrpSpPr>
        <p:grpSpPr>
          <a:xfrm>
            <a:off x="9051840" y="6310440"/>
            <a:ext cx="423720" cy="431640"/>
            <a:chOff x="9051840" y="6310440"/>
            <a:chExt cx="423720" cy="431640"/>
          </a:xfrm>
        </p:grpSpPr>
        <p:pic>
          <p:nvPicPr>
            <p:cNvPr id="130" name="Picture 12" descr=""/>
            <p:cNvPicPr/>
            <p:nvPr/>
          </p:nvPicPr>
          <p:blipFill>
            <a:blip r:embed="rId5"/>
            <a:stretch/>
          </p:blipFill>
          <p:spPr>
            <a:xfrm>
              <a:off x="905184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13"/>
            <p:cNvSpPr/>
            <p:nvPr/>
          </p:nvSpPr>
          <p:spPr>
            <a:xfrm>
              <a:off x="918000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6:24:18Z</dcterms:created>
  <dc:creator>최봉수</dc:creator>
  <dc:description/>
  <dc:language>en-US</dc:language>
  <cp:lastModifiedBy>맛있다 군만두</cp:lastModifiedBy>
  <dcterms:modified xsi:type="dcterms:W3CDTF">2024-10-01T02:51:51Z</dcterms:modified>
  <cp:revision>3</cp:revision>
  <dc:subject/>
  <dc:title>슬라이드 1</dc:title>
</cp:coreProperties>
</file>