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1BA-0681-48B2-8687-8BF9F620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EE4-AA5D-4EBD-AAFB-A51D5B8F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541-8725-4AEE-8DEC-EDDB4E6F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332-446D-419D-9445-08F900E7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6D5-0C85-4116-9B45-19D628B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301-90CB-45C3-A132-FBEE2A60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D70-2043-43D2-9434-B5E806F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994-FA20-46B0-97C7-95879E1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B66-715B-4F0B-B395-AD39634D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C42-9366-4515-A684-F5C3309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433-E4A2-4454-BF26-A64ABA0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65E-42AE-47FB-9C07-564E89C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F21EE-DEE3-462B-956D-D246E5AAB5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DC540-4775-472B-A2ED-ACA4AE9E61F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6:24:18Z</dcterms:created>
  <dc:creator>최봉수</dc:creator>
  <dc:description/>
  <dc:language>en-US</dc:language>
  <cp:lastModifiedBy>맛있다 군만두</cp:lastModifiedBy>
  <dcterms:modified xsi:type="dcterms:W3CDTF">2024-10-01T02:51:51Z</dcterms:modified>
  <cp:revision>3</cp:revision>
  <dc:subject/>
  <dc:title>슬라이드 1</dc:title>
</cp:coreProperties>
</file>