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55CACF-B826-4DB5-9D48-F606A161841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ed: LL (1 packet only, drop due to arp), IF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: collision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: Carier Sense threshold, Receive Threshold. Packets above CSThresh are able to cause a coll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Q: can be any queue, droptail or priorit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ay it’s GT-ITM transit-stub networ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more abs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e link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7FF-F173-425B-A39D-14FEF5B6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909-8D07-43F8-B2FC-164567C5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D8C-7C5E-46F2-A16A-472BF69A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7C3-8CD6-4E30-AF00-5AF9D351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950E-F9B4-4789-BFEE-978B0891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92AD-A9E9-4DB5-BDA1-AAF9A076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1973-F818-45C4-9074-C4ABCA9F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AD73-29A1-4A8C-83BE-2B4871EA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842D-6D9E-46F9-8C6D-BD3CE861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A13C-85B1-4B8B-AC19-6D62FF33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ED5B-D048-4ACE-BE6E-45356423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191-7970-4312-8A7A-D806414C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33F8-AF0B-43C4-8CFB-6B77ACFA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F20F-6144-4345-998D-DDCDCB82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8FCB-CBF7-4A4D-9870-BD161C97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352C-A43B-43B3-9491-8F2399FB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3284-C2F4-4BA5-BB5F-6E8926E3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97B-625A-40A4-9F08-FA8CDA44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206-BC2F-4EF8-A29A-8B3BBB85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5DB-1CE6-44C0-8499-6ABD144A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F08-3844-4C07-B4E4-EE0FA3C7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B58-1BD2-46F4-8E8E-90B828D7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068-C00A-4200-BB0E-FB47C5D0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50D4-F7C5-4AC0-8B4C-69EF9768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6F63-93AD-4706-8021-D41AB4A48D61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8C8D-3C60-4C91-9EF2-3088AB4714F5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F566-EF7B-4ADD-8F9B-0E961A080827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B5CB-4EBB-47E1-94FB-0DFB550AE33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I: ns Intern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FB4F-D974-4D6E-8DF2-CBA696B3A7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lement OTcl methods in C++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p point: OTcl method cmd{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nd all arguments after cmd{} call to TclObject::command(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59C-A81A-4F1A-8D03-1A3D702E0D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61760"/>
            <a:ext cx="77724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tcp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advanc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1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TcpAgent::command(int argc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onst char*const* argv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f (argc == 3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f (strcmp(argv[1], “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advance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”) == 0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newseq = atoi(argv[2]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turn(TCL_OK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turn (Agent::command(argc, argv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90E-2410-4ED3-A611-B4B02CB0F3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752400" y="1936800"/>
            <a:ext cx="1074960" cy="49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$tcp se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73400" y="1963800"/>
            <a:ext cx="2459160" cy="45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Object::unknown{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08640" y="1963800"/>
            <a:ext cx="1706760" cy="45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$tcp cmd se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2" idx="3"/>
            <a:endCxn id="313" idx="1"/>
          </p:cNvCxnSpPr>
          <p:nvPr/>
        </p:nvCxnSpPr>
        <p:spPr>
          <a:xfrm>
            <a:off x="1827000" y="2185920"/>
            <a:ext cx="1346400" cy="8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1734480" y="182736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suc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du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3" idx="3"/>
            <a:endCxn id="314" idx="1"/>
          </p:cNvCxnSpPr>
          <p:nvPr/>
        </p:nvCxnSpPr>
        <p:spPr>
          <a:xfrm>
            <a:off x="5632560" y="2193480"/>
            <a:ext cx="676800" cy="10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3201840" y="3240000"/>
            <a:ext cx="2444760" cy="49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pAgent::comma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4" idx="2"/>
            <a:endCxn id="318" idx="0"/>
          </p:cNvCxnSpPr>
          <p:nvPr/>
        </p:nvCxnSpPr>
        <p:spPr>
          <a:xfrm rot="5400000">
            <a:off x="5384160" y="1461600"/>
            <a:ext cx="818280" cy="2739240"/>
          </a:xfrm>
          <a:prstGeom prst="bentConnector3">
            <a:avLst>
              <a:gd name="adj1" fmla="val 4986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3562200" y="4102200"/>
            <a:ext cx="1721160" cy="83340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tch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”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8" idx="2"/>
            <a:endCxn id="320" idx="0"/>
          </p:cNvCxnSpPr>
          <p:nvPr/>
        </p:nvCxnSpPr>
        <p:spPr>
          <a:xfrm flipH="1">
            <a:off x="4421880" y="3738600"/>
            <a:ext cx="2520" cy="364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5315040" y="5388120"/>
            <a:ext cx="2820960" cy="674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voke parent: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turn Agent::comma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54240" y="5415120"/>
            <a:ext cx="2109600" cy="498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ocess and retur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20" idx="1"/>
            <a:endCxn id="323" idx="0"/>
          </p:cNvCxnSpPr>
          <p:nvPr/>
        </p:nvCxnSpPr>
        <p:spPr>
          <a:xfrm flipV="1" rot="10800000">
            <a:off x="2309040" y="4519080"/>
            <a:ext cx="1253160" cy="8964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320" idx="3"/>
            <a:endCxn id="322" idx="0"/>
          </p:cNvCxnSpPr>
          <p:nvPr/>
        </p:nvCxnSpPr>
        <p:spPr>
          <a:xfrm>
            <a:off x="5283360" y="4519080"/>
            <a:ext cx="1443600" cy="8694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6" name=""/>
          <p:cNvSpPr/>
          <p:nvPr/>
        </p:nvSpPr>
        <p:spPr>
          <a:xfrm>
            <a:off x="3088440" y="41846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76440" y="4186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8800" y="1654200"/>
            <a:ext cx="8082000" cy="981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32640" y="15955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1400" y="2946240"/>
            <a:ext cx="8080560" cy="3387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12040" y="29811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949-5543-445B-A0F8-178A714628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9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clObject: Creation and Dele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lobal procedures: new{}, delete{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delete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07B-B76E-4797-B2D1-2C9B4ABE87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8159040" y="399888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00000" y="34448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39800" y="3939840"/>
            <a:ext cx="8082000" cy="12600"/>
          </a:xfrm>
          <a:prstGeom prst="line">
            <a:avLst/>
          </a:prstGeom>
          <a:ln w="381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clObject: Creation and Dele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968400" y="2406600"/>
            <a:ext cx="1519200" cy="604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voke pare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ruct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846000" y="1716120"/>
            <a:ext cx="1774800" cy="2020680"/>
            <a:chOff x="846000" y="1716120"/>
            <a:chExt cx="1774800" cy="2020680"/>
          </a:xfrm>
        </p:grpSpPr>
        <p:sp>
          <p:nvSpPr>
            <p:cNvPr id="340" name=""/>
            <p:cNvSpPr/>
            <p:nvPr/>
          </p:nvSpPr>
          <p:spPr>
            <a:xfrm>
              <a:off x="846000" y="1720800"/>
              <a:ext cx="1774800" cy="2016000"/>
            </a:xfrm>
            <a:custGeom>
              <a:avLst/>
              <a:gdLst>
                <a:gd name="textAreaLeft" fmla="*/ 86400 w 1774800"/>
                <a:gd name="textAreaRight" fmla="*/ 1688400 w 1774800"/>
                <a:gd name="textAreaTop" fmla="*/ 86400 h 2016000"/>
                <a:gd name="textAreaBottom" fmla="*/ 1929600 h 2016000"/>
              </a:gdLst>
              <a:ahLst/>
              <a:rect l="textAreaLeft" t="textAreaTop" r="textAreaRight" b="textAreaBottom"/>
              <a:pathLst>
                <a:path w="21600" h="24535">
                  <a:moveTo>
                    <a:pt x="3600" y="0"/>
                  </a:moveTo>
                  <a:arcTo wR="3600" hR="3600" stAng="16200000" swAng="-5400000"/>
                  <a:lnTo>
                    <a:pt x="0" y="20935"/>
                  </a:lnTo>
                  <a:arcTo wR="3600" hR="3600" stAng="10800000" swAng="-5400000"/>
                  <a:lnTo>
                    <a:pt x="18000" y="245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08720" y="171612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gent/TC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nstructo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487240" y="1706400"/>
            <a:ext cx="2777040" cy="2021040"/>
            <a:chOff x="2487240" y="1706400"/>
            <a:chExt cx="2777040" cy="2021040"/>
          </a:xfrm>
        </p:grpSpPr>
        <p:grpSp>
          <p:nvGrpSpPr>
            <p:cNvPr id="343" name=""/>
            <p:cNvGrpSpPr/>
            <p:nvPr/>
          </p:nvGrpSpPr>
          <p:grpSpPr>
            <a:xfrm>
              <a:off x="3489480" y="1706400"/>
              <a:ext cx="1774800" cy="2021040"/>
              <a:chOff x="3489480" y="1706400"/>
              <a:chExt cx="1774800" cy="2021040"/>
            </a:xfrm>
          </p:grpSpPr>
          <p:sp>
            <p:nvSpPr>
              <p:cNvPr id="344" name=""/>
              <p:cNvSpPr/>
              <p:nvPr/>
            </p:nvSpPr>
            <p:spPr>
              <a:xfrm>
                <a:off x="3489480" y="17114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652200" y="170640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487240" y="2409840"/>
              <a:ext cx="2653200" cy="604800"/>
              <a:chOff x="2487240" y="2409840"/>
              <a:chExt cx="2653200" cy="604800"/>
            </a:xfrm>
          </p:grpSpPr>
          <p:sp>
            <p:nvSpPr>
              <p:cNvPr id="347" name=""/>
              <p:cNvSpPr/>
              <p:nvPr/>
            </p:nvSpPr>
            <p:spPr>
              <a:xfrm>
                <a:off x="3621240" y="2409840"/>
                <a:ext cx="1519200" cy="60480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voke 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48" name=""/>
              <p:cNvCxnSpPr>
                <a:stCxn id="338" idx="3"/>
                <a:endCxn id="347" idx="1"/>
              </p:cNvCxnSpPr>
              <p:nvPr/>
            </p:nvCxnSpPr>
            <p:spPr>
              <a:xfrm>
                <a:off x="2487240" y="2709360"/>
                <a:ext cx="1134360" cy="39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9" name=""/>
          <p:cNvGrpSpPr/>
          <p:nvPr/>
        </p:nvGrpSpPr>
        <p:grpSpPr>
          <a:xfrm>
            <a:off x="5140440" y="1706400"/>
            <a:ext cx="3046320" cy="2021040"/>
            <a:chOff x="5140440" y="1706400"/>
            <a:chExt cx="3046320" cy="2021040"/>
          </a:xfrm>
        </p:grpSpPr>
        <p:grpSp>
          <p:nvGrpSpPr>
            <p:cNvPr id="350" name=""/>
            <p:cNvGrpSpPr/>
            <p:nvPr/>
          </p:nvGrpSpPr>
          <p:grpSpPr>
            <a:xfrm>
              <a:off x="6411960" y="1706400"/>
              <a:ext cx="1774800" cy="2021040"/>
              <a:chOff x="6411960" y="1706400"/>
              <a:chExt cx="1774800" cy="2021040"/>
            </a:xfrm>
          </p:grpSpPr>
          <p:sp>
            <p:nvSpPr>
              <p:cNvPr id="351" name=""/>
              <p:cNvSpPr/>
              <p:nvPr/>
            </p:nvSpPr>
            <p:spPr>
              <a:xfrm>
                <a:off x="6411960" y="17114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74320" y="170640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140440" y="2413080"/>
              <a:ext cx="2923920" cy="604800"/>
              <a:chOff x="5140440" y="2413080"/>
              <a:chExt cx="2923920" cy="604800"/>
            </a:xfrm>
          </p:grpSpPr>
          <p:sp>
            <p:nvSpPr>
              <p:cNvPr id="354" name=""/>
              <p:cNvSpPr/>
              <p:nvPr/>
            </p:nvSpPr>
            <p:spPr>
              <a:xfrm>
                <a:off x="6545160" y="2413080"/>
                <a:ext cx="1519200" cy="60480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reate C++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objec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55" name=""/>
              <p:cNvCxnSpPr>
                <a:stCxn id="347" idx="3"/>
                <a:endCxn id="354" idx="1"/>
              </p:cNvCxnSpPr>
              <p:nvPr/>
            </p:nvCxnSpPr>
            <p:spPr>
              <a:xfrm>
                <a:off x="5140440" y="2712600"/>
                <a:ext cx="1405440" cy="39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56" name=""/>
          <p:cNvGrpSpPr/>
          <p:nvPr/>
        </p:nvGrpSpPr>
        <p:grpSpPr>
          <a:xfrm>
            <a:off x="6480000" y="2715840"/>
            <a:ext cx="1872000" cy="3548160"/>
            <a:chOff x="6480000" y="2715840"/>
            <a:chExt cx="1872000" cy="3548160"/>
          </a:xfrm>
        </p:grpSpPr>
        <p:grpSp>
          <p:nvGrpSpPr>
            <p:cNvPr id="357" name=""/>
            <p:cNvGrpSpPr/>
            <p:nvPr/>
          </p:nvGrpSpPr>
          <p:grpSpPr>
            <a:xfrm>
              <a:off x="6480000" y="4243320"/>
              <a:ext cx="1774800" cy="2020680"/>
              <a:chOff x="6480000" y="4243320"/>
              <a:chExt cx="1774800" cy="2020680"/>
            </a:xfrm>
          </p:grpSpPr>
          <p:sp>
            <p:nvSpPr>
              <p:cNvPr id="358" name=""/>
              <p:cNvSpPr/>
              <p:nvPr/>
            </p:nvSpPr>
            <p:spPr>
              <a:xfrm>
                <a:off x="6480000" y="424800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42720" y="424332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gentTCP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602400" y="2715840"/>
              <a:ext cx="1749600" cy="2848320"/>
              <a:chOff x="6602400" y="2715840"/>
              <a:chExt cx="1749600" cy="2848320"/>
            </a:xfrm>
          </p:grpSpPr>
          <p:sp>
            <p:nvSpPr>
              <p:cNvPr id="361" name=""/>
              <p:cNvSpPr/>
              <p:nvPr/>
            </p:nvSpPr>
            <p:spPr>
              <a:xfrm>
                <a:off x="6602400" y="4940280"/>
                <a:ext cx="1519200" cy="62388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voke 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62" name=""/>
              <p:cNvCxnSpPr>
                <a:stCxn id="354" idx="3"/>
                <a:endCxn id="361" idx="3"/>
              </p:cNvCxnSpPr>
              <p:nvPr/>
            </p:nvCxnSpPr>
            <p:spPr>
              <a:xfrm>
                <a:off x="8064000" y="2715840"/>
                <a:ext cx="57960" cy="2537640"/>
              </a:xfrm>
              <a:prstGeom prst="bentConnector3">
                <a:avLst>
                  <a:gd name="adj1" fmla="val 500000"/>
                </a:avLst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63" name=""/>
          <p:cNvGrpSpPr/>
          <p:nvPr/>
        </p:nvGrpSpPr>
        <p:grpSpPr>
          <a:xfrm>
            <a:off x="3514680" y="4259160"/>
            <a:ext cx="3087720" cy="2020680"/>
            <a:chOff x="3514680" y="4259160"/>
            <a:chExt cx="3087720" cy="2020680"/>
          </a:xfrm>
        </p:grpSpPr>
        <p:sp>
          <p:nvSpPr>
            <p:cNvPr id="364" name=""/>
            <p:cNvSpPr/>
            <p:nvPr/>
          </p:nvSpPr>
          <p:spPr>
            <a:xfrm>
              <a:off x="3648240" y="4944960"/>
              <a:ext cx="1519200" cy="6112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voke paren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nstructo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514680" y="4259160"/>
              <a:ext cx="1774800" cy="2020680"/>
              <a:chOff x="3514680" y="4259160"/>
              <a:chExt cx="1774800" cy="2020680"/>
            </a:xfrm>
          </p:grpSpPr>
          <p:sp>
            <p:nvSpPr>
              <p:cNvPr id="366" name=""/>
              <p:cNvSpPr/>
              <p:nvPr/>
            </p:nvSpPr>
            <p:spPr>
              <a:xfrm>
                <a:off x="3514680" y="42638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523320" y="4259160"/>
                <a:ext cx="173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parent (Agent)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68" name=""/>
            <p:cNvCxnSpPr>
              <a:stCxn id="361" idx="1"/>
              <a:endCxn id="364" idx="3"/>
            </p:cNvCxnSpPr>
            <p:nvPr/>
          </p:nvCxnSpPr>
          <p:spPr>
            <a:xfrm flipH="1" flipV="1">
              <a:off x="5167440" y="5250600"/>
              <a:ext cx="1435320" cy="2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369" name=""/>
          <p:cNvGrpSpPr/>
          <p:nvPr/>
        </p:nvGrpSpPr>
        <p:grpSpPr>
          <a:xfrm>
            <a:off x="855360" y="4255920"/>
            <a:ext cx="2792880" cy="2016360"/>
            <a:chOff x="855360" y="4255920"/>
            <a:chExt cx="2792880" cy="2016360"/>
          </a:xfrm>
        </p:grpSpPr>
        <p:sp>
          <p:nvSpPr>
            <p:cNvPr id="370" name=""/>
            <p:cNvSpPr/>
            <p:nvPr/>
          </p:nvSpPr>
          <p:spPr>
            <a:xfrm>
              <a:off x="976320" y="5102280"/>
              <a:ext cx="1519200" cy="9144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o nothing,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855360" y="4255920"/>
              <a:ext cx="1793880" cy="2016360"/>
              <a:chOff x="855360" y="4255920"/>
              <a:chExt cx="1793880" cy="2016360"/>
            </a:xfrm>
          </p:grpSpPr>
          <p:sp>
            <p:nvSpPr>
              <p:cNvPr id="372" name=""/>
              <p:cNvSpPr/>
              <p:nvPr/>
            </p:nvSpPr>
            <p:spPr>
              <a:xfrm>
                <a:off x="855360" y="4255920"/>
                <a:ext cx="1774440" cy="2016360"/>
              </a:xfrm>
              <a:custGeom>
                <a:avLst/>
                <a:gdLst>
                  <a:gd name="textAreaLeft" fmla="*/ 86400 w 1774440"/>
                  <a:gd name="textAreaRight" fmla="*/ 1688040 w 1774440"/>
                  <a:gd name="textAreaTop" fmla="*/ 86400 h 2016360"/>
                  <a:gd name="textAreaBottom" fmla="*/ 1929960 h 2016360"/>
                </a:gdLst>
                <a:ahLst/>
                <a:rect l="textAreaLeft" t="textAreaTop" r="textAreaRight" b="textAreaBottom"/>
                <a:pathLst>
                  <a:path w="21600" h="24544">
                    <a:moveTo>
                      <a:pt x="3600" y="0"/>
                    </a:moveTo>
                    <a:arcTo wR="3600" hR="3600" stAng="16200000" swAng="-5400000"/>
                    <a:lnTo>
                      <a:pt x="0" y="20944"/>
                    </a:lnTo>
                    <a:arcTo wR="3600" hR="3600" stAng="10800000" swAng="-5400000"/>
                    <a:lnTo>
                      <a:pt x="18000" y="2454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69760" y="4317840"/>
                <a:ext cx="177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TclObject (C++)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74" name=""/>
            <p:cNvCxnSpPr>
              <a:stCxn id="364" idx="1"/>
              <a:endCxn id="370" idx="3"/>
            </p:cNvCxnSpPr>
            <p:nvPr/>
          </p:nvCxnSpPr>
          <p:spPr>
            <a:xfrm flipV="1" rot="10800000">
              <a:off x="2494800" y="5250960"/>
              <a:ext cx="1153440" cy="30888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375" name=""/>
          <p:cNvGrpSpPr/>
          <p:nvPr/>
        </p:nvGrpSpPr>
        <p:grpSpPr>
          <a:xfrm>
            <a:off x="2495520" y="5556240"/>
            <a:ext cx="2671920" cy="604800"/>
            <a:chOff x="2495520" y="5556240"/>
            <a:chExt cx="2671920" cy="604800"/>
          </a:xfrm>
        </p:grpSpPr>
        <p:sp>
          <p:nvSpPr>
            <p:cNvPr id="376" name=""/>
            <p:cNvSpPr/>
            <p:nvPr/>
          </p:nvSpPr>
          <p:spPr>
            <a:xfrm>
              <a:off x="3648240" y="555624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bind variabl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nd 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0" idx="3"/>
              <a:endCxn id="376" idx="1"/>
            </p:cNvCxnSpPr>
            <p:nvPr/>
          </p:nvCxnSpPr>
          <p:spPr>
            <a:xfrm>
              <a:off x="2495520" y="5559120"/>
              <a:ext cx="1153440" cy="30060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78" name=""/>
          <p:cNvGrpSpPr/>
          <p:nvPr/>
        </p:nvGrpSpPr>
        <p:grpSpPr>
          <a:xfrm>
            <a:off x="5167440" y="5564160"/>
            <a:ext cx="2954160" cy="592200"/>
            <a:chOff x="5167440" y="5564160"/>
            <a:chExt cx="2954160" cy="592200"/>
          </a:xfrm>
        </p:grpSpPr>
        <p:sp>
          <p:nvSpPr>
            <p:cNvPr id="379" name=""/>
            <p:cNvSpPr/>
            <p:nvPr/>
          </p:nvSpPr>
          <p:spPr>
            <a:xfrm>
              <a:off x="6602400" y="5564160"/>
              <a:ext cx="1519200" cy="592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bind variabl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nd 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0" name=""/>
            <p:cNvCxnSpPr>
              <a:stCxn id="376" idx="3"/>
              <a:endCxn id="379" idx="1"/>
            </p:cNvCxnSpPr>
            <p:nvPr/>
          </p:nvCxnSpPr>
          <p:spPr>
            <a:xfrm>
              <a:off x="5167440" y="5859000"/>
              <a:ext cx="1435320" cy="252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1" name=""/>
          <p:cNvGrpSpPr/>
          <p:nvPr/>
        </p:nvGrpSpPr>
        <p:grpSpPr>
          <a:xfrm>
            <a:off x="6545160" y="3017880"/>
            <a:ext cx="1995120" cy="2843280"/>
            <a:chOff x="6545160" y="3017880"/>
            <a:chExt cx="1995120" cy="2843280"/>
          </a:xfrm>
        </p:grpSpPr>
        <p:sp>
          <p:nvSpPr>
            <p:cNvPr id="382" name=""/>
            <p:cNvSpPr/>
            <p:nvPr/>
          </p:nvSpPr>
          <p:spPr>
            <a:xfrm>
              <a:off x="6545160" y="301788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reate OTc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hadow objec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9" idx="3"/>
              <a:endCxn id="382" idx="3"/>
            </p:cNvCxnSpPr>
            <p:nvPr/>
          </p:nvCxnSpPr>
          <p:spPr>
            <a:xfrm flipH="1" flipV="1">
              <a:off x="8063640" y="3320640"/>
              <a:ext cx="57960" cy="2540880"/>
            </a:xfrm>
            <a:prstGeom prst="bentConnector3">
              <a:avLst>
                <a:gd name="adj1" fmla="val -727500"/>
              </a:avLst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4" name=""/>
          <p:cNvGrpSpPr/>
          <p:nvPr/>
        </p:nvGrpSpPr>
        <p:grpSpPr>
          <a:xfrm>
            <a:off x="3621240" y="3014640"/>
            <a:ext cx="2923920" cy="604800"/>
            <a:chOff x="3621240" y="3014640"/>
            <a:chExt cx="2923920" cy="604800"/>
          </a:xfrm>
        </p:grpSpPr>
        <p:sp>
          <p:nvSpPr>
            <p:cNvPr id="385" name=""/>
            <p:cNvSpPr/>
            <p:nvPr/>
          </p:nvSpPr>
          <p:spPr>
            <a:xfrm>
              <a:off x="3621240" y="301464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mplete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itializ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6" name=""/>
            <p:cNvCxnSpPr>
              <a:stCxn id="382" idx="1"/>
              <a:endCxn id="385" idx="3"/>
            </p:cNvCxnSpPr>
            <p:nvPr/>
          </p:nvCxnSpPr>
          <p:spPr>
            <a:xfrm flipH="1" flipV="1">
              <a:off x="5140080" y="3317040"/>
              <a:ext cx="1405440" cy="396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7" name=""/>
          <p:cNvGrpSpPr/>
          <p:nvPr/>
        </p:nvGrpSpPr>
        <p:grpSpPr>
          <a:xfrm>
            <a:off x="968400" y="3011400"/>
            <a:ext cx="2652480" cy="617760"/>
            <a:chOff x="968400" y="3011400"/>
            <a:chExt cx="2652480" cy="617760"/>
          </a:xfrm>
        </p:grpSpPr>
        <p:sp>
          <p:nvSpPr>
            <p:cNvPr id="388" name=""/>
            <p:cNvSpPr/>
            <p:nvPr/>
          </p:nvSpPr>
          <p:spPr>
            <a:xfrm>
              <a:off x="968400" y="3011400"/>
              <a:ext cx="1519200" cy="6177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mplete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itializ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9" name=""/>
            <p:cNvCxnSpPr>
              <a:stCxn id="385" idx="1"/>
              <a:endCxn id="388" idx="3"/>
            </p:cNvCxnSpPr>
            <p:nvPr/>
          </p:nvCxnSpPr>
          <p:spPr>
            <a:xfrm flipH="1">
              <a:off x="2486880" y="3317400"/>
              <a:ext cx="1134360" cy="396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90" name=""/>
          <p:cNvGrpSpPr/>
          <p:nvPr/>
        </p:nvGrpSpPr>
        <p:grpSpPr>
          <a:xfrm>
            <a:off x="3294000" y="2568600"/>
            <a:ext cx="2903400" cy="1976400"/>
            <a:chOff x="3294000" y="2568600"/>
            <a:chExt cx="2903400" cy="1976400"/>
          </a:xfrm>
        </p:grpSpPr>
        <p:sp>
          <p:nvSpPr>
            <p:cNvPr id="391" name=""/>
            <p:cNvSpPr/>
            <p:nvPr/>
          </p:nvSpPr>
          <p:spPr>
            <a:xfrm>
              <a:off x="3294000" y="2568600"/>
              <a:ext cx="2849400" cy="1976400"/>
            </a:xfrm>
            <a:prstGeom prst="cloudCallout">
              <a:avLst>
                <a:gd name="adj1" fmla="val 58800"/>
                <a:gd name="adj2" fmla="val -34416"/>
              </a:avLst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5160" y="2936880"/>
              <a:ext cx="262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which C++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bject to create?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– </a:t>
              </a:r>
              <a:r>
                <a:rPr b="0" lang="en-US" sz="2400" spc="-1" strike="noStrike">
                  <a:solidFill>
                    <a:srgbClr val="ff5050"/>
                  </a:solidFill>
                  <a:latin typeface="Tahoma"/>
                </a:rPr>
                <a:t>TclClas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3469-8963-4875-95DF-AE6E6D0F7C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5800" y="1744560"/>
            <a:ext cx="4648320" cy="4046760"/>
            <a:chOff x="685800" y="1744560"/>
            <a:chExt cx="4648320" cy="4046760"/>
          </a:xfrm>
        </p:grpSpPr>
        <p:grpSp>
          <p:nvGrpSpPr>
            <p:cNvPr id="395" name=""/>
            <p:cNvGrpSpPr/>
            <p:nvPr/>
          </p:nvGrpSpPr>
          <p:grpSpPr>
            <a:xfrm>
              <a:off x="3810240" y="2438280"/>
              <a:ext cx="1523880" cy="3353040"/>
              <a:chOff x="3810240" y="2438280"/>
              <a:chExt cx="1523880" cy="3353040"/>
            </a:xfrm>
          </p:grpSpPr>
          <p:sp>
            <p:nvSpPr>
              <p:cNvPr id="396" name=""/>
              <p:cNvSpPr/>
              <p:nvPr/>
            </p:nvSpPr>
            <p:spPr>
              <a:xfrm>
                <a:off x="3810240" y="24382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10240" y="42670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810240" y="5257800"/>
                <a:ext cx="152388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/TC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800" y="2438280"/>
              <a:ext cx="1371600" cy="3353040"/>
              <a:chOff x="685800" y="2438280"/>
              <a:chExt cx="1371600" cy="335304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800" y="24382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85800" y="42670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5800" y="525780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p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5800" y="33526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Ns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286000" y="274320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6000" y="3657600"/>
              <a:ext cx="76212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86000" y="449568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10040" y="548640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21920" y="338616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??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71600" y="2971800"/>
              <a:ext cx="0" cy="3808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71600" y="3886200"/>
              <a:ext cx="0" cy="3808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71600" y="4800600"/>
              <a:ext cx="0" cy="45720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96040" y="2971800"/>
              <a:ext cx="0" cy="12952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96040" y="4800600"/>
              <a:ext cx="0" cy="45720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051200" y="1744560"/>
              <a:ext cx="4282920" cy="509040"/>
              <a:chOff x="1051200" y="1744560"/>
              <a:chExt cx="4282920" cy="509040"/>
            </a:xfrm>
          </p:grpSpPr>
          <p:sp>
            <p:nvSpPr>
              <p:cNvPr id="415" name=""/>
              <p:cNvSpPr/>
              <p:nvPr/>
            </p:nvSpPr>
            <p:spPr>
              <a:xfrm>
                <a:off x="4163400" y="1785960"/>
                <a:ext cx="81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OTcl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51200" y="1793880"/>
                <a:ext cx="428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++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09680" y="1744560"/>
                <a:ext cx="156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mirroring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2271600" y="1805040"/>
            <a:ext cx="64929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tatic class TcpClass : public TclClass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cpClass() : TclClass(“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gent/TCP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”) {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clObject* create(int, const char*const*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return (new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cpAgent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()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} class_tcp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FF0-9867-4C25-AF8D-625FB05D5F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Class: Mechanis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itialization at runtime star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5479920" y="3800520"/>
            <a:ext cx="2797200" cy="890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plitObject::register{}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eate and register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lass Agent/TC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97000" y="3470400"/>
            <a:ext cx="2016000" cy="13208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Class::init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 each staticall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fined TclClas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83200" y="2716200"/>
            <a:ext cx="1789200" cy="4460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pClass::bi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2" idx="3"/>
            <a:endCxn id="423" idx="1"/>
          </p:cNvCxnSpPr>
          <p:nvPr/>
        </p:nvCxnSpPr>
        <p:spPr>
          <a:xfrm flipV="1">
            <a:off x="3212640" y="2939400"/>
            <a:ext cx="2770920" cy="1191240"/>
          </a:xfrm>
          <a:prstGeom prst="bentConnector3">
            <a:avLst>
              <a:gd name="adj1" fmla="val 4996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3469320" y="36417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.g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72200" y="5214960"/>
            <a:ext cx="3213000" cy="72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gent/TCP::create-shadow{}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Class::create_shadow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21" idx="0"/>
          </p:cNvCxnSpPr>
          <p:nvPr/>
        </p:nvCxnSpPr>
        <p:spPr>
          <a:xfrm>
            <a:off x="6878160" y="3161880"/>
            <a:ext cx="1080" cy="6390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1" idx="2"/>
            <a:endCxn id="426" idx="0"/>
          </p:cNvCxnSpPr>
          <p:nvPr/>
        </p:nvCxnSpPr>
        <p:spPr>
          <a:xfrm>
            <a:off x="6878160" y="4690800"/>
            <a:ext cx="1080" cy="5241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6" idx="1"/>
            <a:endCxn id="422" idx="3"/>
          </p:cNvCxnSpPr>
          <p:nvPr/>
        </p:nvCxnSpPr>
        <p:spPr>
          <a:xfrm rot="10800000">
            <a:off x="3212280" y="4129920"/>
            <a:ext cx="2059920" cy="1450080"/>
          </a:xfrm>
          <a:prstGeom prst="bentConnector3">
            <a:avLst>
              <a:gd name="adj1" fmla="val 49956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89A6-8710-45C7-A677-E1CB95FEEF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ngleton class with a handle to Tcl interpre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voke OTcl proced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tain OTcl evaluation resul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ss a result string to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urn success/failure code to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24DB-A1E1-418D-BAEF-363B40567F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l&amp; tcl =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::instanc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f (argc == 2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f (strcmp(argv[1], “now”) == 0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result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“%g”, clock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OK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erro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“command not found”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ERROR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else if (argc == 3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eval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argv[2]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ock_ = atof(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resul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OK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5ED-B59A-4610-9263-C95BAED5FB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Comman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5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++ implementation of global OTcl comman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class RandomCommand : public TclCommand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RandomCommand() : TclCommand("ns-random") {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irtual int command(int argc, const char*const* argv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int RandomCommand::command(int argc, const char*const* argv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if (argc == 1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sprintf(tcl.buffer(), "%u", Random::random(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tcl.result(tcl.buffer(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C97-B8B6-4FDE-A474-D1FFCB2FBF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lit object: C++/OTcl link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6C4-52B3-480E-9777-2ABEA5E37D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bedded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-load OTcl scripts at ns runtime start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ursively load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~ns/tcl/lib/ns-lib.tcl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autoconf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address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node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.....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ad everything into a single C++ st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ecute this string at runtime start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::init(): load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tclcl/tcl-object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_AppInit(): load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ns/tcl/lib/ns-lib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84A-8336-4EF4-9520-59E3E44B94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bedded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w i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2c++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provided by TclCL, converts tcl scripts into a C++ static character arr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file.i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sh8.0 bin/tcl-expand.tcl tcl/lib/ns-lib.tcl | tcl2c++ et_ns_lib &gt; gen/ns_tcl.c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F85-4E25-400B-96A1-3A65552488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fied interpreted (OTcl) and compiled (C++) class hierarch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mless access (procedure call and variable access) between OTcl and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Cla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mechanism that makes TclObject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: primitives to access Tcl interpre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6104-140B-4F6C-BAE5-04E194ADEA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C99-F191-477D-A3D1-36F627B121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Intern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crete even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work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flo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385-DDB8-4ED5-BFFB-6680300ED5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crete Event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197080" y="2639880"/>
            <a:ext cx="533520" cy="1143000"/>
            <a:chOff x="2197080" y="2639880"/>
            <a:chExt cx="533520" cy="1143000"/>
          </a:xfrm>
        </p:grpSpPr>
        <p:sp>
          <p:nvSpPr>
            <p:cNvPr id="448" name=""/>
            <p:cNvSpPr/>
            <p:nvPr/>
          </p:nvSpPr>
          <p:spPr>
            <a:xfrm>
              <a:off x="2197080" y="26398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97080" y="28684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97080" y="30970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97080" y="33256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97080" y="35542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925800" y="1793880"/>
            <a:ext cx="4056120" cy="45972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me_, uid_, next_, handler_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996480" y="2300400"/>
            <a:ext cx="1734120" cy="398880"/>
            <a:chOff x="996480" y="2300400"/>
            <a:chExt cx="1734120" cy="398880"/>
          </a:xfrm>
        </p:grpSpPr>
        <p:sp>
          <p:nvSpPr>
            <p:cNvPr id="455" name=""/>
            <p:cNvSpPr/>
            <p:nvPr/>
          </p:nvSpPr>
          <p:spPr>
            <a:xfrm>
              <a:off x="2197080" y="24112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96480" y="230040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head_ -&gt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2197080" y="3097080"/>
            <a:ext cx="5335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6480" y="252900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ead_ -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97080" y="3782880"/>
            <a:ext cx="533520" cy="2286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4541400"/>
            <a:ext cx="77724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e types of schedul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st: simple linked list, order-preserving, O(N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eap: O(log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endar: hash-based, fastest, O(1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439520" y="2260440"/>
            <a:ext cx="3030480" cy="893160"/>
            <a:chOff x="4439520" y="2260440"/>
            <a:chExt cx="3030480" cy="893160"/>
          </a:xfrm>
        </p:grpSpPr>
        <p:sp>
          <p:nvSpPr>
            <p:cNvPr id="462" name=""/>
            <p:cNvSpPr/>
            <p:nvPr/>
          </p:nvSpPr>
          <p:spPr>
            <a:xfrm>
              <a:off x="4439520" y="269388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handler_ -&gt; handle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3" name=""/>
            <p:cNvCxnSpPr>
              <a:stCxn id="453" idx="2"/>
              <a:endCxn id="462" idx="0"/>
            </p:cNvCxnSpPr>
            <p:nvPr/>
          </p:nvCxnSpPr>
          <p:spPr>
            <a:xfrm>
              <a:off x="5954400" y="2260440"/>
              <a:ext cx="1080" cy="434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464" name=""/>
          <p:cNvGrpSpPr/>
          <p:nvPr/>
        </p:nvGrpSpPr>
        <p:grpSpPr>
          <a:xfrm>
            <a:off x="3925800" y="3151080"/>
            <a:ext cx="4056120" cy="1007640"/>
            <a:chOff x="3925800" y="3151080"/>
            <a:chExt cx="4056120" cy="1007640"/>
          </a:xfrm>
        </p:grpSpPr>
        <p:sp>
          <p:nvSpPr>
            <p:cNvPr id="465" name=""/>
            <p:cNvSpPr/>
            <p:nvPr/>
          </p:nvSpPr>
          <p:spPr>
            <a:xfrm>
              <a:off x="3925800" y="3699000"/>
              <a:ext cx="40561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_, uid_, next_, handler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63040" y="3209760"/>
              <a:ext cx="13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schedul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>
              <a:stCxn id="462" idx="2"/>
              <a:endCxn id="465" idx="0"/>
            </p:cNvCxnSpPr>
            <p:nvPr/>
          </p:nvCxnSpPr>
          <p:spPr>
            <a:xfrm>
              <a:off x="5954400" y="3151080"/>
              <a:ext cx="1080" cy="548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cxnSp>
        <p:nvCxnSpPr>
          <p:cNvPr id="468" name=""/>
          <p:cNvCxnSpPr>
            <a:stCxn id="455" idx="3"/>
            <a:endCxn id="453" idx="1"/>
          </p:cNvCxnSpPr>
          <p:nvPr/>
        </p:nvCxnSpPr>
        <p:spPr>
          <a:xfrm flipV="1">
            <a:off x="2730600" y="2026440"/>
            <a:ext cx="1219680" cy="499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469" name=""/>
          <p:cNvGrpSpPr/>
          <p:nvPr/>
        </p:nvGrpSpPr>
        <p:grpSpPr>
          <a:xfrm>
            <a:off x="2730240" y="3211200"/>
            <a:ext cx="1219320" cy="859680"/>
            <a:chOff x="2730240" y="3211200"/>
            <a:chExt cx="1219320" cy="859680"/>
          </a:xfrm>
        </p:grpSpPr>
        <p:sp>
          <p:nvSpPr>
            <p:cNvPr id="470" name=""/>
            <p:cNvSpPr/>
            <p:nvPr/>
          </p:nvSpPr>
          <p:spPr>
            <a:xfrm>
              <a:off x="2778120" y="367200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inser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5" idx="1"/>
              <a:endCxn id="457" idx="3"/>
            </p:cNvCxnSpPr>
            <p:nvPr/>
          </p:nvCxnSpPr>
          <p:spPr>
            <a:xfrm flipH="1" flipV="1">
              <a:off x="2730240" y="3211200"/>
              <a:ext cx="1219680" cy="7214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2E3-593F-4567-ACA0-706013557D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Topology: N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259092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133720" y="2133720"/>
            <a:ext cx="5638320" cy="914400"/>
            <a:chOff x="2133720" y="2133720"/>
            <a:chExt cx="5638320" cy="914400"/>
          </a:xfrm>
        </p:grpSpPr>
        <p:sp>
          <p:nvSpPr>
            <p:cNvPr id="475" name=""/>
            <p:cNvSpPr/>
            <p:nvPr/>
          </p:nvSpPr>
          <p:spPr>
            <a:xfrm>
              <a:off x="2133720" y="213372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81680" y="213372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34600" y="239544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82920" y="239544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99320" y="2514600"/>
            <a:ext cx="3691800" cy="3352320"/>
            <a:chOff x="499320" y="2514600"/>
            <a:chExt cx="3691800" cy="3352320"/>
          </a:xfrm>
        </p:grpSpPr>
        <p:sp>
          <p:nvSpPr>
            <p:cNvPr id="480" name=""/>
            <p:cNvSpPr/>
            <p:nvPr/>
          </p:nvSpPr>
          <p:spPr>
            <a:xfrm>
              <a:off x="2133720" y="4190760"/>
              <a:ext cx="304920" cy="91404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95840" y="3657240"/>
              <a:ext cx="304560" cy="91404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4240" y="3276360"/>
              <a:ext cx="2666880" cy="259056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71600" y="380988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57400" y="327636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71600" y="4495680"/>
              <a:ext cx="304920" cy="30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440" y="464796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76520" y="464796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438640" y="4114440"/>
              <a:ext cx="45720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83280" y="502416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02000" y="441468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7200" y="471924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320" y="426204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600200" y="2514600"/>
              <a:ext cx="533520" cy="15998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24440" y="2514600"/>
              <a:ext cx="838080" cy="129528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809880" y="3276720"/>
            <a:ext cx="12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cast N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253840" y="2475000"/>
            <a:ext cx="3691800" cy="3441600"/>
            <a:chOff x="5253840" y="2475000"/>
            <a:chExt cx="3691800" cy="3441600"/>
          </a:xfrm>
        </p:grpSpPr>
        <p:sp>
          <p:nvSpPr>
            <p:cNvPr id="497" name=""/>
            <p:cNvSpPr/>
            <p:nvPr/>
          </p:nvSpPr>
          <p:spPr>
            <a:xfrm flipH="1">
              <a:off x="6306840" y="2527200"/>
              <a:ext cx="469800" cy="18288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5253840" y="3249720"/>
              <a:ext cx="3691800" cy="2666880"/>
              <a:chOff x="5253840" y="3249720"/>
              <a:chExt cx="3691800" cy="2666880"/>
            </a:xfrm>
          </p:grpSpPr>
          <p:sp>
            <p:nvSpPr>
              <p:cNvPr id="499" name=""/>
              <p:cNvSpPr/>
              <p:nvPr/>
            </p:nvSpPr>
            <p:spPr>
              <a:xfrm>
                <a:off x="7269120" y="3706920"/>
                <a:ext cx="30492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031240" y="3478320"/>
                <a:ext cx="30456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278400" y="3326040"/>
                <a:ext cx="2667240" cy="2590560"/>
              </a:xfrm>
              <a:prstGeom prst="ellipse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21400" y="4849920"/>
                <a:ext cx="1158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Multicast Classifier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26120" y="454500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92600" y="4697640"/>
                <a:ext cx="533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7574040" y="3858840"/>
                <a:ext cx="457200" cy="228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37440" y="3854520"/>
                <a:ext cx="98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classifier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408800" y="3397320"/>
                <a:ext cx="740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dmux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61720" y="4768920"/>
                <a:ext cx="69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entry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53840" y="4311720"/>
                <a:ext cx="1119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Node entry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288040" y="3249720"/>
                <a:ext cx="138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Multicast Node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59640" y="4240440"/>
                <a:ext cx="30456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269120" y="4773600"/>
                <a:ext cx="30492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64200" y="4240080"/>
                <a:ext cx="304920" cy="228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964200" y="4926240"/>
                <a:ext cx="304920" cy="3045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002360" y="560700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multiclassifier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31040" y="4697640"/>
                <a:ext cx="2286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759800" y="2475000"/>
              <a:ext cx="952560" cy="14238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00F-DFFD-4D85-A2FA-4EC4B959DB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Topology: Lin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2787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797120" y="1828800"/>
            <a:ext cx="5638320" cy="914400"/>
            <a:chOff x="1797120" y="1828800"/>
            <a:chExt cx="5638320" cy="914400"/>
          </a:xfrm>
        </p:grpSpPr>
        <p:sp>
          <p:nvSpPr>
            <p:cNvPr id="521" name=""/>
            <p:cNvSpPr/>
            <p:nvPr/>
          </p:nvSpPr>
          <p:spPr>
            <a:xfrm>
              <a:off x="1797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45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98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6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70640" y="3352680"/>
            <a:ext cx="8811360" cy="2743200"/>
            <a:chOff x="170640" y="3352680"/>
            <a:chExt cx="8811360" cy="2743200"/>
          </a:xfrm>
        </p:grpSpPr>
        <p:sp>
          <p:nvSpPr>
            <p:cNvPr id="526" name=""/>
            <p:cNvSpPr/>
            <p:nvPr/>
          </p:nvSpPr>
          <p:spPr>
            <a:xfrm>
              <a:off x="14749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nqT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65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queu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181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eqT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55800" y="5410080"/>
              <a:ext cx="139860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drophead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73720" y="5424480"/>
              <a:ext cx="7984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drpT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897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ink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613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tl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17720" y="3809880"/>
              <a:ext cx="7162560" cy="22860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41400" y="4724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648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93680" y="480060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416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132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848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564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28000" y="4800600"/>
              <a:ext cx="3808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88480" y="4075200"/>
              <a:ext cx="89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1 entry_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0640" y="4334040"/>
              <a:ext cx="8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head_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79800" y="502920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68800" y="5665680"/>
              <a:ext cx="290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017360" y="3352680"/>
              <a:ext cx="609480" cy="457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951680" y="3352680"/>
              <a:ext cx="228600" cy="457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09680" y="4370400"/>
              <a:ext cx="4127400" cy="162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56400" y="554184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7c1eb"/>
                  </a:solidFill>
                  <a:latin typeface="Tahoma"/>
                </a:rPr>
                <a:t>tracing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42840" y="5635800"/>
              <a:ext cx="18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7c1eb"/>
                  </a:solidFill>
                  <a:latin typeface="Tahoma"/>
                </a:rPr>
                <a:t>simplex lin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636560" y="2286000"/>
            <a:ext cx="6324480" cy="1066680"/>
            <a:chOff x="1636560" y="2286000"/>
            <a:chExt cx="6324480" cy="1066680"/>
          </a:xfrm>
        </p:grpSpPr>
        <p:grpSp>
          <p:nvGrpSpPr>
            <p:cNvPr id="552" name=""/>
            <p:cNvGrpSpPr/>
            <p:nvPr/>
          </p:nvGrpSpPr>
          <p:grpSpPr>
            <a:xfrm>
              <a:off x="1636560" y="2286000"/>
              <a:ext cx="6324480" cy="1066680"/>
              <a:chOff x="1636560" y="2286000"/>
              <a:chExt cx="6324480" cy="1066680"/>
            </a:xfrm>
          </p:grpSpPr>
          <p:sp>
            <p:nvSpPr>
              <p:cNvPr id="553" name=""/>
              <p:cNvSpPr/>
              <p:nvPr/>
            </p:nvSpPr>
            <p:spPr>
              <a:xfrm>
                <a:off x="1636560" y="3352680"/>
                <a:ext cx="63244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36560" y="3200400"/>
                <a:ext cx="63244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1712520" y="2286000"/>
                <a:ext cx="1066680" cy="91440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37160" y="2286000"/>
                <a:ext cx="1523880" cy="91440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3803040" y="2757600"/>
              <a:ext cx="174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uplex lin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EEC-0494-464F-B004-79C244C454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uting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824120" y="1828800"/>
            <a:ext cx="5638320" cy="914400"/>
            <a:chOff x="1824120" y="1828800"/>
            <a:chExt cx="5638320" cy="914400"/>
          </a:xfrm>
        </p:grpSpPr>
        <p:sp>
          <p:nvSpPr>
            <p:cNvPr id="561" name=""/>
            <p:cNvSpPr/>
            <p:nvPr/>
          </p:nvSpPr>
          <p:spPr>
            <a:xfrm>
              <a:off x="1824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72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25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673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89720" y="2209680"/>
            <a:ext cx="3691800" cy="3353040"/>
            <a:chOff x="189720" y="2209680"/>
            <a:chExt cx="3691800" cy="3353040"/>
          </a:xfrm>
        </p:grpSpPr>
        <p:sp>
          <p:nvSpPr>
            <p:cNvPr id="566" name=""/>
            <p:cNvSpPr/>
            <p:nvPr/>
          </p:nvSpPr>
          <p:spPr>
            <a:xfrm>
              <a:off x="1824120" y="388620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86240" y="33526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14640" y="29718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6200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4780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8840" y="434340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212904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27368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9240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760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89720" y="395748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14840" y="2209680"/>
              <a:ext cx="83808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583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128680" y="3848040"/>
            <a:ext cx="7010280" cy="1333440"/>
            <a:chOff x="2128680" y="3848040"/>
            <a:chExt cx="7010280" cy="1333440"/>
          </a:xfrm>
        </p:grpSpPr>
        <p:sp>
          <p:nvSpPr>
            <p:cNvPr id="586" name=""/>
            <p:cNvSpPr/>
            <p:nvPr/>
          </p:nvSpPr>
          <p:spPr>
            <a:xfrm>
              <a:off x="444312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q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7976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queue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1640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eq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33680" y="4781520"/>
              <a:ext cx="83664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rophead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56080" y="478152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rp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5304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link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9112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ttl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63760" y="3848040"/>
              <a:ext cx="4370400" cy="13334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17680" y="4381560"/>
              <a:ext cx="9216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09840" y="4425840"/>
              <a:ext cx="233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9400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3064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728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03920" y="4425840"/>
              <a:ext cx="18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442000" y="4425840"/>
              <a:ext cx="2318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478720" y="3892680"/>
              <a:ext cx="660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1 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73600" y="4033800"/>
              <a:ext cx="68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head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13040" y="4559400"/>
              <a:ext cx="0" cy="22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70320" y="491508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128680" y="4419360"/>
              <a:ext cx="198108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3AEA-C479-4A95-9190-E7D71CADA4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uting (con’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824120" y="1828800"/>
            <a:ext cx="5638320" cy="914400"/>
            <a:chOff x="1824120" y="1828800"/>
            <a:chExt cx="5638320" cy="914400"/>
          </a:xfrm>
        </p:grpSpPr>
        <p:sp>
          <p:nvSpPr>
            <p:cNvPr id="609" name=""/>
            <p:cNvSpPr/>
            <p:nvPr/>
          </p:nvSpPr>
          <p:spPr>
            <a:xfrm>
              <a:off x="1824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72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25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3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33520" y="2209680"/>
            <a:ext cx="3352680" cy="3353040"/>
            <a:chOff x="533520" y="2209680"/>
            <a:chExt cx="3352680" cy="3353040"/>
          </a:xfrm>
        </p:grpSpPr>
        <p:sp>
          <p:nvSpPr>
            <p:cNvPr id="614" name=""/>
            <p:cNvSpPr/>
            <p:nvPr/>
          </p:nvSpPr>
          <p:spPr>
            <a:xfrm>
              <a:off x="1828800" y="388620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90920" y="33526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19320" y="29718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5248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6668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3520" y="434340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7160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13372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7836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9708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228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29528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19520" y="2209680"/>
              <a:ext cx="83808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826640" y="3954600"/>
            <a:ext cx="326880" cy="779760"/>
            <a:chOff x="1826640" y="3954600"/>
            <a:chExt cx="326880" cy="779760"/>
          </a:xfrm>
        </p:grpSpPr>
        <p:sp>
          <p:nvSpPr>
            <p:cNvPr id="630" name=""/>
            <p:cNvSpPr/>
            <p:nvPr/>
          </p:nvSpPr>
          <p:spPr>
            <a:xfrm>
              <a:off x="182664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664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633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1500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0080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2632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84504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5060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648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65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38480" y="563868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Link n1-n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2BD-6971-475F-8067-5ABB564D4B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cl and C++: The Dua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106640" y="1843200"/>
            <a:ext cx="323676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88960" y="255744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17560" y="225252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22480" y="255744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717560" y="24051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22480" y="24051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81440" y="38289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5284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6232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67240" y="44388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57400" y="443880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804760" y="39816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86000" y="398160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1856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672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1843200"/>
            <a:ext cx="362592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89680" y="248904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18280" y="21844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23200" y="248904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118280" y="23367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23200" y="23367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38840" y="30672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024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1972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24640" y="36766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14800" y="36766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862160" y="321948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43400" y="321948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2430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246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48840" y="52833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4480" y="52880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7240" y="3092400"/>
            <a:ext cx="167616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104" y="408"/>
                  <a:pt x="208" y="160"/>
                  <a:pt x="384" y="80"/>
                </a:cubicBezTo>
                <a:cubicBezTo>
                  <a:pt x="560" y="0"/>
                  <a:pt x="944" y="160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62320" y="3905280"/>
            <a:ext cx="2158920" cy="1028520"/>
          </a:xfrm>
          <a:custGeom>
            <a:avLst/>
            <a:gdLst/>
            <a:ahLst/>
            <a:rect l="l" t="t" r="r" b="b"/>
            <a:pathLst>
              <a:path w="1360" h="648">
                <a:moveTo>
                  <a:pt x="0" y="432"/>
                </a:moveTo>
                <a:cubicBezTo>
                  <a:pt x="472" y="540"/>
                  <a:pt x="944" y="648"/>
                  <a:pt x="1152" y="576"/>
                </a:cubicBezTo>
                <a:cubicBezTo>
                  <a:pt x="1360" y="504"/>
                  <a:pt x="1232" y="96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71800" y="3905280"/>
            <a:ext cx="2082960" cy="1028520"/>
          </a:xfrm>
          <a:custGeom>
            <a:avLst/>
            <a:gdLst/>
            <a:ahLst/>
            <a:rect l="l" t="t" r="r" b="b"/>
            <a:pathLst>
              <a:path w="1312" h="648">
                <a:moveTo>
                  <a:pt x="0" y="432"/>
                </a:moveTo>
                <a:cubicBezTo>
                  <a:pt x="448" y="540"/>
                  <a:pt x="896" y="648"/>
                  <a:pt x="1104" y="576"/>
                </a:cubicBezTo>
                <a:cubicBezTo>
                  <a:pt x="1312" y="504"/>
                  <a:pt x="1280" y="252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28800" y="3016080"/>
            <a:ext cx="1905120" cy="1117800"/>
          </a:xfrm>
          <a:custGeom>
            <a:avLst/>
            <a:gdLst/>
            <a:ahLst/>
            <a:rect l="l" t="t" r="r" b="b"/>
            <a:pathLst>
              <a:path w="1200" h="704">
                <a:moveTo>
                  <a:pt x="0" y="704"/>
                </a:moveTo>
                <a:cubicBezTo>
                  <a:pt x="68" y="432"/>
                  <a:pt x="136" y="160"/>
                  <a:pt x="336" y="80"/>
                </a:cubicBezTo>
                <a:cubicBezTo>
                  <a:pt x="536" y="0"/>
                  <a:pt x="868" y="112"/>
                  <a:pt x="1200" y="224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86000" y="2787480"/>
            <a:ext cx="167652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80" y="408"/>
                  <a:pt x="160" y="160"/>
                  <a:pt x="336" y="80"/>
                </a:cubicBezTo>
                <a:cubicBezTo>
                  <a:pt x="512" y="0"/>
                  <a:pt x="784" y="88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03640" y="2765520"/>
            <a:ext cx="115164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C+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7040" y="2725560"/>
            <a:ext cx="121860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OTc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8800" y="4998960"/>
            <a:ext cx="246852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/OTcl split 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654200"/>
            <a:ext cx="7504200" cy="4692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5904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321-4836-4184-BD8C-B6BF172161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661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73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2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674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895480" y="3505320"/>
            <a:ext cx="1447920" cy="606960"/>
            <a:chOff x="2895480" y="3505320"/>
            <a:chExt cx="1447920" cy="606960"/>
          </a:xfrm>
        </p:grpSpPr>
        <p:grpSp>
          <p:nvGrpSpPr>
            <p:cNvPr id="686" name=""/>
            <p:cNvGrpSpPr/>
            <p:nvPr/>
          </p:nvGrpSpPr>
          <p:grpSpPr>
            <a:xfrm>
              <a:off x="2895480" y="3505320"/>
              <a:ext cx="1447920" cy="313200"/>
              <a:chOff x="2895480" y="3505320"/>
              <a:chExt cx="1447920" cy="313200"/>
            </a:xfrm>
          </p:grpSpPr>
          <p:sp>
            <p:nvSpPr>
              <p:cNvPr id="687" name=""/>
              <p:cNvSpPr/>
              <p:nvPr/>
            </p:nvSpPr>
            <p:spPr>
              <a:xfrm>
                <a:off x="3124080" y="3505320"/>
                <a:ext cx="121932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235680" y="3511440"/>
                <a:ext cx="106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/TCP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2895480" y="3657600"/>
                <a:ext cx="228600" cy="763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2958480" y="380520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gents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26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45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697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707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71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543800" y="3505320"/>
            <a:ext cx="1600200" cy="606960"/>
            <a:chOff x="7543800" y="3505320"/>
            <a:chExt cx="1600200" cy="606960"/>
          </a:xfrm>
        </p:grpSpPr>
        <p:sp>
          <p:nvSpPr>
            <p:cNvPr id="720" name=""/>
            <p:cNvSpPr/>
            <p:nvPr/>
          </p:nvSpPr>
          <p:spPr>
            <a:xfrm flipV="1">
              <a:off x="7543800" y="3657600"/>
              <a:ext cx="228600" cy="76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7606800" y="3505320"/>
              <a:ext cx="1537200" cy="606960"/>
              <a:chOff x="7606800" y="3505320"/>
              <a:chExt cx="1537200" cy="606960"/>
            </a:xfrm>
          </p:grpSpPr>
          <p:sp>
            <p:nvSpPr>
              <p:cNvPr id="722" name=""/>
              <p:cNvSpPr/>
              <p:nvPr/>
            </p:nvSpPr>
            <p:spPr>
              <a:xfrm>
                <a:off x="7772400" y="3505320"/>
                <a:ext cx="1371600" cy="38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00840" y="3527280"/>
                <a:ext cx="1343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/TCPSink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06800" y="3805200"/>
                <a:ext cx="82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s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726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729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C6A-91F3-4211-93E4-D1C2567525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: Traffic Genera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733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73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192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746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35680" y="35114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89548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58480" y="3805200"/>
            <a:ext cx="8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s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26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45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767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777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78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7240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37120" y="35002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Sink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54380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606800" y="3805200"/>
            <a:ext cx="8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s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794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797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3920760" y="2960640"/>
            <a:ext cx="1486800" cy="620640"/>
            <a:chOff x="3920760" y="2960640"/>
            <a:chExt cx="1486800" cy="620640"/>
          </a:xfrm>
        </p:grpSpPr>
        <p:sp>
          <p:nvSpPr>
            <p:cNvPr id="800" name=""/>
            <p:cNvSpPr/>
            <p:nvPr/>
          </p:nvSpPr>
          <p:spPr>
            <a:xfrm>
              <a:off x="3978360" y="2960640"/>
              <a:ext cx="13557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20760" y="2967120"/>
              <a:ext cx="14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pplication/FTP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266720" y="3276720"/>
              <a:ext cx="381240" cy="30456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ED3-740C-45C6-AB7E-D3739EFCDB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umbing: Packet Flo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805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816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235680" y="35114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289548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834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844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852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77240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737120" y="35002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Sink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54380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860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863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3978360" y="2960640"/>
            <a:ext cx="13557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20760" y="2967120"/>
            <a:ext cx="14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Application/F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4266720" y="3276720"/>
            <a:ext cx="381240" cy="30456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200400" y="33526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743200" y="2895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2666880"/>
            <a:ext cx="30456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447920" y="259092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914400" y="2895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62120" y="342900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396252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447920" y="411480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09680" y="43434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42670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581280" y="419112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495680" y="4038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81480" y="41148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5880" y="41148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858000" y="36576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848720" y="3352680"/>
            <a:ext cx="30456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229600" y="31240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772400" y="2895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315200" y="26668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81680" y="2514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5880" y="2514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638680" y="2895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38680" y="39625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562720" y="35053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010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162920" y="49528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010280" y="43434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553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19920" y="55627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62720" y="55627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81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124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6668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096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7524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95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38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8088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0880" y="4800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40384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38280" y="35812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124080" y="33526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200400" y="3124080"/>
            <a:ext cx="304920" cy="381240"/>
            <a:chOff x="3200400" y="3124080"/>
            <a:chExt cx="304920" cy="381240"/>
          </a:xfrm>
        </p:grpSpPr>
        <p:sp>
          <p:nvSpPr>
            <p:cNvPr id="915" name=""/>
            <p:cNvSpPr/>
            <p:nvPr/>
          </p:nvSpPr>
          <p:spPr>
            <a:xfrm>
              <a:off x="3200400" y="31240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00400" y="33526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AA9-0A0B-43B6-9CEF-C12CA807D1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cke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1058760" y="2652840"/>
            <a:ext cx="175284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hea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058760" y="3338640"/>
            <a:ext cx="175284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797200" y="2251080"/>
            <a:ext cx="766800" cy="388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822400" y="3338640"/>
            <a:ext cx="741600" cy="2757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562200" y="2209680"/>
            <a:ext cx="2143080" cy="3888720"/>
            <a:chOff x="3562200" y="2209680"/>
            <a:chExt cx="2143080" cy="3888720"/>
          </a:xfrm>
        </p:grpSpPr>
        <p:sp>
          <p:nvSpPr>
            <p:cNvPr id="923" name=""/>
            <p:cNvSpPr/>
            <p:nvPr/>
          </p:nvSpPr>
          <p:spPr>
            <a:xfrm>
              <a:off x="3562200" y="28954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62200" y="35812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c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562200" y="42670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rt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62200" y="49528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race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562200" y="22096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cmn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62200" y="5638680"/>
              <a:ext cx="214308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5705640" y="1980720"/>
            <a:ext cx="2666520" cy="3353400"/>
            <a:chOff x="5705640" y="1980720"/>
            <a:chExt cx="2666520" cy="3353400"/>
          </a:xfrm>
        </p:grpSpPr>
        <p:sp>
          <p:nvSpPr>
            <p:cNvPr id="930" name=""/>
            <p:cNvSpPr/>
            <p:nvPr/>
          </p:nvSpPr>
          <p:spPr>
            <a:xfrm>
              <a:off x="6619680" y="198108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s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19680" y="25909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ptyp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19680" y="32767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uid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619680" y="39625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siz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19680" y="46483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fac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5705640" y="1980720"/>
              <a:ext cx="91404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705640" y="2895480"/>
              <a:ext cx="914040" cy="2438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BAF-1827-4341-9F3E-F06FA4576B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ns 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B70-01D5-4826-8033-CA9A9330CB5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bstract the Real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head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bile n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reless chann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warding and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895-E765-4691-BBD2-18D398FC66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Wireless Packe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1238400" y="2205000"/>
            <a:ext cx="17524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hea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38400" y="2890800"/>
            <a:ext cx="17524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2990880" y="1824120"/>
            <a:ext cx="609480" cy="380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002040" y="2889360"/>
            <a:ext cx="598320" cy="3278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5689440" y="1593360"/>
            <a:ext cx="2667240" cy="3353400"/>
            <a:chOff x="5689440" y="1593360"/>
            <a:chExt cx="2667240" cy="3353400"/>
          </a:xfrm>
        </p:grpSpPr>
        <p:sp>
          <p:nvSpPr>
            <p:cNvPr id="947" name=""/>
            <p:cNvSpPr/>
            <p:nvPr/>
          </p:nvSpPr>
          <p:spPr>
            <a:xfrm>
              <a:off x="6603840" y="159372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s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03840" y="22035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ptyp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603840" y="28893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uid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3840" y="35751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siz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03840" y="42609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fac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5689440" y="1593360"/>
              <a:ext cx="9144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89440" y="2508120"/>
              <a:ext cx="914400" cy="2438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600360" y="1822320"/>
            <a:ext cx="2088360" cy="4345560"/>
            <a:chOff x="3600360" y="1822320"/>
            <a:chExt cx="2088360" cy="4345560"/>
          </a:xfrm>
        </p:grpSpPr>
        <p:grpSp>
          <p:nvGrpSpPr>
            <p:cNvPr id="955" name=""/>
            <p:cNvGrpSpPr/>
            <p:nvPr/>
          </p:nvGrpSpPr>
          <p:grpSpPr>
            <a:xfrm>
              <a:off x="3600360" y="1822320"/>
              <a:ext cx="2088360" cy="1828800"/>
              <a:chOff x="3600360" y="1822320"/>
              <a:chExt cx="2088360" cy="1828800"/>
            </a:xfrm>
          </p:grpSpPr>
          <p:sp>
            <p:nvSpPr>
              <p:cNvPr id="956" name=""/>
              <p:cNvSpPr/>
              <p:nvPr/>
            </p:nvSpPr>
            <p:spPr>
              <a:xfrm>
                <a:off x="3600360" y="2508120"/>
                <a:ext cx="208836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IP heade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600360" y="3193920"/>
                <a:ext cx="208836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......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600360" y="1822320"/>
                <a:ext cx="208836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cmn heade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3600360" y="3651120"/>
              <a:ext cx="2088360" cy="2516760"/>
              <a:chOff x="3600360" y="3651120"/>
              <a:chExt cx="2088360" cy="2516760"/>
            </a:xfrm>
          </p:grpSpPr>
          <p:sp>
            <p:nvSpPr>
              <p:cNvPr id="960" name=""/>
              <p:cNvSpPr/>
              <p:nvPr/>
            </p:nvSpPr>
            <p:spPr>
              <a:xfrm>
                <a:off x="3600360" y="365112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LL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600360" y="433656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MAC 802_11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600360" y="5708160"/>
                <a:ext cx="2088360" cy="45972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......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600360" y="502236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AR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4" name=""/>
          <p:cNvGrpSpPr/>
          <p:nvPr/>
        </p:nvGrpSpPr>
        <p:grpSpPr>
          <a:xfrm>
            <a:off x="5715000" y="3657600"/>
            <a:ext cx="1710720" cy="2502000"/>
            <a:chOff x="5715000" y="3657600"/>
            <a:chExt cx="1710720" cy="2502000"/>
          </a:xfrm>
        </p:grpSpPr>
        <p:sp>
          <p:nvSpPr>
            <p:cNvPr id="965" name=""/>
            <p:cNvSpPr/>
            <p:nvPr/>
          </p:nvSpPr>
          <p:spPr>
            <a:xfrm>
              <a:off x="5715000" y="3657600"/>
              <a:ext cx="295200" cy="250200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65160 h 2502000"/>
                <a:gd name="textAreaBottom" fmla="*/ 2436840 h 25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004440" y="4454640"/>
              <a:ext cx="142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wireless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header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907-54FB-40DE-8BA2-88D39F471E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 Abstr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ordinates (x,y,z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v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eed, direction, starting/ending location, time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D97-A365-4B5B-A237-FC3D8FB20B9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rait of A Mobile N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0" name=""/>
          <p:cNvSpPr/>
          <p:nvPr/>
        </p:nvSpPr>
        <p:spPr>
          <a:xfrm>
            <a:off x="1084320" y="1757520"/>
            <a:ext cx="3124080" cy="1793880"/>
          </a:xfrm>
          <a:prstGeom prst="rect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008000" y="269064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106640" y="17654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c1eb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348000" y="3649680"/>
            <a:ext cx="838080" cy="39888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227400" y="5162400"/>
            <a:ext cx="120636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ropagation and antenna models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68240" y="1609560"/>
            <a:ext cx="3706920" cy="436428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99840" y="56498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c1eb"/>
                </a:solidFill>
                <a:latin typeface="Tahoma"/>
              </a:rPr>
              <a:t>MobileN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828800" y="3701880"/>
            <a:ext cx="106668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828800" y="4818240"/>
            <a:ext cx="106668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28800" y="5342040"/>
            <a:ext cx="1066680" cy="27648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H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2133720" y="4178160"/>
            <a:ext cx="457200" cy="457200"/>
            <a:chOff x="2133720" y="4178160"/>
            <a:chExt cx="457200" cy="457200"/>
          </a:xfrm>
        </p:grpSpPr>
        <p:sp>
          <p:nvSpPr>
            <p:cNvPr id="981" name=""/>
            <p:cNvSpPr/>
            <p:nvPr/>
          </p:nvSpPr>
          <p:spPr>
            <a:xfrm>
              <a:off x="2133720" y="4178160"/>
              <a:ext cx="457200" cy="4572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33720" y="433044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33720" y="448272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1828800" y="3701880"/>
            <a:ext cx="106668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25400" y="6095880"/>
            <a:ext cx="3276720" cy="276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HANNE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22800" y="2654280"/>
            <a:ext cx="533520" cy="3049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13240" y="326376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856040" y="3832200"/>
            <a:ext cx="106704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5160960" y="4357800"/>
            <a:ext cx="457200" cy="457200"/>
            <a:chOff x="5160960" y="4357800"/>
            <a:chExt cx="457200" cy="457200"/>
          </a:xfrm>
        </p:grpSpPr>
        <p:sp>
          <p:nvSpPr>
            <p:cNvPr id="990" name=""/>
            <p:cNvSpPr/>
            <p:nvPr/>
          </p:nvSpPr>
          <p:spPr>
            <a:xfrm>
              <a:off x="5160960" y="4357800"/>
              <a:ext cx="457200" cy="4572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160960" y="451008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160960" y="466236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856040" y="5016600"/>
            <a:ext cx="106704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856040" y="5549760"/>
            <a:ext cx="1067040" cy="27648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H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010200" y="1863720"/>
            <a:ext cx="3133800" cy="4034160"/>
            <a:chOff x="6010200" y="1863720"/>
            <a:chExt cx="3133800" cy="4034160"/>
          </a:xfrm>
        </p:grpSpPr>
        <p:sp>
          <p:nvSpPr>
            <p:cNvPr id="996" name=""/>
            <p:cNvSpPr/>
            <p:nvPr/>
          </p:nvSpPr>
          <p:spPr>
            <a:xfrm>
              <a:off x="6010200" y="1863720"/>
              <a:ext cx="287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Classifier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Forwarding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10200" y="2549520"/>
              <a:ext cx="290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Agent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Protocol Entit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10200" y="3159000"/>
              <a:ext cx="25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10200" y="374652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LL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Link layer objec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10200" y="4356000"/>
              <a:ext cx="31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IFQ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Interface queu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10200" y="496584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MAC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Mac objec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10200" y="549900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PHY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Net interfac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cxnSp>
        <p:nvCxnSpPr>
          <p:cNvPr id="1003" name=""/>
          <p:cNvCxnSpPr>
            <a:stCxn id="984" idx="1"/>
            <a:endCxn id="971" idx="2"/>
          </p:cNvCxnSpPr>
          <p:nvPr/>
        </p:nvCxnSpPr>
        <p:spPr>
          <a:xfrm rot="10800000">
            <a:off x="1007280" y="2766960"/>
            <a:ext cx="821520" cy="1078200"/>
          </a:xfrm>
          <a:prstGeom prst="bentConnector3">
            <a:avLst>
              <a:gd name="adj1" fmla="val 119508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4" name=""/>
          <p:cNvCxnSpPr>
            <a:stCxn id="979" idx="2"/>
            <a:endCxn id="985" idx="0"/>
          </p:cNvCxnSpPr>
          <p:nvPr/>
        </p:nvCxnSpPr>
        <p:spPr>
          <a:xfrm>
            <a:off x="2362320" y="5625720"/>
            <a:ext cx="2160" cy="4705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5" name=""/>
          <p:cNvCxnSpPr>
            <a:stCxn id="979" idx="3"/>
            <a:endCxn id="974" idx="1"/>
          </p:cNvCxnSpPr>
          <p:nvPr/>
        </p:nvCxnSpPr>
        <p:spPr>
          <a:xfrm>
            <a:off x="2895480" y="5484960"/>
            <a:ext cx="332640" cy="3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6" name=""/>
          <p:cNvCxnSpPr>
            <a:stCxn id="978" idx="2"/>
            <a:endCxn id="979" idx="0"/>
          </p:cNvCxnSpPr>
          <p:nvPr/>
        </p:nvCxnSpPr>
        <p:spPr>
          <a:xfrm>
            <a:off x="2361960" y="5102280"/>
            <a:ext cx="1080" cy="24048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7" name=""/>
          <p:cNvCxnSpPr>
            <a:stCxn id="981" idx="2"/>
            <a:endCxn id="978" idx="0"/>
          </p:cNvCxnSpPr>
          <p:nvPr/>
        </p:nvCxnSpPr>
        <p:spPr>
          <a:xfrm>
            <a:off x="2361960" y="4635360"/>
            <a:ext cx="1080" cy="183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8" name=""/>
          <p:cNvCxnSpPr>
            <a:stCxn id="984" idx="2"/>
            <a:endCxn id="981" idx="0"/>
          </p:cNvCxnSpPr>
          <p:nvPr/>
        </p:nvCxnSpPr>
        <p:spPr>
          <a:xfrm>
            <a:off x="2361960" y="3985920"/>
            <a:ext cx="1080" cy="192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09" name=""/>
          <p:cNvSpPr/>
          <p:nvPr/>
        </p:nvSpPr>
        <p:spPr>
          <a:xfrm rot="5400000">
            <a:off x="1155600" y="2663640"/>
            <a:ext cx="754200" cy="201600"/>
          </a:xfrm>
          <a:custGeom>
            <a:avLst/>
            <a:gdLst>
              <a:gd name="textAreaLeft" fmla="*/ 173880 w 754200"/>
              <a:gd name="textAreaRight" fmla="*/ 580320 w 754200"/>
              <a:gd name="textAreaTop" fmla="*/ 46440 h 201600"/>
              <a:gd name="textAreaBottom" fmla="*/ 15516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rot="5400000">
            <a:off x="1733400" y="2287440"/>
            <a:ext cx="754200" cy="201600"/>
          </a:xfrm>
          <a:custGeom>
            <a:avLst/>
            <a:gdLst>
              <a:gd name="textAreaLeft" fmla="*/ 173880 w 754200"/>
              <a:gd name="textAreaRight" fmla="*/ 580320 w 754200"/>
              <a:gd name="textAreaTop" fmla="*/ 46440 h 201600"/>
              <a:gd name="textAreaBottom" fmla="*/ 15516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1" name=""/>
          <p:cNvCxnSpPr>
            <a:stCxn id="971" idx="6"/>
            <a:endCxn id="1009" idx="1"/>
          </p:cNvCxnSpPr>
          <p:nvPr/>
        </p:nvCxnSpPr>
        <p:spPr>
          <a:xfrm flipV="1">
            <a:off x="1160640" y="2765160"/>
            <a:ext cx="25920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012" name=""/>
          <p:cNvSpPr/>
          <p:nvPr/>
        </p:nvSpPr>
        <p:spPr>
          <a:xfrm rot="5400000">
            <a:off x="5075640" y="1971000"/>
            <a:ext cx="577800" cy="160200"/>
          </a:xfrm>
          <a:custGeom>
            <a:avLst/>
            <a:gdLst>
              <a:gd name="textAreaLeft" fmla="*/ 133200 w 577800"/>
              <a:gd name="textAreaRight" fmla="*/ 444600 w 577800"/>
              <a:gd name="textAreaTop" fmla="*/ 36720 h 160200"/>
              <a:gd name="textAreaBottom" fmla="*/ 123480 h 16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3" name=""/>
          <p:cNvCxnSpPr>
            <a:stCxn id="984" idx="3"/>
            <a:endCxn id="973" idx="1"/>
          </p:cNvCxnSpPr>
          <p:nvPr/>
        </p:nvCxnSpPr>
        <p:spPr>
          <a:xfrm>
            <a:off x="2895120" y="3844800"/>
            <a:ext cx="453240" cy="8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014" name=""/>
          <p:cNvSpPr/>
          <p:nvPr/>
        </p:nvSpPr>
        <p:spPr>
          <a:xfrm>
            <a:off x="2903400" y="1895400"/>
            <a:ext cx="860400" cy="4302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rotoco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930400" y="2905200"/>
            <a:ext cx="874800" cy="4302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134000" y="2960640"/>
            <a:ext cx="8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dd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821600" y="1616040"/>
            <a:ext cx="8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r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8" name=""/>
          <p:cNvCxnSpPr>
            <a:stCxn id="1009" idx="3"/>
            <a:endCxn id="1010" idx="1"/>
          </p:cNvCxnSpPr>
          <p:nvPr/>
        </p:nvCxnSpPr>
        <p:spPr>
          <a:xfrm flipV="1">
            <a:off x="1649160" y="2388600"/>
            <a:ext cx="347760" cy="376920"/>
          </a:xfrm>
          <a:prstGeom prst="bentConnector3">
            <a:avLst>
              <a:gd name="adj1" fmla="val 49326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19" name=""/>
          <p:cNvCxnSpPr>
            <a:stCxn id="1009" idx="3"/>
            <a:endCxn id="1015" idx="1"/>
          </p:cNvCxnSpPr>
          <p:nvPr/>
        </p:nvCxnSpPr>
        <p:spPr>
          <a:xfrm>
            <a:off x="1649520" y="2765520"/>
            <a:ext cx="1281600" cy="356400"/>
          </a:xfrm>
          <a:prstGeom prst="bentConnector3">
            <a:avLst>
              <a:gd name="adj1" fmla="val 1362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0" name=""/>
          <p:cNvCxnSpPr>
            <a:stCxn id="1010" idx="3"/>
            <a:endCxn id="1015" idx="1"/>
          </p:cNvCxnSpPr>
          <p:nvPr/>
        </p:nvCxnSpPr>
        <p:spPr>
          <a:xfrm>
            <a:off x="2226960" y="2388960"/>
            <a:ext cx="703800" cy="732600"/>
          </a:xfrm>
          <a:prstGeom prst="bentConnector3">
            <a:avLst>
              <a:gd name="adj1" fmla="val 4872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1" name=""/>
          <p:cNvCxnSpPr>
            <a:stCxn id="1010" idx="3"/>
            <a:endCxn id="1014" idx="1"/>
          </p:cNvCxnSpPr>
          <p:nvPr/>
        </p:nvCxnSpPr>
        <p:spPr>
          <a:xfrm flipV="1">
            <a:off x="2227320" y="2111400"/>
            <a:ext cx="676800" cy="278280"/>
          </a:xfrm>
          <a:prstGeom prst="bentConnector3">
            <a:avLst>
              <a:gd name="adj1" fmla="val 5045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22" name=""/>
          <p:cNvSpPr/>
          <p:nvPr/>
        </p:nvSpPr>
        <p:spPr>
          <a:xfrm>
            <a:off x="2511360" y="256068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5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45240" y="42544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7c1eb"/>
                </a:solidFill>
                <a:latin typeface="Tahoma"/>
              </a:rPr>
              <a:t>IF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172840" y="4430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7c1eb"/>
                </a:solidFill>
                <a:latin typeface="Tahoma"/>
              </a:rPr>
              <a:t>IF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714760" y="3979800"/>
            <a:ext cx="0" cy="8334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4" idx="0"/>
            <a:endCxn id="971" idx="2"/>
          </p:cNvCxnSpPr>
          <p:nvPr/>
        </p:nvCxnSpPr>
        <p:spPr>
          <a:xfrm rot="5400000">
            <a:off x="1734480" y="1167480"/>
            <a:ext cx="872280" cy="2326320"/>
          </a:xfrm>
          <a:prstGeom prst="bentConnector4">
            <a:avLst>
              <a:gd name="adj1" fmla="val -26218"/>
              <a:gd name="adj2" fmla="val 10681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7" name=""/>
          <p:cNvCxnSpPr>
            <a:stCxn id="1015" idx="2"/>
            <a:endCxn id="984" idx="0"/>
          </p:cNvCxnSpPr>
          <p:nvPr/>
        </p:nvCxnSpPr>
        <p:spPr>
          <a:xfrm rot="5400000">
            <a:off x="2681280" y="3015360"/>
            <a:ext cx="367200" cy="1006920"/>
          </a:xfrm>
          <a:prstGeom prst="bentConnector3">
            <a:avLst>
              <a:gd name="adj1" fmla="val 49754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28" name=""/>
          <p:cNvSpPr/>
          <p:nvPr/>
        </p:nvSpPr>
        <p:spPr>
          <a:xfrm>
            <a:off x="1751400" y="306720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defaulttarget_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CF0-23DB-4858-873A-6B7B2452B1A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: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Lay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me as LAN, but with a separate ARP modu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face queu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ive priority to routing protocol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c Lay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EEE 802.1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TS/CTS/DATA/ACK for all unicas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 for all broadcas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DFF-E207-43C2-BEDE-70BCACDA48F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Link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58960" y="1649520"/>
          <a:ext cx="7915320" cy="49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649520"/>
                    <a:ext cx="791532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62A-BFEB-4218-964E-1588724A10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: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twork interface (PH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meters based on Direct Sequence Spread Spectrum (WaveLa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face with: antenna and propagation mode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pdate energy: transmission and recep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dio Propagation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iss-space attenuation(1/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at near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wo-ray Ground (1/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at far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ten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ni-directional, unity-ga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11A-52E5-40DD-9F9D-D5A229C294B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ireless Chann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uplicate packets to all mobile nodes attached to the channel except the sen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t is the receiver’s responsibility to decide if it will accept the pack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lision is handled at individual receiv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(N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) messages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grid keep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D86-F40F-4F2C-A2F0-BAAF75249FC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-keeper: An Optimizatio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295280" y="1981080"/>
            <a:ext cx="6782040" cy="4267440"/>
            <a:chOff x="1295280" y="1981080"/>
            <a:chExt cx="6782040" cy="4267440"/>
          </a:xfrm>
        </p:grpSpPr>
        <p:sp>
          <p:nvSpPr>
            <p:cNvPr id="1037" name=""/>
            <p:cNvSpPr/>
            <p:nvPr/>
          </p:nvSpPr>
          <p:spPr>
            <a:xfrm>
              <a:off x="1981080" y="2514600"/>
              <a:ext cx="3581640" cy="327672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95280" y="1981080"/>
              <a:ext cx="6782040" cy="42674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95280" y="411480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95280" y="518148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95280" y="57913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47920" y="5181480"/>
              <a:ext cx="66294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46483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8195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640080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198108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365760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5627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723888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95280" y="30481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95280" y="358128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295280" y="251460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38280" y="2819520"/>
              <a:ext cx="2895840" cy="2666880"/>
            </a:xfrm>
            <a:prstGeom prst="ellipse">
              <a:avLst/>
            </a:prstGeom>
            <a:noFill/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809880" y="4114800"/>
              <a:ext cx="15264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09680" y="48769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43200" y="4267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09880" y="4343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124080" y="3429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67080" y="44956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809880" y="3429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76920" y="36576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00400" y="4343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43400" y="51055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800600" y="4267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876920" y="48006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91120" y="358128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429000" y="51814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00400" y="48006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962520" y="50292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67080" y="32767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52680" y="38098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828800" y="4419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81280" y="53341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05320" y="44197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858000" y="39625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019920" y="61722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086600" y="52578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057400" y="22860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20120" y="38862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67280" y="3733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00800" y="48006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62920" y="47242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629400" y="26668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09680" y="5562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267080" y="2438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47920" y="49528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48120" y="59436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724280" y="6019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752480" y="27432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705720" y="58672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600200" y="3733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19920" y="4876920"/>
              <a:ext cx="7596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62320" y="22096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543800" y="5867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248520" y="54100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19920" y="22860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10280" y="3276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391520" y="54100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467480" y="4876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696080" y="2438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76920" y="28195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09680" y="27432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72000" y="48006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438280" y="5486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76920" y="51055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029200" y="5715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181480" y="5410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81080" y="2514600"/>
              <a:ext cx="8384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81080" y="5181480"/>
              <a:ext cx="83844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95280" y="46483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830-AC6B-4202-8B42-6FF72F6AE8A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CFB-0F4B-4CB0-BE8D-4EA77C2A5E1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Scal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s to simulation s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m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n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e-tuning (next sessi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E49-85E7-4B48-A479-CFF40E08933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828720" y="1623960"/>
            <a:ext cx="7324560" cy="4386240"/>
          </a:xfrm>
          <a:prstGeom prst="rect">
            <a:avLst/>
          </a:prstGeom>
          <a:ln w="0">
            <a:noFill/>
          </a:ln>
        </p:spPr>
      </p:pic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Footprint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7" name=""/>
          <p:cNvSpPr/>
          <p:nvPr/>
        </p:nvSpPr>
        <p:spPr>
          <a:xfrm>
            <a:off x="2779200" y="32670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2101680" y="1716120"/>
            <a:ext cx="6340680" cy="3421080"/>
            <a:chOff x="2101680" y="1716120"/>
            <a:chExt cx="6340680" cy="3421080"/>
          </a:xfrm>
        </p:grpSpPr>
        <p:sp>
          <p:nvSpPr>
            <p:cNvPr id="1119" name=""/>
            <p:cNvSpPr/>
            <p:nvPr/>
          </p:nvSpPr>
          <p:spPr>
            <a:xfrm>
              <a:off x="2101680" y="2887560"/>
              <a:ext cx="55897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67280" y="27241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Tahoma"/>
                </a:rPr>
                <a:t>128MB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1870200"/>
              <a:ext cx="0" cy="3267000"/>
            </a:xfrm>
            <a:prstGeom prst="line">
              <a:avLst/>
            </a:prstGeom>
            <a:ln w="28440">
              <a:solidFill>
                <a:srgbClr val="ff5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137280" y="1716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Tahoma"/>
                </a:rPr>
                <a:t>43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49D-15A2-4898-A2BB-E28EF144744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3" name=""/>
          <p:cNvGraphicFramePr/>
          <p:nvPr/>
        </p:nvGraphicFramePr>
        <p:xfrm>
          <a:off x="844560" y="1649520"/>
          <a:ext cx="7808760" cy="48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649520"/>
                    <a:ext cx="780876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n Time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6" name=""/>
          <p:cNvSpPr/>
          <p:nvPr/>
        </p:nvSpPr>
        <p:spPr>
          <a:xfrm>
            <a:off x="3236400" y="1976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2D1-D416-4D0F-8588-50373840A91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ulprit: Details, Det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nse mode tries to capture packet-level behavi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unes, Joins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t’s abstract it 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DE3-25B6-4DAC-85CD-79CBACAEF90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 flipH="1" flipV="1">
            <a:off x="6045120" y="3865320"/>
            <a:ext cx="976320" cy="1238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045120" y="3865320"/>
            <a:ext cx="2308320" cy="1238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ized Multica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5880240" y="3665520"/>
            <a:ext cx="1295280" cy="15271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13560" y="4254480"/>
            <a:ext cx="596880" cy="938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291440" y="3684600"/>
            <a:ext cx="1249200" cy="150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6070320" y="3870360"/>
            <a:ext cx="1571400" cy="38736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021440" y="3297240"/>
            <a:ext cx="393840" cy="4078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7210440" y="4254480"/>
            <a:ext cx="528480" cy="938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408720" y="4041720"/>
            <a:ext cx="392040" cy="40644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645320" y="4049640"/>
            <a:ext cx="37476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691240" y="499752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031160" y="5006880"/>
            <a:ext cx="3744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353440" y="499752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2520000">
            <a:off x="6900480" y="3630240"/>
            <a:ext cx="842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rot="2520000">
            <a:off x="6733800" y="3830400"/>
            <a:ext cx="842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rot="18990000">
            <a:off x="7443720" y="361440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rot="19197600">
            <a:off x="7604280" y="383976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rot="19768800">
            <a:off x="6675480" y="457488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rot="19523400">
            <a:off x="6833880" y="481464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056280" y="3878280"/>
            <a:ext cx="385920" cy="27288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5879880" y="3892680"/>
            <a:ext cx="168120" cy="108720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6043680" y="3557520"/>
            <a:ext cx="968400" cy="311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691240" y="5624640"/>
            <a:ext cx="318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104480" y="1752480"/>
            <a:ext cx="33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232800" y="2731320"/>
            <a:ext cx="1121040" cy="119196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657520" y="2454120"/>
            <a:ext cx="392040" cy="4082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043000" y="3198960"/>
            <a:ext cx="39240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279600" y="3208320"/>
            <a:ext cx="374760" cy="3888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327320" y="41562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665440" y="4164120"/>
            <a:ext cx="376200" cy="39024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2743800">
            <a:off x="2572560" y="282024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2733600">
            <a:off x="2392920" y="298188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rot="2520000">
            <a:off x="1882440" y="3619080"/>
            <a:ext cx="8424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rot="2580000">
            <a:off x="1671480" y="3838680"/>
            <a:ext cx="860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8798000">
            <a:off x="3060000" y="2817000"/>
            <a:ext cx="871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rot="18840000">
            <a:off x="3264120" y="29905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9005600">
            <a:off x="3736440" y="36223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18934800">
            <a:off x="3935520" y="3828600"/>
            <a:ext cx="88920" cy="18756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18902400">
            <a:off x="2733480" y="383040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2556600">
            <a:off x="2080800" y="3836520"/>
            <a:ext cx="8568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2564400">
            <a:off x="1882800" y="4053960"/>
            <a:ext cx="8568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18889200">
            <a:off x="3539880" y="3806640"/>
            <a:ext cx="8424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18840000">
            <a:off x="3782880" y="4024440"/>
            <a:ext cx="84240" cy="19512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rot="18925800">
            <a:off x="2522160" y="362556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1957320" y="3924360"/>
            <a:ext cx="333360" cy="4060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 flipV="1">
            <a:off x="3434400" y="3925080"/>
            <a:ext cx="384480" cy="3571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1391760" y="2676240"/>
            <a:ext cx="1062360" cy="11354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08920" y="3557160"/>
            <a:ext cx="365400" cy="3754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987720" y="41562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179" name=""/>
          <p:cNvCxnSpPr>
            <a:stCxn id="1157" idx="4"/>
            <a:endCxn id="1159" idx="0"/>
          </p:cNvCxnSpPr>
          <p:nvPr/>
        </p:nvCxnSpPr>
        <p:spPr>
          <a:xfrm flipH="1">
            <a:off x="2854080" y="3596760"/>
            <a:ext cx="613440" cy="567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0" name=""/>
          <p:cNvCxnSpPr>
            <a:stCxn id="1157" idx="4"/>
            <a:endCxn id="1178" idx="1"/>
          </p:cNvCxnSpPr>
          <p:nvPr/>
        </p:nvCxnSpPr>
        <p:spPr>
          <a:xfrm>
            <a:off x="3466800" y="3597120"/>
            <a:ext cx="578520" cy="61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1" name=""/>
          <p:cNvCxnSpPr>
            <a:stCxn id="1155" idx="4"/>
            <a:endCxn id="1157" idx="1"/>
          </p:cNvCxnSpPr>
          <p:nvPr/>
        </p:nvCxnSpPr>
        <p:spPr>
          <a:xfrm>
            <a:off x="2854440" y="2862360"/>
            <a:ext cx="481680" cy="403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2" name=""/>
          <p:cNvCxnSpPr>
            <a:stCxn id="1155" idx="4"/>
            <a:endCxn id="1156" idx="7"/>
          </p:cNvCxnSpPr>
          <p:nvPr/>
        </p:nvCxnSpPr>
        <p:spPr>
          <a:xfrm flipH="1">
            <a:off x="2377440" y="2862360"/>
            <a:ext cx="477000" cy="3974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3" name=""/>
          <p:cNvCxnSpPr>
            <a:stCxn id="1156" idx="4"/>
            <a:endCxn id="1158" idx="7"/>
          </p:cNvCxnSpPr>
          <p:nvPr/>
        </p:nvCxnSpPr>
        <p:spPr>
          <a:xfrm flipH="1">
            <a:off x="1661400" y="3606480"/>
            <a:ext cx="578520" cy="610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4" name=""/>
          <p:cNvCxnSpPr>
            <a:stCxn id="1156" idx="4"/>
            <a:endCxn id="1159" idx="0"/>
          </p:cNvCxnSpPr>
          <p:nvPr/>
        </p:nvCxnSpPr>
        <p:spPr>
          <a:xfrm>
            <a:off x="2239560" y="3606840"/>
            <a:ext cx="615240" cy="5580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185" name=""/>
          <p:cNvSpPr/>
          <p:nvPr/>
        </p:nvSpPr>
        <p:spPr>
          <a:xfrm>
            <a:off x="4919760" y="3370320"/>
            <a:ext cx="1369800" cy="72828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Rou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Computa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Unit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590400" y="4888080"/>
            <a:ext cx="1506960" cy="1390320"/>
            <a:chOff x="590400" y="4888080"/>
            <a:chExt cx="1506960" cy="1390320"/>
          </a:xfrm>
        </p:grpSpPr>
        <p:sp>
          <p:nvSpPr>
            <p:cNvPr id="1187" name=""/>
            <p:cNvSpPr/>
            <p:nvPr/>
          </p:nvSpPr>
          <p:spPr>
            <a:xfrm>
              <a:off x="603360" y="5386320"/>
              <a:ext cx="247680" cy="2494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5340000">
              <a:off x="682920" y="6013800"/>
              <a:ext cx="88920" cy="189000"/>
            </a:xfrm>
            <a:prstGeom prst="rect">
              <a:avLst/>
            </a:prstGeom>
            <a:solidFill>
              <a:srgbClr val="6f89f7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16140000">
              <a:off x="681480" y="5753520"/>
              <a:ext cx="88920" cy="1890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0400" y="4952880"/>
              <a:ext cx="271440" cy="2685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054080" y="522936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ceiv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69200" y="557064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54440" y="59101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prun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54440" y="488808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ourc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691-0BC7-4828-A5E0-4BA62F80BF6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ized Multica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$ns mrtproto CtrM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xact dynamic behavior, e.g., routing convergence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 not mean to replace D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CD1-2CFE-4BD0-AE70-2B845444667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hierarchy in ns for split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rrored in both C++ and O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 set packetSize_ 102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 advanceby 500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513-5F7B-48CB-9B8C-8C5FBEEDE3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rther Abstr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8080" y="4041360"/>
            <a:ext cx="777240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move all intermediate nodes and lin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 not model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queue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packet delive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2254320" y="1690560"/>
          <a:ext cx="4829040" cy="2159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4320" y="1690560"/>
                    <a:ext cx="482904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094-2B5A-4500-BB43-0CF337E0314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"/>
          <p:cNvSpPr/>
          <p:nvPr/>
        </p:nvSpPr>
        <p:spPr>
          <a:xfrm>
            <a:off x="5675400" y="3300480"/>
            <a:ext cx="2246400" cy="14666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153120" y="3651120"/>
            <a:ext cx="1371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pl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T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802560" y="3129120"/>
            <a:ext cx="0" cy="27432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6113160" y="4540320"/>
            <a:ext cx="592200" cy="31572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867360" y="4540320"/>
            <a:ext cx="541440" cy="32220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907960" y="3336840"/>
            <a:ext cx="1838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ssion Helper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590800" y="5546880"/>
            <a:ext cx="265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ssion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13240" y="1820880"/>
            <a:ext cx="418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Packet Distribu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rot="16140000">
            <a:off x="6004440" y="44294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rot="16140000">
            <a:off x="6004440" y="42008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rot="16140000">
            <a:off x="6004440" y="39722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rot="16140000">
            <a:off x="6004440" y="37436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rot="16140000">
            <a:off x="7376040" y="44294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rot="16140000">
            <a:off x="7376040" y="42008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095280" y="2659680"/>
            <a:ext cx="353160" cy="3178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89120" y="2413080"/>
            <a:ext cx="392040" cy="4078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974960" y="315756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211560" y="3166920"/>
            <a:ext cx="374760" cy="3891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258920" y="41148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597040" y="4122720"/>
            <a:ext cx="3762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rot="2743800">
            <a:off x="2503800" y="2778840"/>
            <a:ext cx="8568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rot="2733600">
            <a:off x="2324520" y="294048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rot="18798000">
            <a:off x="2991600" y="2775240"/>
            <a:ext cx="87480" cy="18756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rot="18840000">
            <a:off x="3195720" y="29491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rot="18902400">
            <a:off x="2665080" y="378900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18925800">
            <a:off x="2454120" y="3584160"/>
            <a:ext cx="8604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2168280" y="2713320"/>
            <a:ext cx="309240" cy="2725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540520" y="3515760"/>
            <a:ext cx="365400" cy="3758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919680" y="41148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231" name=""/>
          <p:cNvCxnSpPr>
            <a:stCxn id="1219" idx="4"/>
            <a:endCxn id="1221" idx="0"/>
          </p:cNvCxnSpPr>
          <p:nvPr/>
        </p:nvCxnSpPr>
        <p:spPr>
          <a:xfrm flipH="1">
            <a:off x="2785680" y="3556080"/>
            <a:ext cx="613440" cy="567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2" name=""/>
          <p:cNvCxnSpPr>
            <a:stCxn id="1219" idx="4"/>
            <a:endCxn id="1230" idx="1"/>
          </p:cNvCxnSpPr>
          <p:nvPr/>
        </p:nvCxnSpPr>
        <p:spPr>
          <a:xfrm>
            <a:off x="3398400" y="3556080"/>
            <a:ext cx="578520" cy="61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3" name=""/>
          <p:cNvCxnSpPr>
            <a:stCxn id="1217" idx="4"/>
            <a:endCxn id="1219" idx="1"/>
          </p:cNvCxnSpPr>
          <p:nvPr/>
        </p:nvCxnSpPr>
        <p:spPr>
          <a:xfrm>
            <a:off x="2786040" y="2820960"/>
            <a:ext cx="481680" cy="403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4" name=""/>
          <p:cNvCxnSpPr>
            <a:stCxn id="1217" idx="4"/>
            <a:endCxn id="1218" idx="7"/>
          </p:cNvCxnSpPr>
          <p:nvPr/>
        </p:nvCxnSpPr>
        <p:spPr>
          <a:xfrm flipH="1">
            <a:off x="2309040" y="2820600"/>
            <a:ext cx="477000" cy="397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5" name=""/>
          <p:cNvCxnSpPr>
            <a:stCxn id="1218" idx="4"/>
            <a:endCxn id="1220" idx="7"/>
          </p:cNvCxnSpPr>
          <p:nvPr/>
        </p:nvCxnSpPr>
        <p:spPr>
          <a:xfrm flipH="1">
            <a:off x="1593360" y="3565440"/>
            <a:ext cx="578880" cy="610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6" name=""/>
          <p:cNvCxnSpPr>
            <a:stCxn id="1218" idx="4"/>
            <a:endCxn id="1221" idx="0"/>
          </p:cNvCxnSpPr>
          <p:nvPr/>
        </p:nvCxnSpPr>
        <p:spPr>
          <a:xfrm>
            <a:off x="2171880" y="3565440"/>
            <a:ext cx="614880" cy="5580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grpSp>
        <p:nvGrpSpPr>
          <p:cNvPr id="1237" name=""/>
          <p:cNvGrpSpPr/>
          <p:nvPr/>
        </p:nvGrpSpPr>
        <p:grpSpPr>
          <a:xfrm>
            <a:off x="576360" y="5170320"/>
            <a:ext cx="1506960" cy="1050840"/>
            <a:chOff x="576360" y="5170320"/>
            <a:chExt cx="1506960" cy="1050840"/>
          </a:xfrm>
        </p:grpSpPr>
        <p:sp>
          <p:nvSpPr>
            <p:cNvPr id="1238" name=""/>
            <p:cNvSpPr/>
            <p:nvPr/>
          </p:nvSpPr>
          <p:spPr>
            <a:xfrm>
              <a:off x="589320" y="5668560"/>
              <a:ext cx="247680" cy="2494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6140000">
              <a:off x="667440" y="6035760"/>
              <a:ext cx="88920" cy="1890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6360" y="5235120"/>
              <a:ext cx="271440" cy="2685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40040" y="551160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ceiv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055160" y="58528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040400" y="517032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ourc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5921280" y="4865760"/>
            <a:ext cx="3762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6000" y="4867200"/>
            <a:ext cx="374400" cy="3891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603840" y="2701800"/>
            <a:ext cx="392400" cy="4082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47C-C861-49A0-9805-8F310D0D601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ns [new SessionSim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ead o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torted end-to-end del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loss due to conges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A41-1111-4FAC-B81A-9492509C20D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Footprint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817560" y="1649520"/>
          <a:ext cx="776772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1649520"/>
                    <a:ext cx="77677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"/>
          <p:cNvSpPr/>
          <p:nvPr/>
        </p:nvSpPr>
        <p:spPr>
          <a:xfrm>
            <a:off x="4533480" y="24494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632560" y="3681360"/>
            <a:ext cx="31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233040" y="4365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AE7-1145-4B43-B57C-C8067A36F4D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n Time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56" name=""/>
          <p:cNvGraphicFramePr/>
          <p:nvPr/>
        </p:nvGraphicFramePr>
        <p:xfrm>
          <a:off x="723960" y="1596960"/>
          <a:ext cx="8077320" cy="48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596960"/>
                    <a:ext cx="807732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8" name=""/>
          <p:cNvSpPr/>
          <p:nvPr/>
        </p:nvSpPr>
        <p:spPr>
          <a:xfrm>
            <a:off x="4844880" y="232740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407000" y="2679840"/>
            <a:ext cx="159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entralize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550200" y="3679920"/>
            <a:ext cx="23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0D9B-0C97-4C5A-93C2-F0BB9D6CFC2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Distortion of Centralized Multica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831960" y="1703520"/>
          <a:ext cx="778032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703520"/>
                    <a:ext cx="77803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4" name=""/>
          <p:cNvGrpSpPr/>
          <p:nvPr/>
        </p:nvGrpSpPr>
        <p:grpSpPr>
          <a:xfrm>
            <a:off x="2130480" y="2944800"/>
            <a:ext cx="4646520" cy="973080"/>
            <a:chOff x="2130480" y="2944800"/>
            <a:chExt cx="4646520" cy="973080"/>
          </a:xfrm>
        </p:grpSpPr>
        <p:sp>
          <p:nvSpPr>
            <p:cNvPr id="1265" name=""/>
            <p:cNvSpPr/>
            <p:nvPr/>
          </p:nvSpPr>
          <p:spPr>
            <a:xfrm>
              <a:off x="2130480" y="29448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168720" y="315108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19800" y="3613320"/>
              <a:ext cx="4572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4138560" y="3809880"/>
            <a:ext cx="68580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2349360" y="3797280"/>
            <a:ext cx="3916440" cy="1365120"/>
            <a:chOff x="2349360" y="3797280"/>
            <a:chExt cx="3916440" cy="1365120"/>
          </a:xfrm>
        </p:grpSpPr>
        <p:sp>
          <p:nvSpPr>
            <p:cNvPr id="1270" name=""/>
            <p:cNvSpPr/>
            <p:nvPr/>
          </p:nvSpPr>
          <p:spPr>
            <a:xfrm>
              <a:off x="2349360" y="4857840"/>
              <a:ext cx="4572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808600" y="379728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491-02A2-4FC9-9009-D6DDC2C9088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tortion of 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831960" y="1676520"/>
          <a:ext cx="779436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676520"/>
                    <a:ext cx="779436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89C-D577-4C33-AE63-CBF8AE0712E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otno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y sim still uses too much memory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 want large detailed simulation, e.g., Web traffic patter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ne-tune your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’ll cover it this afterno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7B6-E02A-4493-9A53-C6DE1E38F3E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clObject: Hierarchy and Shadow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939960" y="1801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39960" y="2998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3000" y="4195800"/>
            <a:ext cx="1548000" cy="552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/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987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/TCP OTcl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shadow obj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0" idx="2"/>
            <a:endCxn id="281" idx="0"/>
          </p:cNvCxnSpPr>
          <p:nvPr/>
        </p:nvCxnSpPr>
        <p:spPr>
          <a:xfrm>
            <a:off x="1660320" y="235440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81" idx="2"/>
            <a:endCxn id="282" idx="0"/>
          </p:cNvCxnSpPr>
          <p:nvPr/>
        </p:nvCxnSpPr>
        <p:spPr>
          <a:xfrm flipH="1">
            <a:off x="1647360" y="3551400"/>
            <a:ext cx="136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82" idx="2"/>
            <a:endCxn id="283" idx="0"/>
          </p:cNvCxnSpPr>
          <p:nvPr/>
        </p:nvCxnSpPr>
        <p:spPr>
          <a:xfrm>
            <a:off x="1647720" y="4748040"/>
            <a:ext cx="1015200" cy="578880"/>
          </a:xfrm>
          <a:prstGeom prst="straightConnector1">
            <a:avLst/>
          </a:prstGeom>
          <a:ln w="28440">
            <a:solidFill>
              <a:srgbClr val="40458c"/>
            </a:solidFill>
            <a:prstDash val="dash"/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2864160" y="48816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o12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83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/TCP C++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60280" y="4870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*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3" idx="3"/>
            <a:endCxn id="288" idx="1"/>
          </p:cNvCxnSpPr>
          <p:nvPr/>
        </p:nvCxnSpPr>
        <p:spPr>
          <a:xfrm>
            <a:off x="3724200" y="5697000"/>
            <a:ext cx="1424880" cy="1080"/>
          </a:xfrm>
          <a:prstGeom prst="straightConnector1">
            <a:avLst/>
          </a:prstGeom>
          <a:ln w="284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954840" y="1779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54840" y="2976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00840" y="4173480"/>
            <a:ext cx="1548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1" idx="2"/>
            <a:endCxn id="292" idx="0"/>
          </p:cNvCxnSpPr>
          <p:nvPr/>
        </p:nvCxnSpPr>
        <p:spPr>
          <a:xfrm>
            <a:off x="7675200" y="233208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92" idx="2"/>
            <a:endCxn id="293" idx="0"/>
          </p:cNvCxnSpPr>
          <p:nvPr/>
        </p:nvCxnSpPr>
        <p:spPr>
          <a:xfrm>
            <a:off x="7675200" y="352908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3" idx="2"/>
            <a:endCxn id="288" idx="0"/>
          </p:cNvCxnSpPr>
          <p:nvPr/>
        </p:nvCxnSpPr>
        <p:spPr>
          <a:xfrm flipH="1">
            <a:off x="6211440" y="4725720"/>
            <a:ext cx="1464480" cy="600840"/>
          </a:xfrm>
          <a:prstGeom prst="straightConnector1">
            <a:avLst/>
          </a:prstGeom>
          <a:ln w="28440">
            <a:solidFill>
              <a:srgbClr val="40458c"/>
            </a:solidFill>
            <a:prstDash val="dash"/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2463120" y="1724040"/>
            <a:ext cx="15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 cla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70160" y="1709640"/>
            <a:ext cx="15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 cla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94200" y="1560600"/>
            <a:ext cx="3818160" cy="3360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480" y="1560600"/>
            <a:ext cx="3818160" cy="3360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4F6-D811-48D8-984E-D715753D86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bi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C++ member variables to OTcl object variab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pAgent::Tc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bind(“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window_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”, &amp;wnd_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 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ind_time(), bind_bool(), bind_bw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tcp set window_ 2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1AE-8F6D-442E-9114-2FD09F746E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itialization of Bound Variab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itialization through OTcl class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Agent/TCP set </a:t>
            </a: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window_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 5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all initialization of bound variables in ~ns/lib/ns-default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herwise a warning will be issued when the shadow object is crea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904-4D45-4324-876D-4CBE50C73A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mplementation of Bound Variabl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ass InstV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 object per bound variable –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expensive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VarInt, InstVarReal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d by TclObject::bind(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instance variable in OTcl sta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able trap read/write to OTcl variable using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_TraceVar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nect to C++ variable in the tra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467-2D6D-4F0E-B659-A3E4DF1754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9T06:01:53Z</dcterms:modified>
  <cp:revision>670</cp:revision>
  <dc:subject/>
  <dc:title>ns-2 tutorial for IEC'00 workshop</dc:title>
</cp:coreProperties>
</file>